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6821-26BD-43F2-9E94-9AD6161CC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398D-7788-4C36-BB37-0C28E134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3419-D53C-4D34-833D-CCE33FD51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CBC0-BEB8-423B-82A4-73243DDD5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A987-BF66-4212-99ED-FA7B64CC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551B-B110-4301-91E3-9DEE9E57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32AD-2D48-4481-AB15-BFF4D498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6012-F3A9-4C95-9EA7-74EB0710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52B9-B709-4033-A795-716E6D2F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731E-ABC2-4D5C-8258-A70AC58C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0CFA-805B-4FF2-95CA-94084330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EEE7-AB41-44E8-A134-704F9D9F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22D4-439C-4EB2-88D4-920B16706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17:25:24Z</dcterms:created>
  <dc:creator>Coppari_M</dc:creator>
  <dc:description/>
  <dc:language>en-US</dc:language>
  <cp:lastModifiedBy>Coppari_M</cp:lastModifiedBy>
  <dcterms:modified xsi:type="dcterms:W3CDTF">2011-04-08T17:44:06Z</dcterms:modified>
  <cp:revision>2</cp:revision>
  <dc:subject/>
  <dc:title>Diapositiva 1</dc:title>
</cp:coreProperties>
</file>