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E6D2-8C15-4909-9812-8267FFA3CAB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8ADB-C0E0-4FCD-9FF3-7F6A585E4F7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EDE1-55B4-461E-8887-902134F5E3E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253-E38D-4E08-A4D1-1FA0AFBE6B0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C82E-67CD-4212-9EC8-DC1E7CDEF06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B4C-6F1A-42B9-AA8A-1B0976E2926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2C06-20B7-4B78-AE7F-E766162B3DD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F415-D011-4765-945A-17F6A77C074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AE9C-39A0-468B-A70F-1A8944363A8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C7757-23B6-4EAD-9C87-79ECE71A25C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AA4B-F458-463E-BC2B-ACAEEE0C0B8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00840" cy="3826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4983-D8C6-4AE7-A740-5D15ADDB9EF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4DCBF-8630-4F10-B93B-C02167B41CC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A2F7A-92C2-4943-9B8F-5B83A9BB23C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12E2-1D13-4F27-B5D3-9A4CB598578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3B9-BD6F-4B45-85B9-612BD408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0A3-D8E8-44C9-BCE7-A8888797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443-F09F-4597-9B2C-CE826574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0B2-8C23-4B1C-918E-8FAC4EDE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AC3-36B3-4B37-B3EB-CEE19780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F1F-EA1C-4BA1-B3C6-9CC010C7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D23-CB59-465A-8D02-A8283397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7B9-7012-4C27-BBF4-B57F3CB9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41F-7AB9-42ED-92A2-434B6F83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46E-4190-490A-9E40-D5BB4EF8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097-8155-41E6-BD20-4327E2B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B3C-0048-4605-A011-F7B5EBC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0C0-0C7D-4B2A-AE47-BAC60318B3CB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337-BD0D-4BD5-8AC1-DDA01E72711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324000" y="1268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Calibri"/>
              </a:rPr>
              <a:t>UN REGISTRO DI PROTOCOLLO PER IL FUTUR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2124000" y="5445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Joan Soler i Jimén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Arxiu Històric de Terr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12 april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www.eurolocal-cas.com/wp-content/Aj.Terrassa.jpg"/>
          <p:cNvPicPr/>
          <p:nvPr/>
        </p:nvPicPr>
        <p:blipFill>
          <a:blip r:embed="rId1"/>
          <a:stretch/>
        </p:blipFill>
        <p:spPr>
          <a:xfrm>
            <a:off x="3059280" y="4653000"/>
            <a:ext cx="3186000" cy="61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usuario\AppData\Local\Microsoft\Windows\Temporary Internet Files\Low\Content.IE5\A811TU2M\ip3_team_cat_banner_logo_c[1].png"/>
          <p:cNvPicPr/>
          <p:nvPr/>
        </p:nvPicPr>
        <p:blipFill>
          <a:blip r:embed="rId2"/>
          <a:stretch/>
        </p:blipFill>
        <p:spPr>
          <a:xfrm>
            <a:off x="900000" y="3716280"/>
            <a:ext cx="439272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esaged.com/img/2914-179-0-ESCALA_INF-cat.jpg"/>
          <p:cNvPicPr/>
          <p:nvPr/>
        </p:nvPicPr>
        <p:blipFill>
          <a:blip r:embed="rId3"/>
          <a:stretch/>
        </p:blipFill>
        <p:spPr>
          <a:xfrm>
            <a:off x="5940360" y="3465360"/>
            <a:ext cx="2016360" cy="111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&quot;Un futuro per il presente. Politiche, strategie, strumenti della conservazione digitale”"/>
          <p:cNvPicPr/>
          <p:nvPr/>
        </p:nvPicPr>
        <p:blipFill>
          <a:blip r:embed="rId4"/>
          <a:stretch/>
        </p:blipFill>
        <p:spPr>
          <a:xfrm>
            <a:off x="7740720" y="5373720"/>
            <a:ext cx="115236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D591358-1E56-4C48-BCDF-D65A6C7452E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Problemi tecni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n conformità con l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ey 11/20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iface in una vecchia versione e mancanza di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onoscenza tecn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faccia “poco” amichevol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ecessità tecnologica di conversione di Ora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ftware obsole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A904-8570-4AA8-84EC-CCBD52B562C3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16D-9AA3-4C5A-9EF9-2D0A9B8486E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62CE7EB-2756-4D85-A580-BF336827EA8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Problemi concettua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Temas de registr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= Tipologie di affar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iú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600 codici non archivistici per descrivere l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zioni della protocollazion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crizioni creative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n normalizza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, a volte assurde oppure no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ffettu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ncanza di controllo sui documenti elettronici inoltrat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i cittadi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ilevan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blema di qualità, di accuratezza e di affidabilit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EEF4-4ACB-45B2-8D5F-EB023B7E7735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D39B-ECA7-463A-A5F6-7E90834C777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4D07460-DA2F-4596-817A-2FA818AB4A2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Organizzazi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28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2008-2009: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Inizio dello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tudio sulle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 necessità teoriche del Registro di Protocollo ad iniziativa dell’Archivio (progetto InterPA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2009-2010: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Gruppo di lavoro multidisciplinare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archivisti, sviluppatori informatici, operatori dell’ufficio di protocollo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, avvocati. Inizio dello studio delle necessità pratiche. 10 pers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DE82-C015-4D4E-9AF4-E677172271A5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83B-9F3E-472A-AF39-AA5E3C889D3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Tre risultati prodot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nstrucciones de uso y normativa intern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l RP. (Risoluzione dell’Area di governo, 26 luglio de 201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chema delle relazioni concettuali tra i “temas” di RP e il titolario di classificazione (prima riduzione dei 600 codici, a 488). Soluzione ad un punto cri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8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67E-2B89-492A-AF58-40F4DAD699DC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9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301-1115-4F80-825A-49E354CFE061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47280" cy="4552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179280" y="360360"/>
            <a:ext cx="828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1e1c11"/>
                </a:solidFill>
                <a:latin typeface="Calibri"/>
              </a:rPr>
              <a:t>Totale temi del </a:t>
            </a: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registro: </a:t>
            </a:r>
            <a:r>
              <a:rPr b="1" lang="ca-ES" sz="1800" spc="-1" strike="noStrike">
                <a:solidFill>
                  <a:srgbClr val="376092"/>
                </a:solidFill>
                <a:latin typeface="Calibri"/>
              </a:rPr>
              <a:t>488 temi</a:t>
            </a:r>
            <a:r>
              <a:rPr b="0" lang="ca-ES" sz="1800" spc="-1" strike="noStrike">
                <a:solidFill>
                  <a:srgbClr val="376092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Totale regi</a:t>
            </a:r>
            <a:r>
              <a:rPr b="0" lang="ca-ES" sz="1800" spc="-1" strike="noStrike">
                <a:solidFill>
                  <a:srgbClr val="1e1c11"/>
                </a:solidFill>
                <a:latin typeface="Calibri"/>
              </a:rPr>
              <a:t>strazioni </a:t>
            </a: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’ingresso (2008-2010): </a:t>
            </a:r>
            <a:r>
              <a:rPr b="1" lang="ca-ES" sz="1800" spc="-1" strike="noStrike">
                <a:solidFill>
                  <a:srgbClr val="376092"/>
                </a:solidFill>
                <a:latin typeface="Calibri"/>
              </a:rPr>
              <a:t>248.620 registrazioni.</a:t>
            </a:r>
            <a:r>
              <a:rPr b="0" lang="ca-ES" sz="1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Totale regis</a:t>
            </a:r>
            <a:r>
              <a:rPr b="0" lang="ca-ES" sz="1800" spc="-1" strike="noStrike">
                <a:solidFill>
                  <a:srgbClr val="1e1c11"/>
                </a:solidFill>
                <a:latin typeface="Calibri"/>
              </a:rPr>
              <a:t>trazioni </a:t>
            </a: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’ingresso (2008-2010) senza tema: </a:t>
            </a:r>
            <a:r>
              <a:rPr b="1" lang="ca-ES" sz="1800" spc="-1" strike="noStrike">
                <a:solidFill>
                  <a:srgbClr val="376092"/>
                </a:solidFill>
                <a:latin typeface="Calibri"/>
              </a:rPr>
              <a:t>13.594 registrazioni.</a:t>
            </a:r>
            <a:r>
              <a:rPr b="0" lang="ca-ES" sz="1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Totale </a:t>
            </a:r>
            <a:r>
              <a:rPr b="0" lang="ca-ES" sz="1800" spc="-1" strike="noStrike">
                <a:solidFill>
                  <a:srgbClr val="1e1c11"/>
                </a:solidFill>
                <a:latin typeface="Calibri"/>
              </a:rPr>
              <a:t>registrazioni d</a:t>
            </a: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’uscita (2008-2010): </a:t>
            </a:r>
            <a:r>
              <a:rPr b="1" lang="ca-ES" sz="1800" spc="-1" strike="noStrike">
                <a:solidFill>
                  <a:srgbClr val="376092"/>
                </a:solidFill>
                <a:latin typeface="Calibri"/>
              </a:rPr>
              <a:t>194.502 registrazioni.</a:t>
            </a:r>
            <a:r>
              <a:rPr b="0" lang="ca-ES" sz="1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Totale regist</a:t>
            </a:r>
            <a:r>
              <a:rPr b="0" lang="ca-ES" sz="1800" spc="-1" strike="noStrike">
                <a:solidFill>
                  <a:srgbClr val="1e1c11"/>
                </a:solidFill>
                <a:latin typeface="Calibri"/>
              </a:rPr>
              <a:t>razioni </a:t>
            </a: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’uscita (2008-2010) senza tema: </a:t>
            </a:r>
            <a:r>
              <a:rPr b="1" lang="ca-ES" sz="1800" spc="-1" strike="noStrike">
                <a:solidFill>
                  <a:srgbClr val="376092"/>
                </a:solidFill>
                <a:latin typeface="Calibri"/>
              </a:rPr>
              <a:t>59.261 registrazioni.</a:t>
            </a:r>
            <a:r>
              <a:rPr b="0" lang="ca-ES" sz="1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rcRect l="4315" t="19774" r="29967" b="15187"/>
          <a:stretch/>
        </p:blipFill>
        <p:spPr>
          <a:xfrm>
            <a:off x="82440" y="115920"/>
            <a:ext cx="891720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Tre risultati prodot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3. Requisiti funzionali per </a:t>
            </a:r>
            <a:r>
              <a:rPr b="1" lang="ca-ES" sz="3200" spc="-1" strike="noStrike">
                <a:solidFill>
                  <a:srgbClr val="c0504d"/>
                </a:solidFill>
                <a:latin typeface="Calibri"/>
              </a:rPr>
              <a:t>migliorare applicazione attuale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oppure per una nuova 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pl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cazione di R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206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Tracciato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di acquisizione dei d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206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Digitalizzazione e certificazione della documentazione present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206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Controllo delle proprietà essenziali: schema di metad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206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quisiti tecn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206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Conservazione a lungo term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2163-25A4-4442-8902-C13EA35A0A1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EB9-C43F-4A45-830C-14A902B5A832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179280" y="38160"/>
            <a:ext cx="8460000" cy="3741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738360" y="3959280"/>
            <a:ext cx="8261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I dati della registrazione di protocollo in ingre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ey 30/1992, art.3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cret Generalitat 360/1994, art.5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P.R. 445/2000 (legislazione italia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URANTI, Luciana (1997). 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I documenti archivistici. La gestione dell’archivio da parte dell’ente produtt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ROFALO, Lucilla; GIUVA, Linda (2005).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talian Government Digital Protocol Initiativ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0F6C-019A-4890-93C6-4702579F27EA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DD6C-9460-441F-8A70-E946641FE410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I OBBLIGATORI </a:t>
                      </a:r>
                      <a:r>
                        <a:rPr b="1" lang="es-E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Rosso: imperativo leg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umero di protoc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ata, ora e luogo di protocollazione (anche la data di present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Oggetto del docu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Mittente (o rappresentante legale dal mittente) per il documento ricevuto; Destinatario per il documento in usc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zione del responsabile (ufficio/persona) del procedimento amministrativo </a:t>
                      </a:r>
                      <a:r>
                        <a:rPr b="1" lang="es-ES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no si identifica ancora il fascicolo di appartenenza, compito di questo risponsab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zione dei documenti inoltr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zo di sped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5 Marcador de contenido" descr="ayuntamiento-de-terrassa.jpg"/>
          <p:cNvPicPr/>
          <p:nvPr/>
        </p:nvPicPr>
        <p:blipFill>
          <a:blip r:embed="rId1"/>
          <a:stretch/>
        </p:blipFill>
        <p:spPr>
          <a:xfrm>
            <a:off x="179280" y="98280"/>
            <a:ext cx="879336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Implementazi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Ottobre-Dicembre 2010: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mplementazione delle modifiche ai “temas de registro” e uso del titolario di classificazione nel R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Dicembre 2010: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rmazione a più di 600 lavoratori del Comune di Terrassa per presentare le novit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Gennaio 2011: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ttivazione reale delle modifiche concettuali, non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di quelle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ecniche. Pian piano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D55B-2816-489A-B9DA-1D740C7D455D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5977-3DD5-4E0F-B2E4-E99762B1D79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1e1c11"/>
                </a:solidFill>
                <a:latin typeface="Calibri"/>
              </a:rPr>
              <a:t>Strategie di conservazione per il futur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&quot;Un futuro per il presente. Politiche, strategie, strumenti della conservazione digitale”"/>
          <p:cNvPicPr/>
          <p:nvPr/>
        </p:nvPicPr>
        <p:blipFill>
          <a:blip r:embed="rId1"/>
          <a:stretch/>
        </p:blipFill>
        <p:spPr>
          <a:xfrm>
            <a:off x="3564000" y="3573360"/>
            <a:ext cx="1728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a452a"/>
                </a:solidFill>
                <a:latin typeface="Calibri"/>
              </a:rPr>
              <a:t>“</a:t>
            </a:r>
            <a:r>
              <a:rPr b="1" lang="es-ES" sz="4400" spc="-1" strike="noStrike">
                <a:solidFill>
                  <a:srgbClr val="4a452a"/>
                </a:solidFill>
                <a:latin typeface="Calibri"/>
              </a:rPr>
              <a:t>Preservazion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ma di pensare nel futur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gliorare la qualità e l’accuratezza del prodotto “Registro di protocollo” dal momento della sua produzi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uratezza + Classificazione = Più Affidabilit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858-ADFB-4CCA-B8A8-BA0136B6251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A730-EDB9-4503-8F70-5171DC0D2AE0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a452a"/>
                </a:solidFill>
                <a:latin typeface="Calibri"/>
              </a:rPr>
              <a:t>Prima scelta … imperfet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28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al 2006 al 2010: un documento PDF annuale con tutte le registrazio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nza firma digi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dura in spazio controllato e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workflow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validato dal segretario, amministratore di sistem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 archiv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cumento in PDF di più de 800 pag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nza OC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utte le registrazioni,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 incompl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D1D-0C5E-45F9-8DDE-601F1844380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FF99-37C7-4524-80D2-6BE307FCE971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414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979640" y="2879640"/>
            <a:ext cx="717696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a452a"/>
                </a:solidFill>
                <a:latin typeface="Calibri"/>
              </a:rPr>
              <a:t>Emul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gistro di Protocollo come “documento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plicazione informa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luzione costo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servazione di tutte le funzionalit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 stiamo lavorando, ma non per il RP (applicazioni di gestione econom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1261-0FC0-4E46-926C-38B7FB1D665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5F67-406C-4E1B-9F3C-F58A6687A11A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a452a"/>
                </a:solidFill>
                <a:latin typeface="Calibri"/>
              </a:rPr>
              <a:t>Migr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gistro di Protocollo come “dat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luzione meno costo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rdita di funzionalità origin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ssibilità di una nuova applicazione informatica con più e nuove funzionalit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A7A8-BA22-4A64-A184-8039A197961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B54-2C7E-486F-9025-621BDE4B8786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a452a"/>
                </a:solidFill>
                <a:latin typeface="Calibri"/>
              </a:rPr>
              <a:t>Incapsula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gistro di protocollo per intero: DBM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gistrazioni in forma di oggetto digitale, ognuna è un documento: XM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luzione comples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erdita di funzionalità original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rse, ogni registrazione coll’oggetto digitale (fascicolo) dove appartie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si pensa tanto nella conservazione, bensì nell’interoperabilit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0290-81AB-4AFE-86E0-A3689EE7788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C7E0-1721-4C38-86B8-9A65095CDD01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e1c11"/>
                </a:solidFill>
                <a:latin typeface="Calibri"/>
              </a:rPr>
              <a:t>Incapsulamen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9C4D-D7F4-4AEE-B138-1ED852C91E7A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2A5F-3D3C-4136-A764-3B83DEAFC3C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6 Marcador de contenido" descr=""/>
          <p:cNvPicPr/>
          <p:nvPr/>
        </p:nvPicPr>
        <p:blipFill>
          <a:blip r:embed="rId1"/>
          <a:stretch/>
        </p:blipFill>
        <p:spPr>
          <a:xfrm>
            <a:off x="407880" y="1579680"/>
            <a:ext cx="4140360" cy="4619520"/>
          </a:xfrm>
          <a:prstGeom prst="rect">
            <a:avLst/>
          </a:prstGeom>
          <a:ln w="0">
            <a:noFill/>
          </a:ln>
        </p:spPr>
      </p:pic>
      <p:pic>
        <p:nvPicPr>
          <p:cNvPr id="172" name="8 Marcador de contenido" descr=""/>
          <p:cNvPicPr/>
          <p:nvPr/>
        </p:nvPicPr>
        <p:blipFill>
          <a:blip r:embed="rId2"/>
          <a:stretch/>
        </p:blipFill>
        <p:spPr>
          <a:xfrm>
            <a:off x="4602240" y="1579680"/>
            <a:ext cx="41338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16B8-A6B8-4A8D-9284-C9C08E69DEF4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6BD8-1D82-4CE3-9F17-D6AD499C40F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9 Marcador de contenido" descr="2472-DSCF07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6 CuadroTexto"/>
          <p:cNvSpPr/>
          <p:nvPr/>
        </p:nvSpPr>
        <p:spPr>
          <a:xfrm>
            <a:off x="0" y="5589720"/>
            <a:ext cx="65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joan.soler@terrassa.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50FB89C-579C-468E-AC78-546D9D4D59D1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f6228"/>
                </a:solidFill>
                <a:latin typeface="Calibri"/>
              </a:rPr>
              <a:t>Un problema leg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28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Spagnol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- Ley 30/19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- Ley de propiedad intelectual de las bases de datos (2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- Ley 11/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- Esquema Nacional de Interoperabilidad (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tala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- Decret 160/19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 algn="just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- Decret 56/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BA50-67E6-47D0-BBB5-AC762CACF69D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B63A-43D6-4461-8B7B-17DF6D2384DE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10 Rectángulo" descr=""/>
          <p:cNvPicPr/>
          <p:nvPr/>
        </p:nvPicPr>
        <p:blipFill>
          <a:blip r:embed="rId1"/>
          <a:stretch/>
        </p:blipFill>
        <p:spPr>
          <a:xfrm>
            <a:off x="1852560" y="1195560"/>
            <a:ext cx="5670720" cy="41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3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1859c"/>
                </a:solidFill>
                <a:latin typeface="Calibri"/>
              </a:rPr>
              <a:t>Dove sono i docum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:\Users\usuario\AppData\Local\Microsoft\Windows\Temporary Internet Files\Low\Content.IE5\A811TU2M\ip3_team_cat_banner_logo_c[1].png"/>
          <p:cNvPicPr/>
          <p:nvPr/>
        </p:nvPicPr>
        <p:blipFill>
          <a:blip r:embed="rId1"/>
          <a:stretch/>
        </p:blipFill>
        <p:spPr>
          <a:xfrm>
            <a:off x="1908000" y="3789360"/>
            <a:ext cx="489600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1859c"/>
                </a:solidFill>
                <a:latin typeface="Calibri"/>
              </a:rPr>
              <a:t>RP come documen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1859c"/>
                </a:solidFill>
                <a:latin typeface="Calibri"/>
              </a:rPr>
              <a:t>RP = Docum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tità dinamica e interatti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ità documentale compo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posta da registr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avola di relazio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CC81-0381-4454-85E0-ACF3EE21909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6 Marcador de contenido" descr=""/>
          <p:cNvPicPr/>
          <p:nvPr/>
        </p:nvPicPr>
        <p:blipFill>
          <a:blip r:embed="rId1"/>
          <a:stretch/>
        </p:blipFill>
        <p:spPr>
          <a:xfrm>
            <a:off x="4602240" y="1579680"/>
            <a:ext cx="4133880" cy="4619520"/>
          </a:xfrm>
          <a:prstGeom prst="rect">
            <a:avLst/>
          </a:prstGeom>
          <a:ln w="0">
            <a:noFill/>
          </a:ln>
        </p:spPr>
      </p:pic>
      <p:sp>
        <p:nvSpPr>
          <p:cNvPr id="70" name="9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5A3-0967-4995-8DD9-384CE56A50D5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1859c"/>
                </a:solidFill>
                <a:latin typeface="Calibri"/>
              </a:rPr>
              <a:t>Registrazioni come documen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1859c"/>
                </a:solidFill>
                <a:latin typeface="Calibri"/>
              </a:rPr>
              <a:t>Ogni registra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ecord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in fier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nifestazione volontà = servizio = RP come docum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nifestazione volontà = azione documentata = registro come docu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icevuta per il cittad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8 Marcador de contenido" descr=""/>
          <p:cNvPicPr/>
          <p:nvPr/>
        </p:nvPicPr>
        <p:blipFill>
          <a:blip r:embed="rId1"/>
          <a:stretch/>
        </p:blipFill>
        <p:spPr>
          <a:xfrm>
            <a:off x="4602240" y="1579680"/>
            <a:ext cx="4133880" cy="4619520"/>
          </a:xfrm>
          <a:prstGeom prst="rect">
            <a:avLst/>
          </a:prstGeom>
          <a:ln w="0">
            <a:noFill/>
          </a:ln>
        </p:spPr>
      </p:pic>
      <p:sp>
        <p:nvSpPr>
          <p:cNvPr id="7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83F9-1E97-4389-A499-A6AEC273AAB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5BB-B53A-4774-AE9F-A5C089948914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1859c"/>
                </a:solidFill>
                <a:latin typeface="Calibri"/>
              </a:rPr>
              <a:t>Documenti presenta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cumenti presentati (dai cittadin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n sono documenti propri dell’Amministrazione che regis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cumenti strumentali, probatori, dispositiv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cumenti originali oppure in copia autentic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cumenti che vengono confrontati e certificati dall’Amministrazi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3152"/>
                </a:solidFill>
                <a:latin typeface="Calibri"/>
              </a:rPr>
              <a:t>Documenti che appartengono al fascicolo che inizia in Registro, e non sempre devono essere conserva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D30-2A81-499D-9224-8BDFDFF639DE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B3A9-01EC-401D-9F07-A9183308FBBB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17375e"/>
                </a:solidFill>
                <a:latin typeface="Calibri"/>
              </a:rPr>
              <a:t>Il caso di studio di Ter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www.eurolocal-cas.com/wp-content/Aj.Terrassa.jpg"/>
          <p:cNvPicPr/>
          <p:nvPr/>
        </p:nvPicPr>
        <p:blipFill>
          <a:blip r:embed="rId1"/>
          <a:stretch/>
        </p:blipFill>
        <p:spPr>
          <a:xfrm>
            <a:off x="2124000" y="3933720"/>
            <a:ext cx="449424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673AE06-CDAB-46A3-98FF-1D3227635C6C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7375e"/>
                </a:solidFill>
                <a:latin typeface="Calibri"/>
              </a:rPr>
              <a:t>Caratteristiche RP di Terras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zione informatica dal 19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se dati nel linguaggio Uni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faccia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Unifa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vole di relazioni di Ora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ue tracciati principali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Ingresso e Usci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duzione 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viluppo i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prop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che modifiche tra il 2003 ed il 20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41C7-0A30-477E-AC8D-272B641EF755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TEAM Catalonia - InterPARES 3 - Preservazione del Registro di Protoc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B89-75B7-43A4-A4AC-7F94309FC44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10:37:13Z</dcterms:created>
  <dc:creator>Joan Soler</dc:creator>
  <dc:description/>
  <dc:language>en-US</dc:language>
  <cp:lastModifiedBy>Joan Soler Jiménez</cp:lastModifiedBy>
  <dcterms:modified xsi:type="dcterms:W3CDTF">2011-04-10T09:00:44Z</dcterms:modified>
  <cp:revision>649</cp:revision>
  <dc:subject/>
  <dc:title>Diplomàtica del Registre General</dc:title>
</cp:coreProperties>
</file>