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2A016-D4D7-4EFF-8263-78313ED3B9BF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1F707-D0B2-40A5-A317-EBDC273A3865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476EA-40E9-446E-8BD1-C8BC6C7F09AA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45A0-9E0B-49E8-BF79-580C12814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5FE3-7642-4E92-AAF4-89D17DCC1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7B7B-9316-4469-B585-06CCA6DC7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C1AF-EF8C-4E31-B57C-5DCA918D1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75EA4-FBF1-4845-B256-27F0DEEBD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82AC3-C6D3-4541-AC92-9568FA54D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79F84-CC7A-478D-80BE-788D1C996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DC415-C7A1-4E45-B5B0-A401A3A43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E4061-2ED8-4ED6-9149-498CDA892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FCE44-704D-4840-9D63-A09832D52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14610-5D7E-4D35-B336-4083190E3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81F5-972C-4C4B-A78F-9631145F7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52375-26E9-4545-9F2F-D6F1C6D29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09C01-DA34-4E86-8D18-E937F8DE1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3BC17-CFCF-416F-933C-32FFD3D85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21617-4E65-4E20-82CE-7A9429435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197DA-56FC-490D-8E0F-F1D875EAC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4AED50-B095-4DD4-84E2-7EDDA11E5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EDCE7C-ECBE-4D22-A5F5-C4354C2A5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551954-2F6D-464C-B05A-429BF8DDC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066EA9-0D7B-4BCA-8879-A52EA304E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08E1BE-55D7-481A-9F30-24EF9CF61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0819-19F0-40E4-9615-46FD799E6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BF3205-C00C-4BAC-8FE1-0F3A91022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C394E1-9007-449D-A418-E91480B7E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45DE13-7834-49F7-B6ED-29185D0E4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014A8C-5283-4757-9C90-89C971DF7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7F2829-BFF0-4F7B-8959-0AC7BAC41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006832-506D-4A64-82D1-85BDB23AD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78A7A1-82E6-429A-B3B8-47FC6B81D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D76C27-E596-4E58-8776-851328A43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A87FC7-38E2-4BB8-8307-2780442E7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6EAF0E-2637-418C-8A48-A05D8B593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EE67-1668-4AF6-B123-D07435A33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5204DE-4051-445D-AC4E-BD4A998A0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87126E-DEAD-41B7-86A3-3D8A18C1C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9D01B9-DDDF-4EF0-B179-698D279DE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6279A6-7946-4B03-AA8E-36F3B0592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D2D130-6366-458B-A0B0-0F03275BD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06E3E0-0E0A-4EEF-98D7-CE18EFA6D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F28652-0D3B-4382-A111-4F18CF606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19DC12-7C93-4B31-B68B-774FAA767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C7ED83-54B6-43E3-8478-3EBEDA7C2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F4B232-ADC7-4376-BDD3-FCDDC8798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BEBD-812B-414F-A609-4542C01F2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53831C-1F3C-48C1-8C34-7809B5F7B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F9828E-3959-47FE-B589-76DE7AF9A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2560AC-5D5B-4523-A2D2-2382713CB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C272AE-61D1-45DA-A9BD-D63535732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DDDBCE-7DE0-42DB-BC16-F788D4342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3BFFF6-3BB3-4FFC-A681-5D76F9E43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AB195F-84A4-44D7-A3C4-EA952C9A0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7C1697-6303-45F0-8D83-7F5259492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86C300-545F-46DD-8028-D92A8C2C4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104982-27C0-4CE4-9194-B791E8C8A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D353-24AA-4D6C-AADD-15CC46C4C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5D66B5-BDD3-426D-AA58-CEAE5477A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AEAB-2C4C-40F0-BCAE-F50CF58F2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2BB2-FD90-4BA1-8331-00079EE5D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0F1A-0C01-46B7-95F9-A3A9F7507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64088-9125-4426-808E-783C50F31202}" type="slidenum"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\\srvfile01\progetti\RER\sitoParER\Convegno ParER\Grafica\Immagine\Sfondo-per-ppt.jpg"/>
          <p:cNvPicPr/>
          <p:nvPr/>
        </p:nvPicPr>
        <p:blipFill>
          <a:blip r:embed="rId2"/>
          <a:stretch/>
        </p:blipFill>
        <p:spPr>
          <a:xfrm>
            <a:off x="0" y="-9360"/>
            <a:ext cx="9153360" cy="6867360"/>
          </a:xfrm>
          <a:prstGeom prst="rect">
            <a:avLst/>
          </a:prstGeom>
          <a:ln w="0">
            <a:noFill/>
          </a:ln>
        </p:spPr>
      </p:pic>
      <p:sp>
        <p:nvSpPr>
          <p:cNvPr id="42" name="Rettangolo 10"/>
          <p:cNvSpPr/>
          <p:nvPr/>
        </p:nvSpPr>
        <p:spPr>
          <a:xfrm>
            <a:off x="-3240" y="3500280"/>
            <a:ext cx="9217080" cy="3411720"/>
          </a:xfrm>
          <a:prstGeom prst="rect">
            <a:avLst/>
          </a:prstGeom>
          <a:solidFill>
            <a:srgbClr val="26326d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ttangolo 6"/>
          <p:cNvSpPr/>
          <p:nvPr/>
        </p:nvSpPr>
        <p:spPr>
          <a:xfrm>
            <a:off x="0" y="-27000"/>
            <a:ext cx="9194760" cy="1295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369CE-12F2-4C8C-BEC7-E4121C223398}" type="slidenum"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\\srvfile01\progetti\RER\sitoParER\Convegno ParER\Grafica\Immagine\Sfondo-per-ppt.jpg"/>
          <p:cNvPicPr/>
          <p:nvPr/>
        </p:nvPicPr>
        <p:blipFill>
          <a:blip r:embed="rId2"/>
          <a:stretch/>
        </p:blipFill>
        <p:spPr>
          <a:xfrm>
            <a:off x="0" y="-9360"/>
            <a:ext cx="9153360" cy="6867360"/>
          </a:xfrm>
          <a:prstGeom prst="rect">
            <a:avLst/>
          </a:prstGeom>
          <a:ln w="0">
            <a:noFill/>
          </a:ln>
        </p:spPr>
      </p:pic>
      <p:sp>
        <p:nvSpPr>
          <p:cNvPr id="86" name="Rettangolo 6"/>
          <p:cNvSpPr/>
          <p:nvPr/>
        </p:nvSpPr>
        <p:spPr>
          <a:xfrm>
            <a:off x="468360" y="1241280"/>
            <a:ext cx="8712000" cy="561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ttangolo 8"/>
          <p:cNvSpPr/>
          <p:nvPr/>
        </p:nvSpPr>
        <p:spPr>
          <a:xfrm>
            <a:off x="0" y="-17640"/>
            <a:ext cx="9194760" cy="12956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A539B-E141-43FF-A919-641F9FE00EC8}" type="slidenum"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\\srvfile01\progetti\RER\sitoParER\Convegno ParER\Grafica\Immagine\Sfondo-per-ppt.jpg"/>
          <p:cNvPicPr/>
          <p:nvPr/>
        </p:nvPicPr>
        <p:blipFill>
          <a:blip r:embed="rId2"/>
          <a:stretch/>
        </p:blipFill>
        <p:spPr>
          <a:xfrm>
            <a:off x="0" y="-9360"/>
            <a:ext cx="9153360" cy="6867360"/>
          </a:xfrm>
          <a:prstGeom prst="rect">
            <a:avLst/>
          </a:prstGeom>
          <a:ln w="0">
            <a:noFill/>
          </a:ln>
        </p:spPr>
      </p:pic>
      <p:sp>
        <p:nvSpPr>
          <p:cNvPr id="130" name="Rettangolo 6"/>
          <p:cNvSpPr/>
          <p:nvPr/>
        </p:nvSpPr>
        <p:spPr>
          <a:xfrm>
            <a:off x="0" y="1484280"/>
            <a:ext cx="9180360" cy="475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ttangolo 7"/>
          <p:cNvSpPr/>
          <p:nvPr/>
        </p:nvSpPr>
        <p:spPr>
          <a:xfrm>
            <a:off x="-36360" y="-27000"/>
            <a:ext cx="9216720" cy="1511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1B142-7CD3-4344-9190-FE41AE2A0598}" type="slidenum"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\\srvfile01\progetti\RER\sitoParER\Convegno ParER\Grafica\Immagine\Sfondo-per-ppt.jpg"/>
          <p:cNvPicPr/>
          <p:nvPr/>
        </p:nvPicPr>
        <p:blipFill>
          <a:blip r:embed="rId2"/>
          <a:stretch/>
        </p:blipFill>
        <p:spPr>
          <a:xfrm>
            <a:off x="0" y="-9360"/>
            <a:ext cx="9153360" cy="6867360"/>
          </a:xfrm>
          <a:prstGeom prst="rect">
            <a:avLst/>
          </a:prstGeom>
          <a:ln w="0">
            <a:noFill/>
          </a:ln>
        </p:spPr>
      </p:pic>
      <p:sp>
        <p:nvSpPr>
          <p:cNvPr id="174" name="Rettangolo 6"/>
          <p:cNvSpPr/>
          <p:nvPr/>
        </p:nvSpPr>
        <p:spPr>
          <a:xfrm>
            <a:off x="0" y="-27000"/>
            <a:ext cx="7093080" cy="626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ttangolo 7"/>
          <p:cNvSpPr/>
          <p:nvPr/>
        </p:nvSpPr>
        <p:spPr>
          <a:xfrm>
            <a:off x="6516720" y="-27000"/>
            <a:ext cx="2663640" cy="626436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A42A0-2697-47A6-B40D-71C6F96738F0}" type="slidenum"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ttangolo 5"/>
          <p:cNvSpPr/>
          <p:nvPr/>
        </p:nvSpPr>
        <p:spPr>
          <a:xfrm>
            <a:off x="1336680" y="3997440"/>
            <a:ext cx="77533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ffff"/>
                </a:solidFill>
                <a:latin typeface="Calibri"/>
              </a:rPr>
              <a:t>PAR LIGURI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ff"/>
                </a:solidFill>
                <a:latin typeface="Calibri"/>
              </a:rPr>
              <a:t>Il Polo archivistico della Regione Ligur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CasellaDiTesto 6"/>
          <p:cNvSpPr/>
          <p:nvPr/>
        </p:nvSpPr>
        <p:spPr>
          <a:xfrm>
            <a:off x="39600" y="5772240"/>
            <a:ext cx="35672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alibri"/>
              </a:rPr>
              <a:t>Corrado T. Confalonier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Datasiel spa – Regione Ligu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itolo 1"/>
          <p:cNvSpPr/>
          <p:nvPr/>
        </p:nvSpPr>
        <p:spPr>
          <a:xfrm>
            <a:off x="358920" y="0"/>
            <a:ext cx="8785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ff"/>
                </a:solidFill>
                <a:latin typeface="Calibri"/>
              </a:rPr>
              <a:t>UN FUTURO PER IL PRESENTE</a:t>
            </a:r>
            <a:br>
              <a:rPr sz="3600"/>
            </a:br>
            <a:r>
              <a:rPr b="1" lang="it-IT" sz="2000" spc="-1" strike="noStrike">
                <a:solidFill>
                  <a:srgbClr val="ffffff"/>
                </a:solidFill>
                <a:latin typeface="Calibri"/>
              </a:rPr>
              <a:t>POLITICHE STRATEGIE E STRUMENTI DELLA CONSERVAZIONE DIGIT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Immagine 3" descr="Stemma_Liguria.gif"/>
          <p:cNvPicPr/>
          <p:nvPr/>
        </p:nvPicPr>
        <p:blipFill>
          <a:blip r:embed="rId1"/>
          <a:srcRect l="17460" t="14740" r="26379" b="26139"/>
          <a:stretch/>
        </p:blipFill>
        <p:spPr>
          <a:xfrm>
            <a:off x="231840" y="4192560"/>
            <a:ext cx="92880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835200" y="1549440"/>
            <a:ext cx="810576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-228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ff0000"/>
                </a:solidFill>
                <a:uFillTx/>
                <a:latin typeface="Arial"/>
              </a:rPr>
              <a:t>I servizi del Polo archivis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l nucleo principale dei servizi offerti da PAR Liguria riguarda la conservazione dei documenti digital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resa in carico e conservazione a norma dei singoli documenti informatic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onservazione a lungo termine attraverso la presa in carico e l'archiviazione dei fascicoli chiusi dagli enti, nel rispetto dei piani di conservazion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onsulenza e assistenza, supporto e formazione in materia di gestione documentale, con particolare riferimento alla gestione dei documenti informatic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egnaposto piè di pagina 8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1" descr=""/>
          <p:cNvPicPr/>
          <p:nvPr/>
        </p:nvPicPr>
        <p:blipFill>
          <a:blip r:embed="rId1"/>
          <a:srcRect l="0" t="0" r="76527" b="0"/>
          <a:stretch/>
        </p:blipFill>
        <p:spPr>
          <a:xfrm>
            <a:off x="484200" y="6248520"/>
            <a:ext cx="504720" cy="493560"/>
          </a:xfrm>
          <a:prstGeom prst="rect">
            <a:avLst/>
          </a:prstGeom>
          <a:ln w="0">
            <a:noFill/>
          </a:ln>
        </p:spPr>
      </p:pic>
      <p:sp>
        <p:nvSpPr>
          <p:cNvPr id="276" name="Segnaposto data 7"/>
          <p:cNvSpPr/>
          <p:nvPr/>
        </p:nvSpPr>
        <p:spPr>
          <a:xfrm>
            <a:off x="468360" y="6265800"/>
            <a:ext cx="803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3E995-B044-4F38-9FB5-B7008A1A040C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88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PAR LIGURIA</a:t>
            </a:r>
            <a:br>
              <a:rPr sz="2800"/>
            </a:b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Il Polo archivistico della Regione Ligu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744480" y="1401480"/>
            <a:ext cx="8072640" cy="51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ff0000"/>
                </a:solidFill>
                <a:uFillTx/>
                <a:latin typeface="Arial"/>
              </a:rPr>
              <a:t>Gli Enti “interni” produttori nella fase inizi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271440"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Regione Liguria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31800" indent="-350640" algn="just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vviamento dei primi flussi amministrativi dematerializzati entro metà 2011 (flussi in entrata e in uscita attraverso il protocollo, sperimentazione del conferimento da porta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271440" algn="just"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Enti SIIR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31800" indent="-350640" algn="just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vviamento sperimentale del conferimento di un flusso sanitario da ASL a partire la settembre 2011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31800" indent="-350640" algn="just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onferimento federato dei flussi di protocollo da parte degli Enti SIIR, entro fine 2011 – metà 201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31800" indent="-350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egnaposto piè di pagina 8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1" descr=""/>
          <p:cNvPicPr/>
          <p:nvPr/>
        </p:nvPicPr>
        <p:blipFill>
          <a:blip r:embed="rId1"/>
          <a:srcRect l="0" t="0" r="76527" b="0"/>
          <a:stretch/>
        </p:blipFill>
        <p:spPr>
          <a:xfrm>
            <a:off x="484200" y="6248520"/>
            <a:ext cx="504720" cy="493560"/>
          </a:xfrm>
          <a:prstGeom prst="rect">
            <a:avLst/>
          </a:prstGeom>
          <a:ln w="0">
            <a:noFill/>
          </a:ln>
        </p:spPr>
      </p:pic>
      <p:sp>
        <p:nvSpPr>
          <p:cNvPr id="281" name="Segnaposto data 7"/>
          <p:cNvSpPr/>
          <p:nvPr/>
        </p:nvSpPr>
        <p:spPr>
          <a:xfrm>
            <a:off x="465120" y="6253200"/>
            <a:ext cx="803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3757A-FCDC-45FA-B421-2C0975AD399B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888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PAR LIGURIA</a:t>
            </a:r>
            <a:br>
              <a:rPr sz="2800"/>
            </a:b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Il Polo archivistico della Regione Ligu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761760" y="1491840"/>
            <a:ext cx="8135640" cy="43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ff0000"/>
                </a:solidFill>
                <a:uFillTx/>
                <a:latin typeface="Arial"/>
              </a:rPr>
              <a:t>Gli Enti “esterni” produttori nella fase inizi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439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Enti CS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50720" indent="-43956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vviamento sperimentale del sistema federato esterno presso alcuni Comuni aderenti a partire dalla seconda metà del 2011, trami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50720" indent="-4395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onferimento manuale da portale (documenti singoli o in piccola partit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50720" indent="-439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ntegrazione da PAC Manager, per conferimento semiautomat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50720" indent="-439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Segnaposto piè di pagina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1" descr=""/>
          <p:cNvPicPr/>
          <p:nvPr/>
        </p:nvPicPr>
        <p:blipFill>
          <a:blip r:embed="rId1"/>
          <a:srcRect l="0" t="0" r="76527" b="0"/>
          <a:stretch/>
        </p:blipFill>
        <p:spPr>
          <a:xfrm>
            <a:off x="484200" y="6248520"/>
            <a:ext cx="504720" cy="493560"/>
          </a:xfrm>
          <a:prstGeom prst="rect">
            <a:avLst/>
          </a:prstGeom>
          <a:ln w="0">
            <a:noFill/>
          </a:ln>
        </p:spPr>
      </p:pic>
      <p:sp>
        <p:nvSpPr>
          <p:cNvPr id="286" name="Segnaposto data 7"/>
          <p:cNvSpPr/>
          <p:nvPr/>
        </p:nvSpPr>
        <p:spPr>
          <a:xfrm>
            <a:off x="465120" y="6280200"/>
            <a:ext cx="803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66AD8-145B-41AE-9980-AFF7F21AC54C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888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PAR LIGURIA</a:t>
            </a:r>
            <a:br>
              <a:rPr sz="2800"/>
            </a:b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Il Polo archivistico della Regione Ligu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750600" y="1492200"/>
            <a:ext cx="8156520" cy="48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ff0000"/>
                </a:solidFill>
                <a:uFillTx/>
                <a:latin typeface="Arial"/>
              </a:rPr>
              <a:t>Gli obiettivi  programmatici prop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361800"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Tutti gli Enti SIIR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omunicheranno obbligatoriamente, nel 2012, attraverso documenti informatici (qualità all’origi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361800"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Tutti i procedimenti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attivabili da cittadini, professionisti e imprese digitalmente saranno resi disponibili da tutti gli Enti SIIR entro in 2012 (attuazione del CAD e degli artt. 16 e 16bis della Legge 28 gennaio 2009, n. 2)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3618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Il CST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diventa il riferimento per le PA liguri sulla materia della produzione e conservazione document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Segnaposto piè di pagina 8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1" descr=""/>
          <p:cNvPicPr/>
          <p:nvPr/>
        </p:nvPicPr>
        <p:blipFill>
          <a:blip r:embed="rId1"/>
          <a:srcRect l="0" t="0" r="76527" b="0"/>
          <a:stretch/>
        </p:blipFill>
        <p:spPr>
          <a:xfrm>
            <a:off x="484200" y="6248520"/>
            <a:ext cx="504720" cy="493560"/>
          </a:xfrm>
          <a:prstGeom prst="rect">
            <a:avLst/>
          </a:prstGeom>
          <a:ln w="0">
            <a:noFill/>
          </a:ln>
        </p:spPr>
      </p:pic>
      <p:sp>
        <p:nvSpPr>
          <p:cNvPr id="291" name="Segnaposto data 7"/>
          <p:cNvSpPr/>
          <p:nvPr/>
        </p:nvSpPr>
        <p:spPr>
          <a:xfrm>
            <a:off x="465120" y="6280200"/>
            <a:ext cx="803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2EC6F-8B92-47FF-A5E2-444DE141803E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888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PAR LIGURIA</a:t>
            </a:r>
            <a:br>
              <a:rPr sz="2800"/>
            </a:b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Il Polo archivistico della Regione Ligu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PAR LIGURIA</a:t>
            </a:r>
            <a:br>
              <a:rPr sz="2800"/>
            </a:b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Il Polo archivistico della Regione Ligu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965160" y="1469880"/>
            <a:ext cx="7920000" cy="508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ff0000"/>
                </a:solidFill>
                <a:uFillTx/>
                <a:latin typeface="Arial"/>
              </a:rPr>
              <a:t>La Convenzione Liguria – Emilia-Romag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unga e positiva “tradizione” di collaborazione tra le due Region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istema regionale del Catasto (Sigma-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rogetto Dematerializzazione (Pro.De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Riuso di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ollegamento operativo per la partnership Elisa - Catasto e Fiscalit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o-definizione dei requisiti per un progetto interregionale su “Territorio e Federalismo fiscal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Segnaposto piè di pagina 8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1" descr=""/>
          <p:cNvPicPr/>
          <p:nvPr/>
        </p:nvPicPr>
        <p:blipFill>
          <a:blip r:embed="rId1"/>
          <a:srcRect l="0" t="0" r="76527" b="0"/>
          <a:stretch/>
        </p:blipFill>
        <p:spPr>
          <a:xfrm>
            <a:off x="484200" y="6248520"/>
            <a:ext cx="504720" cy="493560"/>
          </a:xfrm>
          <a:prstGeom prst="rect">
            <a:avLst/>
          </a:prstGeom>
          <a:ln w="0">
            <a:noFill/>
          </a:ln>
        </p:spPr>
      </p:pic>
      <p:sp>
        <p:nvSpPr>
          <p:cNvPr id="297" name="Segnaposto data 7"/>
          <p:cNvSpPr/>
          <p:nvPr/>
        </p:nvSpPr>
        <p:spPr>
          <a:xfrm>
            <a:off x="465120" y="6280200"/>
            <a:ext cx="803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7156F-E081-4D79-95F9-3BAEC0348F43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 txBox="1"/>
          <p:nvPr/>
        </p:nvSpPr>
        <p:spPr>
          <a:xfrm>
            <a:off x="914400" y="1382760"/>
            <a:ext cx="78120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ff0000"/>
                </a:solidFill>
                <a:uFillTx/>
                <a:latin typeface="Arial"/>
              </a:rPr>
              <a:t>La Convenzione Liguria – Emilia-Romag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Ogg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ondivisione operativa del “modello” di Polo Archivistico regionale, tramite riuso della soluzione “ParER” e costruzione cooperativa di un sistema informatico di riferimento”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riuso da parte della Regione Liguria del sistema di conservazione “ASC” attualmente in esercizio presso il ParE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nalisi e sviluppo per l’evoluzione del sistema di “ASC” in un sistema di conservazione a lungo termine per documenti amministrativi e sanitar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Segnaposto piè di pagina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1" descr=""/>
          <p:cNvPicPr/>
          <p:nvPr/>
        </p:nvPicPr>
        <p:blipFill>
          <a:blip r:embed="rId1"/>
          <a:srcRect l="0" t="0" r="76527" b="0"/>
          <a:stretch/>
        </p:blipFill>
        <p:spPr>
          <a:xfrm>
            <a:off x="484200" y="6248520"/>
            <a:ext cx="504720" cy="493560"/>
          </a:xfrm>
          <a:prstGeom prst="rect">
            <a:avLst/>
          </a:prstGeom>
          <a:ln w="0">
            <a:noFill/>
          </a:ln>
        </p:spPr>
      </p:pic>
      <p:sp>
        <p:nvSpPr>
          <p:cNvPr id="301" name="Segnaposto data 7"/>
          <p:cNvSpPr/>
          <p:nvPr/>
        </p:nvSpPr>
        <p:spPr>
          <a:xfrm>
            <a:off x="465120" y="6280200"/>
            <a:ext cx="803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76610-775E-4D92-927B-8C1010B97347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888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PAR LIGURIA</a:t>
            </a:r>
            <a:br>
              <a:rPr sz="2800"/>
            </a:b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Il Polo archivistico della Regione Ligu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egnaposto piè di pagina 28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" name="Group 1"/>
          <p:cNvGrpSpPr/>
          <p:nvPr/>
        </p:nvGrpSpPr>
        <p:grpSpPr>
          <a:xfrm>
            <a:off x="1130400" y="2165400"/>
            <a:ext cx="7561080" cy="4248000"/>
            <a:chOff x="1130400" y="2165400"/>
            <a:chExt cx="7561080" cy="4248000"/>
          </a:xfrm>
        </p:grpSpPr>
        <p:sp>
          <p:nvSpPr>
            <p:cNvPr id="305" name="Text Box 2"/>
            <p:cNvSpPr/>
            <p:nvPr/>
          </p:nvSpPr>
          <p:spPr>
            <a:xfrm>
              <a:off x="1413000" y="2693520"/>
              <a:ext cx="1696320" cy="612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Calibri"/>
                </a:rPr>
                <a:t>PREPARAZIONE ISTANZA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Text Box 3"/>
            <p:cNvSpPr/>
            <p:nvPr/>
          </p:nvSpPr>
          <p:spPr>
            <a:xfrm>
              <a:off x="1413000" y="3618000"/>
              <a:ext cx="1696320" cy="612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Calibri"/>
                </a:rPr>
                <a:t>PRESENTAZIONE ISTANZA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4"/>
            <p:cNvSpPr/>
            <p:nvPr/>
          </p:nvSpPr>
          <p:spPr>
            <a:xfrm>
              <a:off x="3877200" y="3618000"/>
              <a:ext cx="1696320" cy="612720"/>
            </a:xfrm>
            <a:prstGeom prst="rect">
              <a:avLst/>
            </a:prstGeom>
            <a:gradFill rotWithShape="0">
              <a:gsLst>
                <a:gs pos="0">
                  <a:srgbClr val="ffff00">
                    <a:alpha val="40000"/>
                  </a:srgbClr>
                </a:gs>
                <a:gs pos="100000">
                  <a:srgbClr val="ffff00">
                    <a:alpha val="39215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Calibri"/>
                </a:rPr>
                <a:t>ARCHIVI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Calibri"/>
                </a:rPr>
                <a:t>CORRENT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Text Box 5"/>
            <p:cNvSpPr/>
            <p:nvPr/>
          </p:nvSpPr>
          <p:spPr>
            <a:xfrm>
              <a:off x="3877200" y="2693520"/>
              <a:ext cx="1696320" cy="612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Calibri"/>
                </a:rPr>
                <a:t>TRASMISSION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Calibri"/>
                </a:rPr>
                <a:t>REGISTRAZION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Text Box 6"/>
            <p:cNvSpPr/>
            <p:nvPr/>
          </p:nvSpPr>
          <p:spPr>
            <a:xfrm>
              <a:off x="3877200" y="4572000"/>
              <a:ext cx="1696320" cy="612000"/>
            </a:xfrm>
            <a:prstGeom prst="rect">
              <a:avLst/>
            </a:prstGeom>
            <a:solidFill>
              <a:srgbClr val="ffff00">
                <a:alpha val="4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Calibri"/>
                </a:rPr>
                <a:t>ARCHIVI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Calibri"/>
                </a:rPr>
                <a:t>DI DEPOSIT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Text Box 7"/>
            <p:cNvSpPr/>
            <p:nvPr/>
          </p:nvSpPr>
          <p:spPr>
            <a:xfrm>
              <a:off x="6321600" y="3618000"/>
              <a:ext cx="1697760" cy="612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Calibri"/>
                </a:rPr>
                <a:t>CONSERVAZION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Calibri"/>
                </a:rPr>
                <a:t>SOSTITUTIVA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Text Box 8"/>
            <p:cNvSpPr/>
            <p:nvPr/>
          </p:nvSpPr>
          <p:spPr>
            <a:xfrm>
              <a:off x="6291720" y="2675160"/>
              <a:ext cx="1697760" cy="612000"/>
            </a:xfrm>
            <a:prstGeom prst="rect">
              <a:avLst/>
            </a:prstGeom>
            <a:gradFill rotWithShape="0">
              <a:gsLst>
                <a:gs pos="0">
                  <a:srgbClr val="ffff00">
                    <a:alpha val="40000"/>
                  </a:srgbClr>
                </a:gs>
                <a:gs pos="100000">
                  <a:srgbClr val="ffff00">
                    <a:alpha val="40000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Calibri"/>
                </a:rPr>
                <a:t>SALVAGUARDIA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Calibri"/>
                </a:rPr>
                <a:t>CORRENT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12" name="AutoShape 9"/>
            <p:cNvCxnSpPr/>
            <p:nvPr/>
          </p:nvCxnSpPr>
          <p:spPr>
            <a:xfrm flipH="1">
              <a:off x="3502080" y="2419200"/>
              <a:ext cx="12960" cy="3446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13" name="AutoShape 10"/>
            <p:cNvCxnSpPr/>
            <p:nvPr/>
          </p:nvCxnSpPr>
          <p:spPr>
            <a:xfrm flipH="1">
              <a:off x="5988240" y="2496240"/>
              <a:ext cx="13320" cy="3447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314" name="Text Box 11"/>
            <p:cNvSpPr/>
            <p:nvPr/>
          </p:nvSpPr>
          <p:spPr>
            <a:xfrm>
              <a:off x="1623600" y="5472720"/>
              <a:ext cx="12632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Calibri"/>
                </a:rPr>
                <a:t>Produzion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Text Box 12"/>
            <p:cNvSpPr/>
            <p:nvPr/>
          </p:nvSpPr>
          <p:spPr>
            <a:xfrm>
              <a:off x="4123080" y="5353200"/>
              <a:ext cx="1262520" cy="55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Calibri"/>
                </a:rPr>
                <a:t>Trasmission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Calibri"/>
                </a:rPr>
                <a:t>Archiviazion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Text Box 13"/>
            <p:cNvSpPr/>
            <p:nvPr/>
          </p:nvSpPr>
          <p:spPr>
            <a:xfrm>
              <a:off x="6575400" y="5474160"/>
              <a:ext cx="1263240" cy="26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Calibri"/>
                </a:rPr>
                <a:t>Conservazion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Rectangle 14"/>
            <p:cNvSpPr/>
            <p:nvPr/>
          </p:nvSpPr>
          <p:spPr>
            <a:xfrm>
              <a:off x="1130400" y="2165400"/>
              <a:ext cx="7561080" cy="4248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Text Box 15"/>
            <p:cNvSpPr/>
            <p:nvPr/>
          </p:nvSpPr>
          <p:spPr>
            <a:xfrm>
              <a:off x="1413000" y="4572000"/>
              <a:ext cx="1696320" cy="612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Calibri"/>
                </a:rPr>
                <a:t>ISTRUTTORIA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 Box 16"/>
            <p:cNvSpPr/>
            <p:nvPr/>
          </p:nvSpPr>
          <p:spPr>
            <a:xfrm>
              <a:off x="6321600" y="4572000"/>
              <a:ext cx="1697760" cy="612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Calibri"/>
                </a:rPr>
                <a:t>CONSERVAZION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Calibri"/>
                </a:rPr>
                <a:t>LUNGO TERMIN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0" name="Picture 1" descr=""/>
          <p:cNvPicPr/>
          <p:nvPr/>
        </p:nvPicPr>
        <p:blipFill>
          <a:blip r:embed="rId1"/>
          <a:srcRect l="0" t="0" r="76527" b="0"/>
          <a:stretch/>
        </p:blipFill>
        <p:spPr>
          <a:xfrm>
            <a:off x="484200" y="6248520"/>
            <a:ext cx="504720" cy="493560"/>
          </a:xfrm>
          <a:prstGeom prst="rect">
            <a:avLst/>
          </a:prstGeom>
          <a:ln w="0">
            <a:noFill/>
          </a:ln>
        </p:spPr>
      </p:pic>
      <p:sp>
        <p:nvSpPr>
          <p:cNvPr id="321" name="Segnaposto data 7"/>
          <p:cNvSpPr/>
          <p:nvPr/>
        </p:nvSpPr>
        <p:spPr>
          <a:xfrm>
            <a:off x="465120" y="6280200"/>
            <a:ext cx="803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B94C5-CAF6-427F-925A-998546479AA8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888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PAR LIGURIA</a:t>
            </a:r>
            <a:br>
              <a:rPr sz="2800"/>
            </a:b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Il Polo archivistico della Regione Ligu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ttangolo 26"/>
          <p:cNvSpPr/>
          <p:nvPr/>
        </p:nvSpPr>
        <p:spPr>
          <a:xfrm>
            <a:off x="1066680" y="1503360"/>
            <a:ext cx="751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ff0000"/>
                </a:solidFill>
                <a:uFillTx/>
                <a:latin typeface="Arial"/>
              </a:rPr>
              <a:t>Il modello applic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Segnaposto piè di pagina 10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5" name="Group 44"/>
          <p:cNvGrpSpPr/>
          <p:nvPr/>
        </p:nvGrpSpPr>
        <p:grpSpPr>
          <a:xfrm>
            <a:off x="758880" y="1365120"/>
            <a:ext cx="8667720" cy="5492520"/>
            <a:chOff x="758880" y="1365120"/>
            <a:chExt cx="8667720" cy="5492520"/>
          </a:xfrm>
        </p:grpSpPr>
        <p:sp>
          <p:nvSpPr>
            <p:cNvPr id="326" name="AutoShape 45"/>
            <p:cNvSpPr/>
            <p:nvPr/>
          </p:nvSpPr>
          <p:spPr>
            <a:xfrm>
              <a:off x="758880" y="1575000"/>
              <a:ext cx="8667720" cy="528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Text Box 46"/>
            <p:cNvSpPr/>
            <p:nvPr/>
          </p:nvSpPr>
          <p:spPr>
            <a:xfrm>
              <a:off x="951840" y="1442160"/>
              <a:ext cx="245520" cy="64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Text Box 47"/>
            <p:cNvSpPr/>
            <p:nvPr/>
          </p:nvSpPr>
          <p:spPr>
            <a:xfrm>
              <a:off x="951840" y="1541160"/>
              <a:ext cx="245520" cy="63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Text Box 48"/>
            <p:cNvSpPr/>
            <p:nvPr/>
          </p:nvSpPr>
          <p:spPr>
            <a:xfrm>
              <a:off x="1307160" y="1541160"/>
              <a:ext cx="245520" cy="63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 Box 49"/>
            <p:cNvSpPr/>
            <p:nvPr/>
          </p:nvSpPr>
          <p:spPr>
            <a:xfrm>
              <a:off x="1307160" y="1442160"/>
              <a:ext cx="245520" cy="64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Text Box 50"/>
            <p:cNvSpPr/>
            <p:nvPr/>
          </p:nvSpPr>
          <p:spPr>
            <a:xfrm>
              <a:off x="1307160" y="1659960"/>
              <a:ext cx="245520" cy="67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Text Box 51"/>
            <p:cNvSpPr/>
            <p:nvPr/>
          </p:nvSpPr>
          <p:spPr>
            <a:xfrm>
              <a:off x="1658880" y="1442160"/>
              <a:ext cx="245520" cy="64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Text Box 52"/>
            <p:cNvSpPr/>
            <p:nvPr/>
          </p:nvSpPr>
          <p:spPr>
            <a:xfrm>
              <a:off x="1658880" y="1541160"/>
              <a:ext cx="245520" cy="630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34" name="AutoShape 53"/>
            <p:cNvCxnSpPr/>
            <p:nvPr/>
          </p:nvCxnSpPr>
          <p:spPr>
            <a:xfrm flipH="1">
              <a:off x="1253160" y="1391400"/>
              <a:ext cx="2880" cy="363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35" name="AutoShape 54"/>
            <p:cNvCxnSpPr/>
            <p:nvPr/>
          </p:nvCxnSpPr>
          <p:spPr>
            <a:xfrm flipH="1">
              <a:off x="1613160" y="1397880"/>
              <a:ext cx="1800" cy="363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336" name="Rectangle 55"/>
            <p:cNvSpPr/>
            <p:nvPr/>
          </p:nvSpPr>
          <p:spPr>
            <a:xfrm>
              <a:off x="870480" y="1365120"/>
              <a:ext cx="1168560" cy="499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Text Box 56"/>
            <p:cNvSpPr/>
            <p:nvPr/>
          </p:nvSpPr>
          <p:spPr>
            <a:xfrm>
              <a:off x="951840" y="1659960"/>
              <a:ext cx="245520" cy="67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Text Box 57"/>
            <p:cNvSpPr/>
            <p:nvPr/>
          </p:nvSpPr>
          <p:spPr>
            <a:xfrm>
              <a:off x="1658880" y="1659960"/>
              <a:ext cx="245520" cy="67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Text Box 58"/>
            <p:cNvSpPr/>
            <p:nvPr/>
          </p:nvSpPr>
          <p:spPr>
            <a:xfrm>
              <a:off x="2204640" y="6047640"/>
              <a:ext cx="5242680" cy="393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47520" bIns="4752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Calibri"/>
                </a:rPr>
                <a:t>CONSERVAZIONE SOSTITUTIVA (Componenti - Utente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Text Box 59"/>
            <p:cNvSpPr/>
            <p:nvPr/>
          </p:nvSpPr>
          <p:spPr>
            <a:xfrm>
              <a:off x="1578960" y="5667120"/>
              <a:ext cx="96156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47520" bIns="4752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Calibri"/>
                </a:rPr>
                <a:t>azio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Text Box 60"/>
            <p:cNvSpPr/>
            <p:nvPr/>
          </p:nvSpPr>
          <p:spPr>
            <a:xfrm>
              <a:off x="4197600" y="5666400"/>
              <a:ext cx="964080" cy="321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47520" bIns="4752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Calibri"/>
                </a:rPr>
                <a:t>servizi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Text Box 61"/>
            <p:cNvSpPr/>
            <p:nvPr/>
          </p:nvSpPr>
          <p:spPr>
            <a:xfrm>
              <a:off x="6859080" y="5666400"/>
              <a:ext cx="961560" cy="321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47520" bIns="4752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Calibri"/>
                </a:rPr>
                <a:t>tecnologi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Text Box 62"/>
            <p:cNvSpPr/>
            <p:nvPr/>
          </p:nvSpPr>
          <p:spPr>
            <a:xfrm>
              <a:off x="3763800" y="1987560"/>
              <a:ext cx="1805400" cy="507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3920" bIns="4392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Calibri"/>
                </a:rPr>
                <a:t>RACCOLTA DOCUMENTI DA CONFERIR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Text Box 63"/>
            <p:cNvSpPr/>
            <p:nvPr/>
          </p:nvSpPr>
          <p:spPr>
            <a:xfrm>
              <a:off x="6380280" y="5131800"/>
              <a:ext cx="1804680" cy="480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3920" bIns="4392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Calibri"/>
                </a:rPr>
                <a:t>ARCHIVIO DI CONFERIMENTO (locale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Text Box 64"/>
            <p:cNvSpPr/>
            <p:nvPr/>
          </p:nvSpPr>
          <p:spPr>
            <a:xfrm>
              <a:off x="6372720" y="2205360"/>
              <a:ext cx="1805400" cy="376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3920" bIns="4392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Calibri"/>
                </a:rPr>
                <a:t>PORTALE – CONFERIMENT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Text Box 65"/>
            <p:cNvSpPr/>
            <p:nvPr/>
          </p:nvSpPr>
          <p:spPr>
            <a:xfrm>
              <a:off x="3763800" y="2588040"/>
              <a:ext cx="1805400" cy="476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3920" bIns="4392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Calibri"/>
                </a:rPr>
                <a:t>PREPARAZIONE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Calibri"/>
                </a:rPr>
                <a:t>FLUSSO GUID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Text Box 66"/>
            <p:cNvSpPr/>
            <p:nvPr/>
          </p:nvSpPr>
          <p:spPr>
            <a:xfrm>
              <a:off x="3763800" y="3150720"/>
              <a:ext cx="1805400" cy="520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3920" bIns="4392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Calibri"/>
                </a:rPr>
                <a:t>INOLTRO  DOCUMENTO O VOLUME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Calibri"/>
                </a:rPr>
                <a:t>DA CONSERVAR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Text Box 67"/>
            <p:cNvSpPr/>
            <p:nvPr/>
          </p:nvSpPr>
          <p:spPr>
            <a:xfrm>
              <a:off x="6372720" y="1864440"/>
              <a:ext cx="1804680" cy="287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3920" bIns="4392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Calibri"/>
                </a:rPr>
                <a:t>PEC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Text Box 68"/>
            <p:cNvSpPr/>
            <p:nvPr/>
          </p:nvSpPr>
          <p:spPr>
            <a:xfrm>
              <a:off x="6372720" y="1506600"/>
              <a:ext cx="1804680" cy="286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3920" bIns="4392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Calibri"/>
                </a:rPr>
                <a:t>BACK-EN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Text Box 69"/>
            <p:cNvSpPr/>
            <p:nvPr/>
          </p:nvSpPr>
          <p:spPr>
            <a:xfrm>
              <a:off x="1076040" y="2679120"/>
              <a:ext cx="1805400" cy="494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3920" bIns="4392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Calibri"/>
                </a:rPr>
                <a:t>CONFERIMENTO AUTOMATIC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Text Box 70"/>
            <p:cNvSpPr/>
            <p:nvPr/>
          </p:nvSpPr>
          <p:spPr>
            <a:xfrm>
              <a:off x="1088280" y="3245040"/>
              <a:ext cx="1805400" cy="284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3920" bIns="4392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Calibri"/>
                </a:rPr>
                <a:t>VERIFICA ESIT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Text Box 71"/>
            <p:cNvSpPr/>
            <p:nvPr/>
          </p:nvSpPr>
          <p:spPr>
            <a:xfrm>
              <a:off x="1075680" y="2294280"/>
              <a:ext cx="1804680" cy="28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3920" bIns="4392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Calibri"/>
                </a:rPr>
                <a:t>CONFERIMENTO MANUAL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Text Box 72"/>
            <p:cNvSpPr/>
            <p:nvPr/>
          </p:nvSpPr>
          <p:spPr>
            <a:xfrm>
              <a:off x="1076040" y="3646800"/>
              <a:ext cx="1804680" cy="47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3920" bIns="4392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Calibri"/>
                </a:rPr>
                <a:t>REITERAZIONE CONFERIMENT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Text Box 73"/>
            <p:cNvSpPr/>
            <p:nvPr/>
          </p:nvSpPr>
          <p:spPr>
            <a:xfrm>
              <a:off x="1088280" y="4206240"/>
              <a:ext cx="1804680" cy="477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3920" bIns="4392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Calibri"/>
                </a:rPr>
                <a:t>ACQUISIZIONE INDIRIZZI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Calibri"/>
                </a:rPr>
                <a:t>DI CONSERVAZIO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Text Box 74"/>
            <p:cNvSpPr/>
            <p:nvPr/>
          </p:nvSpPr>
          <p:spPr>
            <a:xfrm>
              <a:off x="1088280" y="4748040"/>
              <a:ext cx="1804680" cy="288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3920" bIns="4392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Calibri"/>
                </a:rPr>
                <a:t>RICHIESTA ESIBIZIO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Text Box 75"/>
            <p:cNvSpPr/>
            <p:nvPr/>
          </p:nvSpPr>
          <p:spPr>
            <a:xfrm>
              <a:off x="1094400" y="5131800"/>
              <a:ext cx="1804680" cy="288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3920" bIns="4392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Calibri"/>
                </a:rPr>
                <a:t>ARCHIVIAZIONE PROV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Text Box 76"/>
            <p:cNvSpPr/>
            <p:nvPr/>
          </p:nvSpPr>
          <p:spPr>
            <a:xfrm>
              <a:off x="3763800" y="4346280"/>
              <a:ext cx="1805400" cy="478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3920" bIns="4392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Calibri"/>
                </a:rPr>
                <a:t>RESTITUZIONE INDIRIZZI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Calibri"/>
                </a:rPr>
                <a:t>DI CONSERVAZIO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Text Box 77"/>
            <p:cNvSpPr/>
            <p:nvPr/>
          </p:nvSpPr>
          <p:spPr>
            <a:xfrm>
              <a:off x="3763800" y="4929480"/>
              <a:ext cx="1805400" cy="478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3920" bIns="4392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Calibri"/>
                </a:rPr>
                <a:t>RISCONTRI FORMALI E AMMINISTRATIV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Text Box 78"/>
            <p:cNvSpPr/>
            <p:nvPr/>
          </p:nvSpPr>
          <p:spPr>
            <a:xfrm>
              <a:off x="6373440" y="2676960"/>
              <a:ext cx="1804680" cy="568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3920" bIns="4392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Calibri"/>
                </a:rPr>
                <a:t>PLUGIN CONFERIMENTO MASSIVO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Text Box 79"/>
            <p:cNvSpPr/>
            <p:nvPr/>
          </p:nvSpPr>
          <p:spPr>
            <a:xfrm>
              <a:off x="6393240" y="3296160"/>
              <a:ext cx="1804680" cy="545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3920" bIns="4392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Calibri"/>
                </a:rPr>
                <a:t>MODULO DI COOPERAZIONE INOLTRO A PAR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Text Box 80"/>
            <p:cNvSpPr/>
            <p:nvPr/>
          </p:nvSpPr>
          <p:spPr>
            <a:xfrm>
              <a:off x="6373440" y="4559040"/>
              <a:ext cx="1804680" cy="477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3920" bIns="4392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Calibri"/>
                </a:rPr>
                <a:t>APPLICAZIONE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Calibri"/>
                </a:rPr>
                <a:t>SLA – FLUSSI GUIDA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Text Box 81"/>
            <p:cNvSpPr/>
            <p:nvPr/>
          </p:nvSpPr>
          <p:spPr>
            <a:xfrm>
              <a:off x="6413400" y="3917880"/>
              <a:ext cx="1804680" cy="545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3920" bIns="4392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Calibri"/>
                </a:rPr>
                <a:t>MODULO DI COOPERAZIONE RICEZIONE DA PA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Text Box 82"/>
            <p:cNvSpPr/>
            <p:nvPr/>
          </p:nvSpPr>
          <p:spPr>
            <a:xfrm>
              <a:off x="3763800" y="3745080"/>
              <a:ext cx="1805400" cy="477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3920" bIns="4392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Calibri"/>
                </a:rPr>
                <a:t>RICEZIONE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Calibri"/>
                </a:rPr>
                <a:t>DOCUMENTI ESIBIT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4" name="Picture 1" descr=""/>
          <p:cNvPicPr/>
          <p:nvPr/>
        </p:nvPicPr>
        <p:blipFill>
          <a:blip r:embed="rId1"/>
          <a:srcRect l="0" t="0" r="76527" b="0"/>
          <a:stretch/>
        </p:blipFill>
        <p:spPr>
          <a:xfrm>
            <a:off x="484200" y="6248520"/>
            <a:ext cx="504720" cy="493560"/>
          </a:xfrm>
          <a:prstGeom prst="rect">
            <a:avLst/>
          </a:prstGeom>
          <a:ln w="0">
            <a:noFill/>
          </a:ln>
        </p:spPr>
      </p:pic>
      <p:sp>
        <p:nvSpPr>
          <p:cNvPr id="365" name="Segnaposto data 7"/>
          <p:cNvSpPr/>
          <p:nvPr/>
        </p:nvSpPr>
        <p:spPr>
          <a:xfrm>
            <a:off x="465120" y="6280200"/>
            <a:ext cx="803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58E09-D837-4F0A-8EDE-D76501D3D1BB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888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PAR LIGURIA</a:t>
            </a:r>
            <a:br>
              <a:rPr sz="2800"/>
            </a:b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Il Polo archivistico della Regione Ligu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Segnaposto piè di pagina 89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32" descr=""/>
          <p:cNvPicPr/>
          <p:nvPr/>
        </p:nvPicPr>
        <p:blipFill>
          <a:blip r:embed="rId1"/>
          <a:stretch/>
        </p:blipFill>
        <p:spPr>
          <a:xfrm>
            <a:off x="0" y="0"/>
            <a:ext cx="57240" cy="1908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30" descr=""/>
          <p:cNvPicPr/>
          <p:nvPr/>
        </p:nvPicPr>
        <p:blipFill>
          <a:blip r:embed="rId2"/>
          <a:stretch/>
        </p:blipFill>
        <p:spPr>
          <a:xfrm>
            <a:off x="0" y="476280"/>
            <a:ext cx="57240" cy="19080"/>
          </a:xfrm>
          <a:prstGeom prst="rect">
            <a:avLst/>
          </a:prstGeom>
          <a:ln w="0">
            <a:noFill/>
          </a:ln>
        </p:spPr>
      </p:pic>
      <p:grpSp>
        <p:nvGrpSpPr>
          <p:cNvPr id="370" name="Group 1"/>
          <p:cNvGrpSpPr/>
          <p:nvPr/>
        </p:nvGrpSpPr>
        <p:grpSpPr>
          <a:xfrm>
            <a:off x="826920" y="1444680"/>
            <a:ext cx="8317080" cy="4989600"/>
            <a:chOff x="826920" y="1444680"/>
            <a:chExt cx="8317080" cy="4989600"/>
          </a:xfrm>
        </p:grpSpPr>
        <p:sp>
          <p:nvSpPr>
            <p:cNvPr id="371" name="AutoShape 43"/>
            <p:cNvSpPr/>
            <p:nvPr/>
          </p:nvSpPr>
          <p:spPr>
            <a:xfrm>
              <a:off x="826920" y="1444680"/>
              <a:ext cx="8317080" cy="498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Text Box 42"/>
            <p:cNvSpPr/>
            <p:nvPr/>
          </p:nvSpPr>
          <p:spPr>
            <a:xfrm>
              <a:off x="1432080" y="1799640"/>
              <a:ext cx="227520" cy="58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Text Box 41"/>
            <p:cNvSpPr/>
            <p:nvPr/>
          </p:nvSpPr>
          <p:spPr>
            <a:xfrm>
              <a:off x="1432080" y="1889640"/>
              <a:ext cx="227520" cy="57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Text Box 40"/>
            <p:cNvSpPr/>
            <p:nvPr/>
          </p:nvSpPr>
          <p:spPr>
            <a:xfrm>
              <a:off x="1761120" y="1889640"/>
              <a:ext cx="227520" cy="57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Text Box 39"/>
            <p:cNvSpPr/>
            <p:nvPr/>
          </p:nvSpPr>
          <p:spPr>
            <a:xfrm>
              <a:off x="1761120" y="1799640"/>
              <a:ext cx="227520" cy="58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Text Box 38"/>
            <p:cNvSpPr/>
            <p:nvPr/>
          </p:nvSpPr>
          <p:spPr>
            <a:xfrm>
              <a:off x="1761120" y="1998000"/>
              <a:ext cx="227520" cy="61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Text Box 37"/>
            <p:cNvSpPr/>
            <p:nvPr/>
          </p:nvSpPr>
          <p:spPr>
            <a:xfrm>
              <a:off x="2087280" y="1799640"/>
              <a:ext cx="227520" cy="58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Text Box 36"/>
            <p:cNvSpPr/>
            <p:nvPr/>
          </p:nvSpPr>
          <p:spPr>
            <a:xfrm>
              <a:off x="2087280" y="1889640"/>
              <a:ext cx="227520" cy="576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79" name="AutoShape 35"/>
            <p:cNvCxnSpPr/>
            <p:nvPr/>
          </p:nvCxnSpPr>
          <p:spPr>
            <a:xfrm flipH="1">
              <a:off x="1711440" y="1753560"/>
              <a:ext cx="2880" cy="331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80" name="AutoShape 34"/>
            <p:cNvCxnSpPr/>
            <p:nvPr/>
          </p:nvCxnSpPr>
          <p:spPr>
            <a:xfrm flipH="1">
              <a:off x="2044800" y="1759320"/>
              <a:ext cx="1440" cy="331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381" name="Rectangle 33"/>
            <p:cNvSpPr/>
            <p:nvPr/>
          </p:nvSpPr>
          <p:spPr>
            <a:xfrm>
              <a:off x="1357200" y="1729080"/>
              <a:ext cx="1082160" cy="455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Text Box 31"/>
            <p:cNvSpPr/>
            <p:nvPr/>
          </p:nvSpPr>
          <p:spPr>
            <a:xfrm>
              <a:off x="1432080" y="1998000"/>
              <a:ext cx="227520" cy="61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Text Box 29"/>
            <p:cNvSpPr/>
            <p:nvPr/>
          </p:nvSpPr>
          <p:spPr>
            <a:xfrm>
              <a:off x="2087280" y="1998000"/>
              <a:ext cx="227520" cy="61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Text Box 28"/>
            <p:cNvSpPr/>
            <p:nvPr/>
          </p:nvSpPr>
          <p:spPr>
            <a:xfrm>
              <a:off x="4557960" y="5687280"/>
              <a:ext cx="892800" cy="29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47520" bIns="4752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servizi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Text Box 27"/>
            <p:cNvSpPr/>
            <p:nvPr/>
          </p:nvSpPr>
          <p:spPr>
            <a:xfrm>
              <a:off x="6832800" y="5745600"/>
              <a:ext cx="890640" cy="293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47520" bIns="4752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tecnologia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Text Box 26"/>
            <p:cNvSpPr/>
            <p:nvPr/>
          </p:nvSpPr>
          <p:spPr>
            <a:xfrm>
              <a:off x="6461640" y="5296320"/>
              <a:ext cx="1671120" cy="371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3920" bIns="4392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ARCHIVIO DI RICEZIO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Text Box 25"/>
            <p:cNvSpPr/>
            <p:nvPr/>
          </p:nvSpPr>
          <p:spPr>
            <a:xfrm>
              <a:off x="4088520" y="2090160"/>
              <a:ext cx="1671840" cy="434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3920" bIns="4392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GESTIONE SLA / FLUSSI GUID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Text Box 24"/>
            <p:cNvSpPr/>
            <p:nvPr/>
          </p:nvSpPr>
          <p:spPr>
            <a:xfrm>
              <a:off x="4099680" y="2581920"/>
              <a:ext cx="1671840" cy="302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3920" bIns="4392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CONTABILIZZAZION</a:t>
              </a:r>
              <a:r>
                <a:rPr b="0" lang="it-IT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Text Box 23"/>
            <p:cNvSpPr/>
            <p:nvPr/>
          </p:nvSpPr>
          <p:spPr>
            <a:xfrm>
              <a:off x="4066920" y="1732680"/>
              <a:ext cx="1671120" cy="262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3920" bIns="4392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GESTIONE UTENTI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Text Box 22"/>
            <p:cNvSpPr/>
            <p:nvPr/>
          </p:nvSpPr>
          <p:spPr>
            <a:xfrm>
              <a:off x="4087800" y="2946960"/>
              <a:ext cx="1671120" cy="441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3920" bIns="4392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COMUNICAZIONI PRIVAC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Text Box 21"/>
            <p:cNvSpPr/>
            <p:nvPr/>
          </p:nvSpPr>
          <p:spPr>
            <a:xfrm>
              <a:off x="1471680" y="2622240"/>
              <a:ext cx="1671120" cy="46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3920" bIns="4392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AMMINISTRAZIO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DEL SERVIZI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Text Box 20"/>
            <p:cNvSpPr/>
            <p:nvPr/>
          </p:nvSpPr>
          <p:spPr>
            <a:xfrm>
              <a:off x="6461640" y="2760120"/>
              <a:ext cx="1671120" cy="251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3920" bIns="4392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SICUREZZA</a:t>
              </a:r>
              <a:r>
                <a:rPr b="0" lang="it-IT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Text Box 19"/>
            <p:cNvSpPr/>
            <p:nvPr/>
          </p:nvSpPr>
          <p:spPr>
            <a:xfrm>
              <a:off x="6452640" y="4371840"/>
              <a:ext cx="1671120" cy="387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3920" bIns="4392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VERIFICHE TECNICHE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Text Box 18"/>
            <p:cNvSpPr/>
            <p:nvPr/>
          </p:nvSpPr>
          <p:spPr>
            <a:xfrm>
              <a:off x="6461640" y="3100680"/>
              <a:ext cx="1671120" cy="539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3920" bIns="4392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MODULO DI COOPERAZIONE RICEZIONE DA UTEN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Text Box 17"/>
            <p:cNvSpPr/>
            <p:nvPr/>
          </p:nvSpPr>
          <p:spPr>
            <a:xfrm>
              <a:off x="1943280" y="5667120"/>
              <a:ext cx="890640" cy="29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47520" bIns="4752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funzion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Text Box 16"/>
            <p:cNvSpPr/>
            <p:nvPr/>
          </p:nvSpPr>
          <p:spPr>
            <a:xfrm>
              <a:off x="1471680" y="4419000"/>
              <a:ext cx="1671120" cy="46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3920" bIns="4392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AMMINISTRAZIONE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DEL FLUSS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 Box 15"/>
            <p:cNvSpPr/>
            <p:nvPr/>
          </p:nvSpPr>
          <p:spPr>
            <a:xfrm>
              <a:off x="4066920" y="3604680"/>
              <a:ext cx="1671120" cy="302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3920" bIns="4392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VERIFICA FORMAT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Text Box 14"/>
            <p:cNvSpPr/>
            <p:nvPr/>
          </p:nvSpPr>
          <p:spPr>
            <a:xfrm>
              <a:off x="4087800" y="3965040"/>
              <a:ext cx="1671120" cy="302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3920" bIns="4392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VERIFICA INTEGRITÀ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Text Box 13"/>
            <p:cNvSpPr/>
            <p:nvPr/>
          </p:nvSpPr>
          <p:spPr>
            <a:xfrm>
              <a:off x="4087800" y="4324680"/>
              <a:ext cx="1671120" cy="406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3920" bIns="4392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VERIFICA RIFERIMENTI TEMPORAL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Text Box 12"/>
            <p:cNvSpPr/>
            <p:nvPr/>
          </p:nvSpPr>
          <p:spPr>
            <a:xfrm>
              <a:off x="4087800" y="5296320"/>
              <a:ext cx="1671120" cy="241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3920" bIns="4392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ANOMALIE - SCART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Text Box 11"/>
            <p:cNvSpPr/>
            <p:nvPr/>
          </p:nvSpPr>
          <p:spPr>
            <a:xfrm>
              <a:off x="6461640" y="1563120"/>
              <a:ext cx="1671120" cy="527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3920" bIns="4392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GESTIONE AMMINISTRATIVA UTENTI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Text Box 10"/>
            <p:cNvSpPr/>
            <p:nvPr/>
          </p:nvSpPr>
          <p:spPr>
            <a:xfrm>
              <a:off x="6452640" y="2142360"/>
              <a:ext cx="1671120" cy="506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3920" bIns="4392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GESTIONE AMMINISTRATIVA LIVELLI DI SERVIZI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Text Box 9"/>
            <p:cNvSpPr/>
            <p:nvPr/>
          </p:nvSpPr>
          <p:spPr>
            <a:xfrm>
              <a:off x="6444000" y="3742200"/>
              <a:ext cx="1671120" cy="52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3920" bIns="4392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MODULO DI COOPERAZIONE INOLTRO A UTEN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Text Box 8"/>
            <p:cNvSpPr/>
            <p:nvPr/>
          </p:nvSpPr>
          <p:spPr>
            <a:xfrm>
              <a:off x="4087800" y="4829040"/>
              <a:ext cx="167112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3920" bIns="4392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INVIO A  CONSERVAZIONE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Text Box 7"/>
            <p:cNvSpPr/>
            <p:nvPr/>
          </p:nvSpPr>
          <p:spPr>
            <a:xfrm>
              <a:off x="6452640" y="4825800"/>
              <a:ext cx="1671120" cy="406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3920" bIns="4392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COMPONENTI PER INALTERABILITÀ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Text Box 6"/>
            <p:cNvSpPr/>
            <p:nvPr/>
          </p:nvSpPr>
          <p:spPr>
            <a:xfrm>
              <a:off x="2514960" y="6042600"/>
              <a:ext cx="5230440" cy="358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47520" bIns="4752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CONSERVAZIONE SOSTITUTIVA   (Componenti – Amministratore 1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Rectangle 5"/>
            <p:cNvSpPr/>
            <p:nvPr/>
          </p:nvSpPr>
          <p:spPr>
            <a:xfrm>
              <a:off x="3851280" y="1588680"/>
              <a:ext cx="2112840" cy="187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Rectangle 4"/>
            <p:cNvSpPr/>
            <p:nvPr/>
          </p:nvSpPr>
          <p:spPr>
            <a:xfrm>
              <a:off x="3851280" y="3532320"/>
              <a:ext cx="2112840" cy="2160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09" name="AutoShape 3"/>
            <p:cNvCxnSpPr/>
            <p:nvPr/>
          </p:nvCxnSpPr>
          <p:spPr>
            <a:xfrm>
              <a:off x="3213720" y="2852280"/>
              <a:ext cx="4896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10" name="AutoShape 2"/>
            <p:cNvCxnSpPr/>
            <p:nvPr/>
          </p:nvCxnSpPr>
          <p:spPr>
            <a:xfrm>
              <a:off x="3213720" y="4654800"/>
              <a:ext cx="489600" cy="5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411" name="Rectangle 4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52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53"/>
          <p:cNvSpPr/>
          <p:nvPr/>
        </p:nvSpPr>
        <p:spPr>
          <a:xfrm>
            <a:off x="0" y="19080"/>
            <a:ext cx="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Picture 1" descr=""/>
          <p:cNvPicPr/>
          <p:nvPr/>
        </p:nvPicPr>
        <p:blipFill>
          <a:blip r:embed="rId3"/>
          <a:srcRect l="0" t="0" r="76527" b="0"/>
          <a:stretch/>
        </p:blipFill>
        <p:spPr>
          <a:xfrm>
            <a:off x="484200" y="6248520"/>
            <a:ext cx="504720" cy="493560"/>
          </a:xfrm>
          <a:prstGeom prst="rect">
            <a:avLst/>
          </a:prstGeom>
          <a:ln w="0">
            <a:noFill/>
          </a:ln>
        </p:spPr>
      </p:pic>
      <p:sp>
        <p:nvSpPr>
          <p:cNvPr id="415" name="Segnaposto data 7"/>
          <p:cNvSpPr/>
          <p:nvPr/>
        </p:nvSpPr>
        <p:spPr>
          <a:xfrm>
            <a:off x="465120" y="6280200"/>
            <a:ext cx="803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994ED-F90E-4B8C-9137-E9FF9B12FFC0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888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PAR LIGURIA</a:t>
            </a:r>
            <a:br>
              <a:rPr sz="2800"/>
            </a:b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Il Polo archivistico della Regione Ligu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Segnaposto piè di pagina 9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Picture 32" descr=""/>
          <p:cNvPicPr/>
          <p:nvPr/>
        </p:nvPicPr>
        <p:blipFill>
          <a:blip r:embed="rId1"/>
          <a:stretch/>
        </p:blipFill>
        <p:spPr>
          <a:xfrm>
            <a:off x="0" y="0"/>
            <a:ext cx="57240" cy="1908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30" descr=""/>
          <p:cNvPicPr/>
          <p:nvPr/>
        </p:nvPicPr>
        <p:blipFill>
          <a:blip r:embed="rId2"/>
          <a:stretch/>
        </p:blipFill>
        <p:spPr>
          <a:xfrm>
            <a:off x="0" y="476280"/>
            <a:ext cx="57240" cy="19080"/>
          </a:xfrm>
          <a:prstGeom prst="rect">
            <a:avLst/>
          </a:prstGeom>
          <a:ln w="0">
            <a:noFill/>
          </a:ln>
        </p:spPr>
      </p:pic>
      <p:sp>
        <p:nvSpPr>
          <p:cNvPr id="420" name="Rectangle 4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52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53"/>
          <p:cNvSpPr/>
          <p:nvPr/>
        </p:nvSpPr>
        <p:spPr>
          <a:xfrm>
            <a:off x="0" y="19080"/>
            <a:ext cx="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3" name="Group 2"/>
          <p:cNvGrpSpPr/>
          <p:nvPr/>
        </p:nvGrpSpPr>
        <p:grpSpPr>
          <a:xfrm>
            <a:off x="900000" y="1531800"/>
            <a:ext cx="8244000" cy="5141520"/>
            <a:chOff x="900000" y="1531800"/>
            <a:chExt cx="8244000" cy="5141520"/>
          </a:xfrm>
        </p:grpSpPr>
        <p:sp>
          <p:nvSpPr>
            <p:cNvPr id="424" name="AutoShape 3"/>
            <p:cNvSpPr/>
            <p:nvPr/>
          </p:nvSpPr>
          <p:spPr>
            <a:xfrm>
              <a:off x="900000" y="1560240"/>
              <a:ext cx="8244000" cy="511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Text Box 4"/>
            <p:cNvSpPr/>
            <p:nvPr/>
          </p:nvSpPr>
          <p:spPr>
            <a:xfrm>
              <a:off x="1300320" y="1852920"/>
              <a:ext cx="225720" cy="57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Text Box 5"/>
            <p:cNvSpPr/>
            <p:nvPr/>
          </p:nvSpPr>
          <p:spPr>
            <a:xfrm>
              <a:off x="1300320" y="1942560"/>
              <a:ext cx="225720" cy="56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Text Box 6"/>
            <p:cNvSpPr/>
            <p:nvPr/>
          </p:nvSpPr>
          <p:spPr>
            <a:xfrm>
              <a:off x="1626480" y="1942560"/>
              <a:ext cx="225360" cy="56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Text Box 7"/>
            <p:cNvSpPr/>
            <p:nvPr/>
          </p:nvSpPr>
          <p:spPr>
            <a:xfrm>
              <a:off x="1626480" y="1852920"/>
              <a:ext cx="225360" cy="57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Text Box 8"/>
            <p:cNvSpPr/>
            <p:nvPr/>
          </p:nvSpPr>
          <p:spPr>
            <a:xfrm>
              <a:off x="1626480" y="2049840"/>
              <a:ext cx="225360" cy="60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Text Box 9"/>
            <p:cNvSpPr/>
            <p:nvPr/>
          </p:nvSpPr>
          <p:spPr>
            <a:xfrm>
              <a:off x="1949400" y="1852920"/>
              <a:ext cx="225720" cy="57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Text Box 10"/>
            <p:cNvSpPr/>
            <p:nvPr/>
          </p:nvSpPr>
          <p:spPr>
            <a:xfrm>
              <a:off x="1949400" y="1942560"/>
              <a:ext cx="225720" cy="568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32" name="AutoShape 11"/>
            <p:cNvCxnSpPr/>
            <p:nvPr/>
          </p:nvCxnSpPr>
          <p:spPr>
            <a:xfrm flipH="1">
              <a:off x="1576800" y="1807560"/>
              <a:ext cx="2880" cy="329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33" name="AutoShape 12"/>
            <p:cNvCxnSpPr/>
            <p:nvPr/>
          </p:nvCxnSpPr>
          <p:spPr>
            <a:xfrm flipH="1">
              <a:off x="1907280" y="1813320"/>
              <a:ext cx="1800" cy="329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434" name="Rectangle 13"/>
            <p:cNvSpPr/>
            <p:nvPr/>
          </p:nvSpPr>
          <p:spPr>
            <a:xfrm>
              <a:off x="1225800" y="1783080"/>
              <a:ext cx="1072440" cy="451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Text Box 14"/>
            <p:cNvSpPr/>
            <p:nvPr/>
          </p:nvSpPr>
          <p:spPr>
            <a:xfrm>
              <a:off x="1300320" y="2049840"/>
              <a:ext cx="225720" cy="6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Text Box 15"/>
            <p:cNvSpPr/>
            <p:nvPr/>
          </p:nvSpPr>
          <p:spPr>
            <a:xfrm>
              <a:off x="1949400" y="2049840"/>
              <a:ext cx="225720" cy="60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Text Box 16"/>
            <p:cNvSpPr/>
            <p:nvPr/>
          </p:nvSpPr>
          <p:spPr>
            <a:xfrm>
              <a:off x="4597920" y="5966640"/>
              <a:ext cx="884880" cy="2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47520" bIns="4752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Calibri"/>
                </a:rPr>
                <a:t>servizi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Text Box 17"/>
            <p:cNvSpPr/>
            <p:nvPr/>
          </p:nvSpPr>
          <p:spPr>
            <a:xfrm>
              <a:off x="6853320" y="6044040"/>
              <a:ext cx="882720" cy="29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47520" bIns="4752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Calibri"/>
                </a:rPr>
                <a:t>tecnologi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Text Box 18"/>
            <p:cNvSpPr/>
            <p:nvPr/>
          </p:nvSpPr>
          <p:spPr>
            <a:xfrm>
              <a:off x="6476400" y="5240160"/>
              <a:ext cx="1656360" cy="596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3920" bIns="4392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Calibri"/>
                </a:rPr>
                <a:t>ARCHIVIO DI CONSERVAZIO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Text Box 19"/>
            <p:cNvSpPr/>
            <p:nvPr/>
          </p:nvSpPr>
          <p:spPr>
            <a:xfrm>
              <a:off x="4133160" y="1963800"/>
              <a:ext cx="1657080" cy="348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3920" bIns="4392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Calibri"/>
                </a:rPr>
                <a:t>EVIDENZE DI CONSERVAZIO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Text Box 20"/>
            <p:cNvSpPr/>
            <p:nvPr/>
          </p:nvSpPr>
          <p:spPr>
            <a:xfrm>
              <a:off x="4143960" y="2355120"/>
              <a:ext cx="1657080" cy="376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3920" bIns="4392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Calibri"/>
                </a:rPr>
                <a:t>VERIFICA E REPORT FORMAT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Text Box 21"/>
            <p:cNvSpPr/>
            <p:nvPr/>
          </p:nvSpPr>
          <p:spPr>
            <a:xfrm>
              <a:off x="4132440" y="1609920"/>
              <a:ext cx="1656720" cy="294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3920" bIns="4392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Calibri"/>
                </a:rPr>
                <a:t>MESSA IN CONSERVAZIO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Text Box 22"/>
            <p:cNvSpPr/>
            <p:nvPr/>
          </p:nvSpPr>
          <p:spPr>
            <a:xfrm>
              <a:off x="4149720" y="2788560"/>
              <a:ext cx="1656360" cy="36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3920" bIns="4392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Calibri"/>
                </a:rPr>
                <a:t>SCARTI – INVII A DEPOSIT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Text Box 23"/>
            <p:cNvSpPr/>
            <p:nvPr/>
          </p:nvSpPr>
          <p:spPr>
            <a:xfrm>
              <a:off x="4141080" y="3219120"/>
              <a:ext cx="1656720" cy="361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3920" bIns="4392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Calibri"/>
                </a:rPr>
                <a:t>TRASFORMAZIONI  ESIBIZION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Text Box 24"/>
            <p:cNvSpPr/>
            <p:nvPr/>
          </p:nvSpPr>
          <p:spPr>
            <a:xfrm>
              <a:off x="1539360" y="2705040"/>
              <a:ext cx="1656360" cy="45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3920" bIns="4392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Calibri"/>
                </a:rPr>
                <a:t>CONSERVAZIO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Text Box 25"/>
            <p:cNvSpPr/>
            <p:nvPr/>
          </p:nvSpPr>
          <p:spPr>
            <a:xfrm>
              <a:off x="6485040" y="2874600"/>
              <a:ext cx="1656360" cy="249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3920" bIns="4392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Calibri"/>
                </a:rPr>
                <a:t>SICUREZZA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Text Box 26"/>
            <p:cNvSpPr/>
            <p:nvPr/>
          </p:nvSpPr>
          <p:spPr>
            <a:xfrm>
              <a:off x="6476400" y="3639240"/>
              <a:ext cx="1656360" cy="412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3920" bIns="4392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Calibri"/>
                </a:rPr>
                <a:t>GESTIONI TECNICHE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Text Box 27"/>
            <p:cNvSpPr/>
            <p:nvPr/>
          </p:nvSpPr>
          <p:spPr>
            <a:xfrm>
              <a:off x="2006640" y="5966280"/>
              <a:ext cx="882720" cy="2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47520" bIns="4752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Calibri"/>
                </a:rPr>
                <a:t>funzio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Text Box 28"/>
            <p:cNvSpPr/>
            <p:nvPr/>
          </p:nvSpPr>
          <p:spPr>
            <a:xfrm>
              <a:off x="1539360" y="4417200"/>
              <a:ext cx="1656360" cy="45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3920" bIns="4392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Calibri"/>
                </a:rPr>
                <a:t>ACCESS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Text Box 29"/>
            <p:cNvSpPr/>
            <p:nvPr/>
          </p:nvSpPr>
          <p:spPr>
            <a:xfrm>
              <a:off x="4141080" y="4136040"/>
              <a:ext cx="1656720" cy="299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3920" bIns="4392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Calibri"/>
                </a:rPr>
                <a:t>INDICE DEL REPERTORI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Text Box 30"/>
            <p:cNvSpPr/>
            <p:nvPr/>
          </p:nvSpPr>
          <p:spPr>
            <a:xfrm>
              <a:off x="4132440" y="4477680"/>
              <a:ext cx="1656720" cy="299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3920" bIns="4392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Calibri"/>
                </a:rPr>
                <a:t>RICERCH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Text Box 31"/>
            <p:cNvSpPr/>
            <p:nvPr/>
          </p:nvSpPr>
          <p:spPr>
            <a:xfrm>
              <a:off x="4149720" y="4835160"/>
              <a:ext cx="1656360" cy="268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3920" bIns="4392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Calibri"/>
                </a:rPr>
                <a:t>RICHIESTE DI ESIBIZIO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Text Box 32"/>
            <p:cNvSpPr/>
            <p:nvPr/>
          </p:nvSpPr>
          <p:spPr>
            <a:xfrm>
              <a:off x="4141080" y="5502960"/>
              <a:ext cx="1656720" cy="239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3920" bIns="4392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Calibri"/>
                </a:rPr>
                <a:t>ANOMALIE - SCART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Text Box 33"/>
            <p:cNvSpPr/>
            <p:nvPr/>
          </p:nvSpPr>
          <p:spPr>
            <a:xfrm>
              <a:off x="6485040" y="1783080"/>
              <a:ext cx="1656360" cy="302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3920" bIns="4392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Calibri"/>
                </a:rPr>
                <a:t>FIRMA DIGITALE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Text Box 34"/>
            <p:cNvSpPr/>
            <p:nvPr/>
          </p:nvSpPr>
          <p:spPr>
            <a:xfrm>
              <a:off x="6485040" y="3178800"/>
              <a:ext cx="1656360" cy="415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3920" bIns="4392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Calibri"/>
                </a:rPr>
                <a:t>ESECUZIONE FLUSSO GUID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Text Box 35"/>
            <p:cNvSpPr/>
            <p:nvPr/>
          </p:nvSpPr>
          <p:spPr>
            <a:xfrm>
              <a:off x="4132440" y="5191560"/>
              <a:ext cx="1656720" cy="24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3920" bIns="4392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Calibri"/>
                </a:rPr>
                <a:t>CONSERVAZIONE VOLUM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Text Box 36"/>
            <p:cNvSpPr/>
            <p:nvPr/>
          </p:nvSpPr>
          <p:spPr>
            <a:xfrm>
              <a:off x="6476400" y="4777920"/>
              <a:ext cx="1656360" cy="40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3920" bIns="4392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Calibri"/>
                </a:rPr>
                <a:t>COMPONENTI PER INALTERABILITÀ  (SAN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Text Box 37"/>
            <p:cNvSpPr/>
            <p:nvPr/>
          </p:nvSpPr>
          <p:spPr>
            <a:xfrm>
              <a:off x="2681280" y="6257520"/>
              <a:ext cx="5184360" cy="356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47520" bIns="4752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Calibri"/>
                </a:rPr>
                <a:t>CONSERVAZIONE SOSTITUTIVA  (Componenti – Amministratore 2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Text Box 38"/>
            <p:cNvSpPr/>
            <p:nvPr/>
          </p:nvSpPr>
          <p:spPr>
            <a:xfrm>
              <a:off x="6485040" y="2147400"/>
              <a:ext cx="1656360" cy="302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3920" bIns="4392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Calibri"/>
                </a:rPr>
                <a:t>TIME STAMP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Text Box 39"/>
            <p:cNvSpPr/>
            <p:nvPr/>
          </p:nvSpPr>
          <p:spPr>
            <a:xfrm>
              <a:off x="6485040" y="4436280"/>
              <a:ext cx="1656360" cy="249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3920" bIns="4392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Calibri"/>
                </a:rPr>
                <a:t>MOTORE RICERCA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Text Box 40"/>
            <p:cNvSpPr/>
            <p:nvPr/>
          </p:nvSpPr>
          <p:spPr>
            <a:xfrm>
              <a:off x="6485040" y="4080600"/>
              <a:ext cx="1656360" cy="249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3920" bIns="4392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Calibri"/>
                </a:rPr>
                <a:t>PORTALE - ACCESSO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Text Box 41"/>
            <p:cNvSpPr/>
            <p:nvPr/>
          </p:nvSpPr>
          <p:spPr>
            <a:xfrm>
              <a:off x="6493680" y="2519640"/>
              <a:ext cx="1656360" cy="302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3920" bIns="4392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Calibri"/>
                </a:rPr>
                <a:t>PEC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Rectangle 42"/>
            <p:cNvSpPr/>
            <p:nvPr/>
          </p:nvSpPr>
          <p:spPr>
            <a:xfrm>
              <a:off x="3862800" y="4083840"/>
              <a:ext cx="2094480" cy="1816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64" name="AutoShape 43"/>
            <p:cNvCxnSpPr/>
            <p:nvPr/>
          </p:nvCxnSpPr>
          <p:spPr>
            <a:xfrm>
              <a:off x="3265560" y="2932920"/>
              <a:ext cx="4852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65" name="AutoShape 44"/>
            <p:cNvCxnSpPr/>
            <p:nvPr/>
          </p:nvCxnSpPr>
          <p:spPr>
            <a:xfrm>
              <a:off x="3265560" y="4645800"/>
              <a:ext cx="485280" cy="5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466" name="Text Box 45"/>
            <p:cNvSpPr/>
            <p:nvPr/>
          </p:nvSpPr>
          <p:spPr>
            <a:xfrm>
              <a:off x="4141080" y="3639240"/>
              <a:ext cx="1656720" cy="354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3920" bIns="4392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Calibri"/>
                </a:rPr>
                <a:t>COMUNICAZIONI PRIVAC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Rectangle 46"/>
            <p:cNvSpPr/>
            <p:nvPr/>
          </p:nvSpPr>
          <p:spPr>
            <a:xfrm>
              <a:off x="3862800" y="1531800"/>
              <a:ext cx="2094480" cy="2520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68" name="Picture 1" descr=""/>
          <p:cNvPicPr/>
          <p:nvPr/>
        </p:nvPicPr>
        <p:blipFill>
          <a:blip r:embed="rId3"/>
          <a:srcRect l="0" t="0" r="76527" b="0"/>
          <a:stretch/>
        </p:blipFill>
        <p:spPr>
          <a:xfrm>
            <a:off x="484200" y="6248520"/>
            <a:ext cx="504720" cy="493560"/>
          </a:xfrm>
          <a:prstGeom prst="rect">
            <a:avLst/>
          </a:prstGeom>
          <a:ln w="0">
            <a:noFill/>
          </a:ln>
        </p:spPr>
      </p:pic>
      <p:sp>
        <p:nvSpPr>
          <p:cNvPr id="469" name="Segnaposto data 7"/>
          <p:cNvSpPr/>
          <p:nvPr/>
        </p:nvSpPr>
        <p:spPr>
          <a:xfrm>
            <a:off x="465120" y="6280200"/>
            <a:ext cx="803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3FAE1-0B63-412B-AC9B-2264548B9C62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888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PAR LIGURIA</a:t>
            </a:r>
            <a:br>
              <a:rPr sz="2800"/>
            </a:b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Il Polo archivistico della Regione Ligu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1" descr=""/>
          <p:cNvPicPr/>
          <p:nvPr/>
        </p:nvPicPr>
        <p:blipFill>
          <a:blip r:embed="rId1"/>
          <a:srcRect l="0" t="0" r="76527" b="0"/>
          <a:stretch/>
        </p:blipFill>
        <p:spPr>
          <a:xfrm>
            <a:off x="484200" y="6248520"/>
            <a:ext cx="504720" cy="49356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888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PAR LIGURIA</a:t>
            </a:r>
            <a:br>
              <a:rPr sz="2800"/>
            </a:b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Il Polo archivistico della Regione Ligu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egnaposto data 7"/>
          <p:cNvSpPr/>
          <p:nvPr/>
        </p:nvSpPr>
        <p:spPr>
          <a:xfrm>
            <a:off x="522360" y="6280200"/>
            <a:ext cx="803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EF1AD-13FD-494C-8E73-7B97E8D03961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egnaposto piè di pagina 8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7" descr=""/>
          <p:cNvPicPr/>
          <p:nvPr/>
        </p:nvPicPr>
        <p:blipFill>
          <a:blip r:embed="rId2"/>
          <a:srcRect l="46454" t="49721" r="25974" b="22618"/>
          <a:stretch/>
        </p:blipFill>
        <p:spPr>
          <a:xfrm>
            <a:off x="5780160" y="4210200"/>
            <a:ext cx="2754360" cy="1726920"/>
          </a:xfrm>
          <a:prstGeom prst="rect">
            <a:avLst/>
          </a:prstGeom>
          <a:ln w="0">
            <a:noFill/>
          </a:ln>
        </p:spPr>
      </p:pic>
      <p:pic>
        <p:nvPicPr>
          <p:cNvPr id="233" name="Immagine 4" descr="Stemma_Liguria.gif"/>
          <p:cNvPicPr/>
          <p:nvPr/>
        </p:nvPicPr>
        <p:blipFill>
          <a:blip r:embed="rId3"/>
          <a:srcRect l="17460" t="11379" r="25756" b="14621"/>
          <a:stretch/>
        </p:blipFill>
        <p:spPr>
          <a:xfrm>
            <a:off x="1865160" y="4381560"/>
            <a:ext cx="1363680" cy="1685880"/>
          </a:xfrm>
          <a:prstGeom prst="rect">
            <a:avLst/>
          </a:prstGeom>
          <a:ln w="0">
            <a:noFill/>
          </a:ln>
        </p:spPr>
      </p:pic>
      <p:sp>
        <p:nvSpPr>
          <p:cNvPr id="234" name="CasellaDiTesto 9"/>
          <p:cNvSpPr/>
          <p:nvPr/>
        </p:nvSpPr>
        <p:spPr>
          <a:xfrm>
            <a:off x="1309680" y="1704960"/>
            <a:ext cx="68515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ff0000"/>
                </a:solidFill>
                <a:uFillTx/>
                <a:latin typeface="Arial"/>
              </a:rPr>
              <a:t>Il contesto opera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a Legge regionale 42 / 200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e il Sistema Informativo Integrato Regiona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5" name="Connettore 2 11"/>
          <p:cNvCxnSpPr/>
          <p:nvPr/>
        </p:nvCxnSpPr>
        <p:spPr>
          <a:xfrm flipH="1">
            <a:off x="3307680" y="3691080"/>
            <a:ext cx="1129320" cy="870480"/>
          </a:xfrm>
          <a:prstGeom prst="straightConnector1">
            <a:avLst/>
          </a:prstGeom>
          <a:ln w="28440">
            <a:solidFill>
              <a:srgbClr val="17375e"/>
            </a:solidFill>
            <a:miter/>
            <a:tailEnd len="med" type="arrow" w="med"/>
          </a:ln>
        </p:spPr>
      </p:cxnSp>
      <p:cxnSp>
        <p:nvCxnSpPr>
          <p:cNvPr id="236" name="Connettore 2 13"/>
          <p:cNvCxnSpPr/>
          <p:nvPr/>
        </p:nvCxnSpPr>
        <p:spPr>
          <a:xfrm>
            <a:off x="4628880" y="3668760"/>
            <a:ext cx="1105560" cy="846720"/>
          </a:xfrm>
          <a:prstGeom prst="straightConnector1">
            <a:avLst/>
          </a:prstGeom>
          <a:ln w="28440">
            <a:solidFill>
              <a:srgbClr val="17375e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1" name=""/>
          <p:cNvGraphicFramePr/>
          <p:nvPr/>
        </p:nvGraphicFramePr>
        <p:xfrm>
          <a:off x="857160" y="1400040"/>
          <a:ext cx="7969320" cy="4629240"/>
        </p:xfrm>
        <a:graphic>
          <a:graphicData uri="http://schemas.openxmlformats.org/drawingml/2006/table">
            <a:tbl>
              <a:tblPr/>
              <a:tblGrid>
                <a:gridCol w="1540080"/>
                <a:gridCol w="1616040"/>
                <a:gridCol w="1182600"/>
                <a:gridCol w="1184400"/>
                <a:gridCol w="1263600"/>
                <a:gridCol w="1182600"/>
              </a:tblGrid>
              <a:tr h="66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mministrativ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sca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dad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rsona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dad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tocollo Segreter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dad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fert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scrizion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dad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mmagin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dada"/>
                    </a:solidFill>
                  </a:tcPr>
                </a:tc>
              </a:tr>
              <a:tr h="1574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empio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atture attiv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atture passiv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bro Giorna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gistri IV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gazzin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ched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bro unic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edolin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termin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libe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tocolli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C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diolog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rdiolog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mbulator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diolog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8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duzio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iornalier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nsi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iornalier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iornalier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iornalier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olumi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d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d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levat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ssiv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ssiv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05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ti LIR (CST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dad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ss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ss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rgen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.a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.a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gione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dad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d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ss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rgen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.a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.a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ziende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dad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ss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ss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rgen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.a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.a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nità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dad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d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ss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rgen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itic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1f2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rgen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</a:tbl>
          </a:graphicData>
        </a:graphic>
      </p:graphicFrame>
      <p:pic>
        <p:nvPicPr>
          <p:cNvPr id="472" name="Picture 1" descr=""/>
          <p:cNvPicPr/>
          <p:nvPr/>
        </p:nvPicPr>
        <p:blipFill>
          <a:blip r:embed="rId1"/>
          <a:srcRect l="0" t="0" r="76527" b="0"/>
          <a:stretch/>
        </p:blipFill>
        <p:spPr>
          <a:xfrm>
            <a:off x="484200" y="6248520"/>
            <a:ext cx="504720" cy="493560"/>
          </a:xfrm>
          <a:prstGeom prst="rect">
            <a:avLst/>
          </a:prstGeom>
          <a:ln w="0">
            <a:noFill/>
          </a:ln>
        </p:spPr>
      </p:pic>
      <p:sp>
        <p:nvSpPr>
          <p:cNvPr id="473" name="Segnaposto data 7"/>
          <p:cNvSpPr/>
          <p:nvPr/>
        </p:nvSpPr>
        <p:spPr>
          <a:xfrm>
            <a:off x="465120" y="6280200"/>
            <a:ext cx="803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7FD02-32AF-4FF2-ADF0-DA923E1C1E31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888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PAR LIGURIA</a:t>
            </a:r>
            <a:br>
              <a:rPr sz="2800"/>
            </a:b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Il Polo archivistico della Regione Ligu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37"/>
          <p:cNvSpPr/>
          <p:nvPr/>
        </p:nvSpPr>
        <p:spPr>
          <a:xfrm>
            <a:off x="2681280" y="6257880"/>
            <a:ext cx="5184720" cy="35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Calibri"/>
              </a:rPr>
              <a:t>I  FLUSSI  PRINCIPA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4"/>
          <p:cNvSpPr/>
          <p:nvPr/>
        </p:nvSpPr>
        <p:spPr>
          <a:xfrm>
            <a:off x="507960" y="2130480"/>
            <a:ext cx="2733840" cy="8650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egione Liguri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rotoco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ort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5"/>
          <p:cNvSpPr/>
          <p:nvPr/>
        </p:nvSpPr>
        <p:spPr>
          <a:xfrm>
            <a:off x="496800" y="3714840"/>
            <a:ext cx="2671920" cy="7207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ANITA’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- Referti di laborato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Group 26"/>
          <p:cNvGrpSpPr/>
          <p:nvPr/>
        </p:nvGrpSpPr>
        <p:grpSpPr>
          <a:xfrm>
            <a:off x="541440" y="5299200"/>
            <a:ext cx="2627280" cy="720720"/>
            <a:chOff x="541440" y="5299200"/>
            <a:chExt cx="2627280" cy="720720"/>
          </a:xfrm>
        </p:grpSpPr>
        <p:sp>
          <p:nvSpPr>
            <p:cNvPr id="479" name="Rectangle 6"/>
            <p:cNvSpPr/>
            <p:nvPr/>
          </p:nvSpPr>
          <p:spPr>
            <a:xfrm>
              <a:off x="541440" y="5299200"/>
              <a:ext cx="2627280" cy="72072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Comuni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- PE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Rectangle 7"/>
            <p:cNvSpPr/>
            <p:nvPr/>
          </p:nvSpPr>
          <p:spPr>
            <a:xfrm>
              <a:off x="1647720" y="5659560"/>
              <a:ext cx="1521000" cy="36036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Arial"/>
                </a:rPr>
                <a:t>PEC Manager P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1" name="Group 16"/>
          <p:cNvGrpSpPr/>
          <p:nvPr/>
        </p:nvGrpSpPr>
        <p:grpSpPr>
          <a:xfrm>
            <a:off x="6624720" y="2779560"/>
            <a:ext cx="2449440" cy="2303640"/>
            <a:chOff x="6624720" y="2779560"/>
            <a:chExt cx="2449440" cy="2303640"/>
          </a:xfrm>
        </p:grpSpPr>
        <p:sp>
          <p:nvSpPr>
            <p:cNvPr id="482" name="Rectangle 12"/>
            <p:cNvSpPr/>
            <p:nvPr/>
          </p:nvSpPr>
          <p:spPr>
            <a:xfrm>
              <a:off x="6840720" y="2779560"/>
              <a:ext cx="2232000" cy="20160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Rectangle 8"/>
            <p:cNvSpPr/>
            <p:nvPr/>
          </p:nvSpPr>
          <p:spPr>
            <a:xfrm>
              <a:off x="6624720" y="3066840"/>
              <a:ext cx="2232000" cy="20163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9"/>
            <p:cNvSpPr/>
            <p:nvPr/>
          </p:nvSpPr>
          <p:spPr>
            <a:xfrm>
              <a:off x="7201080" y="3498840"/>
              <a:ext cx="1152360" cy="10810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Line 10"/>
            <p:cNvSpPr/>
            <p:nvPr/>
          </p:nvSpPr>
          <p:spPr>
            <a:xfrm flipH="1">
              <a:off x="7200720" y="3498840"/>
              <a:ext cx="1152360" cy="10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Line 11"/>
            <p:cNvSpPr/>
            <p:nvPr/>
          </p:nvSpPr>
          <p:spPr>
            <a:xfrm flipH="1" flipV="1">
              <a:off x="7129080" y="3571920"/>
              <a:ext cx="129564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Line 13"/>
            <p:cNvSpPr/>
            <p:nvPr/>
          </p:nvSpPr>
          <p:spPr>
            <a:xfrm flipH="1">
              <a:off x="6624720" y="2779560"/>
              <a:ext cx="21600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Line 14"/>
            <p:cNvSpPr/>
            <p:nvPr/>
          </p:nvSpPr>
          <p:spPr>
            <a:xfrm flipH="1">
              <a:off x="8856720" y="2779560"/>
              <a:ext cx="21744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Line 15"/>
            <p:cNvSpPr/>
            <p:nvPr/>
          </p:nvSpPr>
          <p:spPr>
            <a:xfrm flipH="1">
              <a:off x="8856720" y="4795560"/>
              <a:ext cx="217440" cy="2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0" name="Group 23"/>
          <p:cNvGrpSpPr/>
          <p:nvPr/>
        </p:nvGrpSpPr>
        <p:grpSpPr>
          <a:xfrm>
            <a:off x="8048160" y="5362560"/>
            <a:ext cx="378000" cy="512280"/>
            <a:chOff x="8048160" y="5362560"/>
            <a:chExt cx="378000" cy="512280"/>
          </a:xfrm>
        </p:grpSpPr>
        <p:sp>
          <p:nvSpPr>
            <p:cNvPr id="491" name="Oval 17"/>
            <p:cNvSpPr/>
            <p:nvPr/>
          </p:nvSpPr>
          <p:spPr>
            <a:xfrm>
              <a:off x="8161920" y="5362560"/>
              <a:ext cx="189360" cy="127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Line 18"/>
            <p:cNvSpPr/>
            <p:nvPr/>
          </p:nvSpPr>
          <p:spPr>
            <a:xfrm>
              <a:off x="8236800" y="5490360"/>
              <a:ext cx="0" cy="32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Line 19"/>
            <p:cNvSpPr/>
            <p:nvPr/>
          </p:nvSpPr>
          <p:spPr>
            <a:xfrm flipH="1">
              <a:off x="8123040" y="5811480"/>
              <a:ext cx="114120" cy="6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Line 20"/>
            <p:cNvSpPr/>
            <p:nvPr/>
          </p:nvSpPr>
          <p:spPr>
            <a:xfrm>
              <a:off x="8236800" y="5811480"/>
              <a:ext cx="114120" cy="6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Line 21"/>
            <p:cNvSpPr/>
            <p:nvPr/>
          </p:nvSpPr>
          <p:spPr>
            <a:xfrm flipV="1">
              <a:off x="8236800" y="5458320"/>
              <a:ext cx="189360" cy="12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Line 22"/>
            <p:cNvSpPr/>
            <p:nvPr/>
          </p:nvSpPr>
          <p:spPr>
            <a:xfrm flipH="1" flipV="1">
              <a:off x="8048160" y="5490360"/>
              <a:ext cx="18828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7" name="Rectangle 24"/>
          <p:cNvSpPr/>
          <p:nvPr/>
        </p:nvSpPr>
        <p:spPr>
          <a:xfrm>
            <a:off x="5977080" y="2706840"/>
            <a:ext cx="504720" cy="2376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25"/>
          <p:cNvSpPr/>
          <p:nvPr/>
        </p:nvSpPr>
        <p:spPr>
          <a:xfrm>
            <a:off x="7453440" y="601992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onservat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27"/>
          <p:cNvSpPr/>
          <p:nvPr/>
        </p:nvSpPr>
        <p:spPr>
          <a:xfrm>
            <a:off x="439560" y="1266840"/>
            <a:ext cx="319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Verticali: predisposizione documenti per il conferi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28"/>
          <p:cNvSpPr/>
          <p:nvPr/>
        </p:nvSpPr>
        <p:spPr>
          <a:xfrm>
            <a:off x="5832360" y="1266840"/>
            <a:ext cx="34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onservazione: definizione regole e gest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Line 29"/>
          <p:cNvSpPr/>
          <p:nvPr/>
        </p:nvSpPr>
        <p:spPr>
          <a:xfrm>
            <a:off x="3457440" y="1843200"/>
            <a:ext cx="0" cy="43196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31"/>
          <p:cNvSpPr/>
          <p:nvPr/>
        </p:nvSpPr>
        <p:spPr>
          <a:xfrm>
            <a:off x="439560" y="3211560"/>
            <a:ext cx="22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nti SI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32"/>
          <p:cNvSpPr/>
          <p:nvPr/>
        </p:nvSpPr>
        <p:spPr>
          <a:xfrm>
            <a:off x="519120" y="4751280"/>
            <a:ext cx="22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nti C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33"/>
          <p:cNvSpPr/>
          <p:nvPr/>
        </p:nvSpPr>
        <p:spPr>
          <a:xfrm>
            <a:off x="3740040" y="1266840"/>
            <a:ext cx="174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trumenti di conferi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4"/>
          <p:cNvSpPr/>
          <p:nvPr/>
        </p:nvSpPr>
        <p:spPr>
          <a:xfrm>
            <a:off x="3816360" y="2274840"/>
            <a:ext cx="1657440" cy="503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onnett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AutoShape 37"/>
          <p:cNvSpPr/>
          <p:nvPr/>
        </p:nvSpPr>
        <p:spPr>
          <a:xfrm>
            <a:off x="3313080" y="5948280"/>
            <a:ext cx="360360" cy="358920"/>
          </a:xfrm>
          <a:prstGeom prst="foldedCorner">
            <a:avLst>
              <a:gd name="adj" fmla="val 125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AutoShape 38"/>
          <p:cNvSpPr/>
          <p:nvPr/>
        </p:nvSpPr>
        <p:spPr>
          <a:xfrm>
            <a:off x="3313080" y="4651200"/>
            <a:ext cx="360360" cy="358920"/>
          </a:xfrm>
          <a:prstGeom prst="foldedCorner">
            <a:avLst>
              <a:gd name="adj" fmla="val 125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AutoShape 39"/>
          <p:cNvSpPr/>
          <p:nvPr/>
        </p:nvSpPr>
        <p:spPr>
          <a:xfrm>
            <a:off x="3240000" y="4722840"/>
            <a:ext cx="360360" cy="358920"/>
          </a:xfrm>
          <a:prstGeom prst="foldedCorner">
            <a:avLst>
              <a:gd name="adj" fmla="val 125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AutoShape 40"/>
          <p:cNvSpPr/>
          <p:nvPr/>
        </p:nvSpPr>
        <p:spPr>
          <a:xfrm>
            <a:off x="3168720" y="4795920"/>
            <a:ext cx="360360" cy="358560"/>
          </a:xfrm>
          <a:prstGeom prst="foldedCorner">
            <a:avLst>
              <a:gd name="adj" fmla="val 125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0" name="Group 41"/>
          <p:cNvGrpSpPr/>
          <p:nvPr/>
        </p:nvGrpSpPr>
        <p:grpSpPr>
          <a:xfrm>
            <a:off x="1463760" y="6175440"/>
            <a:ext cx="241200" cy="372600"/>
            <a:chOff x="1463760" y="6175440"/>
            <a:chExt cx="241200" cy="372600"/>
          </a:xfrm>
        </p:grpSpPr>
        <p:sp>
          <p:nvSpPr>
            <p:cNvPr id="511" name="Oval 42"/>
            <p:cNvSpPr/>
            <p:nvPr/>
          </p:nvSpPr>
          <p:spPr>
            <a:xfrm>
              <a:off x="1536120" y="6175440"/>
              <a:ext cx="120960" cy="93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Line 43"/>
            <p:cNvSpPr/>
            <p:nvPr/>
          </p:nvSpPr>
          <p:spPr>
            <a:xfrm>
              <a:off x="1584000" y="6268680"/>
              <a:ext cx="0" cy="23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Line 44"/>
            <p:cNvSpPr/>
            <p:nvPr/>
          </p:nvSpPr>
          <p:spPr>
            <a:xfrm flipH="1">
              <a:off x="1511640" y="6501960"/>
              <a:ext cx="72720" cy="4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Line 45"/>
            <p:cNvSpPr/>
            <p:nvPr/>
          </p:nvSpPr>
          <p:spPr>
            <a:xfrm>
              <a:off x="1584000" y="6501960"/>
              <a:ext cx="72720" cy="4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Line 46"/>
            <p:cNvSpPr/>
            <p:nvPr/>
          </p:nvSpPr>
          <p:spPr>
            <a:xfrm flipV="1">
              <a:off x="1584000" y="6245280"/>
              <a:ext cx="120960" cy="9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Line 47"/>
            <p:cNvSpPr/>
            <p:nvPr/>
          </p:nvSpPr>
          <p:spPr>
            <a:xfrm flipH="1" flipV="1">
              <a:off x="1463760" y="6268680"/>
              <a:ext cx="120240" cy="6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7" name="Text Box 48"/>
          <p:cNvSpPr/>
          <p:nvPr/>
        </p:nvSpPr>
        <p:spPr>
          <a:xfrm>
            <a:off x="1757520" y="6035760"/>
            <a:ext cx="129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Utente di 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Line 49"/>
          <p:cNvSpPr/>
          <p:nvPr/>
        </p:nvSpPr>
        <p:spPr>
          <a:xfrm>
            <a:off x="5832360" y="1914480"/>
            <a:ext cx="0" cy="43196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Line 50"/>
          <p:cNvSpPr/>
          <p:nvPr/>
        </p:nvSpPr>
        <p:spPr>
          <a:xfrm flipV="1">
            <a:off x="3529080" y="5730840"/>
            <a:ext cx="28728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Line 51"/>
          <p:cNvSpPr/>
          <p:nvPr/>
        </p:nvSpPr>
        <p:spPr>
          <a:xfrm>
            <a:off x="3600360" y="5083200"/>
            <a:ext cx="216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Line 52"/>
          <p:cNvSpPr/>
          <p:nvPr/>
        </p:nvSpPr>
        <p:spPr>
          <a:xfrm flipV="1">
            <a:off x="5473800" y="4579920"/>
            <a:ext cx="5032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Line 53"/>
          <p:cNvSpPr/>
          <p:nvPr/>
        </p:nvSpPr>
        <p:spPr>
          <a:xfrm>
            <a:off x="5473800" y="400356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Line 54"/>
          <p:cNvSpPr/>
          <p:nvPr/>
        </p:nvSpPr>
        <p:spPr>
          <a:xfrm>
            <a:off x="3168720" y="40752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Line 55"/>
          <p:cNvSpPr/>
          <p:nvPr/>
        </p:nvSpPr>
        <p:spPr>
          <a:xfrm>
            <a:off x="3240000" y="24908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Line 56"/>
          <p:cNvSpPr/>
          <p:nvPr/>
        </p:nvSpPr>
        <p:spPr>
          <a:xfrm>
            <a:off x="5473800" y="249084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6" name="Gruppo 70"/>
          <p:cNvGrpSpPr/>
          <p:nvPr/>
        </p:nvGrpSpPr>
        <p:grpSpPr>
          <a:xfrm>
            <a:off x="3239280" y="2922120"/>
            <a:ext cx="4466520" cy="3097800"/>
            <a:chOff x="3239280" y="2922120"/>
            <a:chExt cx="4466520" cy="3097800"/>
          </a:xfrm>
        </p:grpSpPr>
        <p:sp>
          <p:nvSpPr>
            <p:cNvPr id="527" name="Rectangle 35"/>
            <p:cNvSpPr/>
            <p:nvPr/>
          </p:nvSpPr>
          <p:spPr>
            <a:xfrm>
              <a:off x="6048000" y="5371560"/>
              <a:ext cx="1657800" cy="648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Serviz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8" name="Connettore 2 58"/>
            <p:cNvCxnSpPr/>
            <p:nvPr/>
          </p:nvCxnSpPr>
          <p:spPr>
            <a:xfrm flipH="1">
              <a:off x="7056360" y="5085000"/>
              <a:ext cx="2160" cy="2880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triangle" w="med"/>
            </a:ln>
          </p:spPr>
        </p:cxnSp>
        <p:cxnSp>
          <p:nvCxnSpPr>
            <p:cNvPr id="529" name="Connettore 2 60"/>
            <p:cNvCxnSpPr/>
            <p:nvPr/>
          </p:nvCxnSpPr>
          <p:spPr>
            <a:xfrm flipH="1" flipV="1">
              <a:off x="3310920" y="2922120"/>
              <a:ext cx="2666160" cy="259344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triangle" w="med"/>
            </a:ln>
          </p:spPr>
        </p:cxnSp>
        <p:cxnSp>
          <p:nvCxnSpPr>
            <p:cNvPr id="530" name="Connettore 2 62"/>
            <p:cNvCxnSpPr/>
            <p:nvPr/>
          </p:nvCxnSpPr>
          <p:spPr>
            <a:xfrm flipH="1" flipV="1">
              <a:off x="3239280" y="4290120"/>
              <a:ext cx="2737800" cy="136908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triangle" w="med"/>
            </a:ln>
          </p:spPr>
        </p:cxnSp>
        <p:cxnSp>
          <p:nvCxnSpPr>
            <p:cNvPr id="531" name="Connettore 2 66"/>
            <p:cNvCxnSpPr/>
            <p:nvPr/>
          </p:nvCxnSpPr>
          <p:spPr>
            <a:xfrm flipH="1" flipV="1">
              <a:off x="3239280" y="5659200"/>
              <a:ext cx="2737800" cy="14472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triangle" w="med"/>
            </a:ln>
          </p:spPr>
        </p:cxnSp>
      </p:grpSp>
      <p:sp>
        <p:nvSpPr>
          <p:cNvPr id="532" name="Rectangle 35"/>
          <p:cNvSpPr/>
          <p:nvPr/>
        </p:nvSpPr>
        <p:spPr>
          <a:xfrm>
            <a:off x="3816360" y="3714840"/>
            <a:ext cx="1657440" cy="649080"/>
          </a:xfrm>
          <a:prstGeom prst="rect">
            <a:avLst/>
          </a:prstGeom>
          <a:solidFill>
            <a:srgbClr val="ffff00">
              <a:alpha val="6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onnett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36"/>
          <p:cNvSpPr/>
          <p:nvPr/>
        </p:nvSpPr>
        <p:spPr>
          <a:xfrm>
            <a:off x="3816360" y="5156280"/>
            <a:ext cx="1657440" cy="792000"/>
          </a:xfrm>
          <a:prstGeom prst="rect">
            <a:avLst/>
          </a:prstGeom>
          <a:solidFill>
            <a:srgbClr val="ffff00">
              <a:alpha val="6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We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Segnaposto piè di pagina 7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Picture 1" descr=""/>
          <p:cNvPicPr/>
          <p:nvPr/>
        </p:nvPicPr>
        <p:blipFill>
          <a:blip r:embed="rId1"/>
          <a:srcRect l="0" t="0" r="76527" b="0"/>
          <a:stretch/>
        </p:blipFill>
        <p:spPr>
          <a:xfrm>
            <a:off x="484200" y="6248520"/>
            <a:ext cx="504720" cy="493560"/>
          </a:xfrm>
          <a:prstGeom prst="rect">
            <a:avLst/>
          </a:prstGeom>
          <a:ln w="0">
            <a:noFill/>
          </a:ln>
        </p:spPr>
      </p:pic>
      <p:sp>
        <p:nvSpPr>
          <p:cNvPr id="536" name="Segnaposto data 7"/>
          <p:cNvSpPr/>
          <p:nvPr/>
        </p:nvSpPr>
        <p:spPr>
          <a:xfrm>
            <a:off x="465120" y="6280200"/>
            <a:ext cx="803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27980-B8DE-466F-AD9E-72CB496704C6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888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PAR LIGURIA</a:t>
            </a:r>
            <a:br>
              <a:rPr sz="2800"/>
            </a:b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Il Polo archivistico della Regione Ligu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6836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254061"/>
                </a:solidFill>
                <a:latin typeface="Arial"/>
              </a:rPr>
              <a:t>PAR LIGURIA</a:t>
            </a:r>
            <a:br>
              <a:rPr sz="2800"/>
            </a:br>
            <a:br>
              <a:rPr sz="2800"/>
            </a:br>
            <a:r>
              <a:rPr b="1" lang="it-IT" sz="2800" spc="-1" strike="noStrike">
                <a:solidFill>
                  <a:srgbClr val="254061"/>
                </a:solidFill>
                <a:latin typeface="Arial"/>
              </a:rPr>
              <a:t>Il Polo archivistico della Regione Ligu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Immagine 3" descr="Stemma_Liguria.gif"/>
          <p:cNvPicPr/>
          <p:nvPr/>
        </p:nvPicPr>
        <p:blipFill>
          <a:blip r:embed="rId1"/>
          <a:srcRect l="17460" t="11379" r="26379" b="14621"/>
          <a:stretch/>
        </p:blipFill>
        <p:spPr>
          <a:xfrm>
            <a:off x="4075200" y="22320"/>
            <a:ext cx="936360" cy="1173240"/>
          </a:xfrm>
          <a:prstGeom prst="rect">
            <a:avLst/>
          </a:prstGeom>
          <a:ln w="0">
            <a:noFill/>
          </a:ln>
        </p:spPr>
      </p:pic>
      <p:sp>
        <p:nvSpPr>
          <p:cNvPr id="540" name="CasellaDiTesto 8"/>
          <p:cNvSpPr/>
          <p:nvPr/>
        </p:nvSpPr>
        <p:spPr>
          <a:xfrm>
            <a:off x="2556000" y="4437000"/>
            <a:ext cx="42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rrado T. Confaloni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1" name="Picture 1" descr=""/>
          <p:cNvPicPr/>
          <p:nvPr/>
        </p:nvPicPr>
        <p:blipFill>
          <a:blip r:embed="rId2"/>
          <a:stretch/>
        </p:blipFill>
        <p:spPr>
          <a:xfrm>
            <a:off x="3940200" y="5038560"/>
            <a:ext cx="1473120" cy="338400"/>
          </a:xfrm>
          <a:prstGeom prst="rect">
            <a:avLst/>
          </a:prstGeom>
          <a:ln w="0">
            <a:noFill/>
          </a:ln>
        </p:spPr>
      </p:pic>
      <p:pic>
        <p:nvPicPr>
          <p:cNvPr id="542" name="Immagine 3" descr="Stemma_Liguria.gif"/>
          <p:cNvPicPr/>
          <p:nvPr/>
        </p:nvPicPr>
        <p:blipFill>
          <a:blip r:embed="rId3"/>
          <a:srcRect l="17460" t="11379" r="26379" b="14621"/>
          <a:stretch/>
        </p:blipFill>
        <p:spPr>
          <a:xfrm>
            <a:off x="4086360" y="0"/>
            <a:ext cx="936360" cy="117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687240" y="138744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ff0000"/>
                </a:solidFill>
                <a:uFillTx/>
                <a:latin typeface="Arial"/>
              </a:rPr>
              <a:t>Perché un Polo archivis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deguamento alle normative sulla semplificazione che obbligano le PA a comunicare attraverso lo scambio di documenti digitali con valore lega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1998 - leggi "Bassanin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2000 - DLGS semplificazione (Protocollo e gestione documenta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2004 - Codice dei beni cultura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2005 – 2011 - Codice dell'Amministrazione digit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2008/2009 - Decreti e leggi sulla semplificazione e sulla "digitalizzazione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2011 – Norme tecniche del CAD (art. 7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Norme e standard UE e internaziona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Segnaposto piè di pagina 8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Segnaposto data 7"/>
          <p:cNvSpPr/>
          <p:nvPr/>
        </p:nvSpPr>
        <p:spPr>
          <a:xfrm>
            <a:off x="511200" y="6257880"/>
            <a:ext cx="803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818E4-1299-4F06-A1D9-401BE87F6A0A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888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PAR LIGURIA</a:t>
            </a:r>
            <a:br>
              <a:rPr sz="2800"/>
            </a:b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Il Polo archivistico della Regione Ligu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1" descr=""/>
          <p:cNvPicPr/>
          <p:nvPr/>
        </p:nvPicPr>
        <p:blipFill>
          <a:blip r:embed="rId1"/>
          <a:srcRect l="0" t="0" r="76527" b="0"/>
          <a:stretch/>
        </p:blipFill>
        <p:spPr>
          <a:xfrm>
            <a:off x="490680" y="6254640"/>
            <a:ext cx="504720" cy="493920"/>
          </a:xfrm>
          <a:prstGeom prst="rect">
            <a:avLst/>
          </a:prstGeom>
          <a:ln w="0">
            <a:noFill/>
          </a:ln>
        </p:spPr>
      </p:pic>
      <p:sp>
        <p:nvSpPr>
          <p:cNvPr id="242" name="Segnaposto data 7"/>
          <p:cNvSpPr/>
          <p:nvPr/>
        </p:nvSpPr>
        <p:spPr>
          <a:xfrm>
            <a:off x="539640" y="6297480"/>
            <a:ext cx="803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E39B3-07BA-41AE-AD56-CF7E023AC99E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477720" y="1589040"/>
            <a:ext cx="8493120" cy="436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ff0000"/>
                </a:solidFill>
                <a:uFillTx/>
                <a:latin typeface="Arial"/>
              </a:rPr>
              <a:t>Perché un Polo archivis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Miglioramento dell'efficienza ed efficacia amministra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ontenere la spesa per l'Amministr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Modernizzazione - Razionalizzazione dei flussi e dei processi amministrativi – qualità all’origine e valore aggiu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Estendere i servizi telematici per cittadini, professionisti e impre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it-IT" sz="2200" spc="-1" strike="noStrike">
                <a:solidFill>
                  <a:srgbClr val="000000"/>
                </a:solidFill>
                <a:latin typeface="Arial"/>
              </a:rPr>
              <a:t>anche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...   </a:t>
            </a:r>
            <a:r>
              <a:rPr b="0" i="1" lang="it-IT" sz="2200" spc="-1" strike="noStrike">
                <a:solidFill>
                  <a:srgbClr val="000000"/>
                </a:solidFill>
                <a:latin typeface="Arial"/>
              </a:rPr>
              <a:t>evitare le sanzioni che per la prima volta sono prefigurate a danno degli Enti inadempienti (nuovo CA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egnaposto piè di pagina 8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1" descr=""/>
          <p:cNvPicPr/>
          <p:nvPr/>
        </p:nvPicPr>
        <p:blipFill>
          <a:blip r:embed="rId1"/>
          <a:srcRect l="0" t="0" r="76527" b="0"/>
          <a:stretch/>
        </p:blipFill>
        <p:spPr>
          <a:xfrm>
            <a:off x="484200" y="6248520"/>
            <a:ext cx="504720" cy="493560"/>
          </a:xfrm>
          <a:prstGeom prst="rect">
            <a:avLst/>
          </a:prstGeom>
          <a:ln w="0">
            <a:noFill/>
          </a:ln>
        </p:spPr>
      </p:pic>
      <p:sp>
        <p:nvSpPr>
          <p:cNvPr id="246" name="Segnaposto data 7"/>
          <p:cNvSpPr/>
          <p:nvPr/>
        </p:nvSpPr>
        <p:spPr>
          <a:xfrm>
            <a:off x="522360" y="6280200"/>
            <a:ext cx="803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04276-392F-4F63-9F1A-960B688D5B19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888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PAR LIGURIA</a:t>
            </a:r>
            <a:br>
              <a:rPr sz="2800"/>
            </a:b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Il Polo archivistico della Regione Ligu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1083960" y="1422360"/>
            <a:ext cx="7799400" cy="49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ff0000"/>
                </a:solidFill>
                <a:uFillTx/>
                <a:latin typeface="Arial"/>
              </a:rPr>
              <a:t>Cosa è il Polo archivis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l PAR è l'archivio unico di "concentrazione" che gestirà a livello regionale la conservazione dei documenti informatici degli enti produttori e della pubblica Amministrazione lig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l PAR si configura come un archivio di deposito unico di tipo federato a cui gli enti produttori e aderenti conferiscono i propri archivi, mantenendo il controllo sul processo di conservazione e usufruendo al contempo di un servizio di alto livello professionale, sia tecnologico sia archivist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Segnaposto piè di pagina 8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1" descr=""/>
          <p:cNvPicPr/>
          <p:nvPr/>
        </p:nvPicPr>
        <p:blipFill>
          <a:blip r:embed="rId1"/>
          <a:srcRect l="0" t="0" r="76527" b="0"/>
          <a:stretch/>
        </p:blipFill>
        <p:spPr>
          <a:xfrm>
            <a:off x="484200" y="6248520"/>
            <a:ext cx="504720" cy="493560"/>
          </a:xfrm>
          <a:prstGeom prst="rect">
            <a:avLst/>
          </a:prstGeom>
          <a:ln w="0">
            <a:noFill/>
          </a:ln>
        </p:spPr>
      </p:pic>
      <p:sp>
        <p:nvSpPr>
          <p:cNvPr id="251" name="Segnaposto data 7"/>
          <p:cNvSpPr/>
          <p:nvPr/>
        </p:nvSpPr>
        <p:spPr>
          <a:xfrm>
            <a:off x="522360" y="6280200"/>
            <a:ext cx="803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71FC7-6198-4FD7-A40C-054AF2FBE8E9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888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PAR LIGURIA</a:t>
            </a:r>
            <a:br>
              <a:rPr sz="2800"/>
            </a:b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Il Polo archivistico della Regione Ligu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790560" y="1429920"/>
            <a:ext cx="80820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ff0000"/>
                </a:solidFill>
                <a:uFillTx/>
                <a:latin typeface="Arial"/>
              </a:rPr>
              <a:t>Cosa è il Polo archivis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l PAR è una componente essenziale delle "infrastrutture abilitanti" che devono essere realizzate nell'ambito del Centro Servizi Territoriali della Liguria (CST Ligur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l PAR utilizzerà standard e competenze già sviluppate e in via di realizzazione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onvenzione con Regione Emilia-Romagna - PAR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ooperazione in ambito CISIS (Pro.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ooperazione DIT – gruppi di lavoro sul C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esiti dei progetti di rilevanza nazionale e internazion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Segnaposto piè di pagina 8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1" descr=""/>
          <p:cNvPicPr/>
          <p:nvPr/>
        </p:nvPicPr>
        <p:blipFill>
          <a:blip r:embed="rId1"/>
          <a:srcRect l="0" t="0" r="76527" b="0"/>
          <a:stretch/>
        </p:blipFill>
        <p:spPr>
          <a:xfrm>
            <a:off x="484200" y="6248520"/>
            <a:ext cx="504720" cy="493560"/>
          </a:xfrm>
          <a:prstGeom prst="rect">
            <a:avLst/>
          </a:prstGeom>
          <a:ln w="0">
            <a:noFill/>
          </a:ln>
        </p:spPr>
      </p:pic>
      <p:sp>
        <p:nvSpPr>
          <p:cNvPr id="256" name="Segnaposto data 7"/>
          <p:cNvSpPr/>
          <p:nvPr/>
        </p:nvSpPr>
        <p:spPr>
          <a:xfrm>
            <a:off x="522360" y="6280200"/>
            <a:ext cx="803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6F0D7-37F8-4CB3-92AA-0A8FAB858BF7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888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PAR LIGURIA</a:t>
            </a:r>
            <a:br>
              <a:rPr sz="2800"/>
            </a:b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Il Polo archivistico della Regione Ligu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803160" y="1523880"/>
            <a:ext cx="8104320" cy="453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ff0000"/>
                </a:solidFill>
                <a:uFillTx/>
                <a:latin typeface="Arial"/>
              </a:rPr>
              <a:t>I principi fondamentali del Polo archivis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Modello organizzativo, normativo e giuridico dell'archivio di concentr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Natura pubblica del Po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ustodia ininterrotta e affidab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eparazione fra ambiente di gestione e ambiente di conserv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ogica di concentrazione e di elevata specializz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Valore aggiunto, sperimentazione e ricerca continu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Segnaposto piè di pagina 8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1" descr=""/>
          <p:cNvPicPr/>
          <p:nvPr/>
        </p:nvPicPr>
        <p:blipFill>
          <a:blip r:embed="rId1"/>
          <a:srcRect l="0" t="0" r="76527" b="0"/>
          <a:stretch/>
        </p:blipFill>
        <p:spPr>
          <a:xfrm>
            <a:off x="484200" y="6248520"/>
            <a:ext cx="504720" cy="493560"/>
          </a:xfrm>
          <a:prstGeom prst="rect">
            <a:avLst/>
          </a:prstGeom>
          <a:ln w="0">
            <a:noFill/>
          </a:ln>
        </p:spPr>
      </p:pic>
      <p:sp>
        <p:nvSpPr>
          <p:cNvPr id="261" name="Segnaposto data 7"/>
          <p:cNvSpPr/>
          <p:nvPr/>
        </p:nvSpPr>
        <p:spPr>
          <a:xfrm>
            <a:off x="522360" y="6280200"/>
            <a:ext cx="803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01C06-1814-4F00-9C73-8B29C868D683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888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PAR LIGURIA</a:t>
            </a:r>
            <a:br>
              <a:rPr sz="2800"/>
            </a:b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Il Polo archivistico della Regione Ligu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803160" y="1360440"/>
            <a:ext cx="8104320" cy="512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ff0000"/>
                </a:solidFill>
                <a:uFillTx/>
                <a:latin typeface="Arial"/>
              </a:rPr>
              <a:t>I principi fondamentali del Polo archivis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Rigore vs. pras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Valutare e sostenere il “ragionevole rischio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Equilibrare il rigore della norma con la spinta del merc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onfrontarsi sistematicamente con le buone pratiche riscont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gire con “coraggio controllato” pur in presenza d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un quadro giurisprudenziale immaturo in un ambito giuridico formalmente intransigent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nvestimenti insufficienti (CAD: innovazione radicale a spesa costan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egnaposto piè di pagina 8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1" descr=""/>
          <p:cNvPicPr/>
          <p:nvPr/>
        </p:nvPicPr>
        <p:blipFill>
          <a:blip r:embed="rId1"/>
          <a:srcRect l="0" t="0" r="76527" b="0"/>
          <a:stretch/>
        </p:blipFill>
        <p:spPr>
          <a:xfrm>
            <a:off x="484200" y="6248520"/>
            <a:ext cx="504720" cy="493560"/>
          </a:xfrm>
          <a:prstGeom prst="rect">
            <a:avLst/>
          </a:prstGeom>
          <a:ln w="0">
            <a:noFill/>
          </a:ln>
        </p:spPr>
      </p:pic>
      <p:sp>
        <p:nvSpPr>
          <p:cNvPr id="266" name="Segnaposto data 7"/>
          <p:cNvSpPr/>
          <p:nvPr/>
        </p:nvSpPr>
        <p:spPr>
          <a:xfrm>
            <a:off x="522360" y="6280200"/>
            <a:ext cx="803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26D1C-BF9C-4490-9035-65ABC5E1B1B0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88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PAR LIGURIA</a:t>
            </a:r>
            <a:br>
              <a:rPr sz="2800"/>
            </a:b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Il Polo archivistico della Regione Ligu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761760" y="1474920"/>
            <a:ext cx="8008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ff0000"/>
                </a:solidFill>
                <a:uFillTx/>
                <a:latin typeface="Arial"/>
              </a:rPr>
              <a:t>I  soggetti del Polo archivis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54144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Enti produttori aderenti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: trasmettono al polo i documenti e i fascicoli da conservare, in continuità con il processo di gestione documentale iniziato nella fase corrente all'interno delle strut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54144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PAR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: riceve i documenti i fascicoli dei diversi produttori e garantisce la corretta conservazione anche a lungo termine, avvalendosi della strumentazione tecnologica dedicata.  Il ruolo di realizzatore e gestore delle infrastrutture e dei servizi è assunto da Datasiel, azienda in house della Regione Ligu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egnaposto piè di pagina 8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1" descr=""/>
          <p:cNvPicPr/>
          <p:nvPr/>
        </p:nvPicPr>
        <p:blipFill>
          <a:blip r:embed="rId1"/>
          <a:srcRect l="0" t="0" r="76527" b="0"/>
          <a:stretch/>
        </p:blipFill>
        <p:spPr>
          <a:xfrm>
            <a:off x="484200" y="6248520"/>
            <a:ext cx="504720" cy="493560"/>
          </a:xfrm>
          <a:prstGeom prst="rect">
            <a:avLst/>
          </a:prstGeom>
          <a:ln w="0">
            <a:noFill/>
          </a:ln>
        </p:spPr>
      </p:pic>
      <p:sp>
        <p:nvSpPr>
          <p:cNvPr id="271" name="Segnaposto data 7"/>
          <p:cNvSpPr/>
          <p:nvPr/>
        </p:nvSpPr>
        <p:spPr>
          <a:xfrm>
            <a:off x="522360" y="6280200"/>
            <a:ext cx="803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5D49D-90AE-4AE1-905F-E58E48525163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888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PAR LIGURIA</a:t>
            </a:r>
            <a:br>
              <a:rPr sz="2800"/>
            </a:b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Il Polo archivistico della Regione Ligu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6T14:41:53Z</dcterms:created>
  <dc:creator>---</dc:creator>
  <dc:description/>
  <dc:language>en-US</dc:language>
  <cp:lastModifiedBy>Confalonieri Corrado</cp:lastModifiedBy>
  <dcterms:modified xsi:type="dcterms:W3CDTF">2011-04-12T09:47:23Z</dcterms:modified>
  <cp:revision>62</cp:revision>
  <dc:subject/>
  <dc:title>Diapositiva 1</dc:title>
</cp:coreProperties>
</file>