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AE29-435F-40A5-B4C5-671F5068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DE55-BCF1-4F1F-968A-95354348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A16B-11D5-4460-B022-2A055D38A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631D-6B70-4750-8218-7FA5D8A40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804E-6DA1-438C-81DF-FD122A20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F34F-C304-4707-91EC-230F3BC7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52BC-F162-46C5-BBE9-C8FD5203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0AEF-F879-44DA-9639-1275E645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23E9-F78B-41D7-921A-5B0D096F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7166-E632-49C6-9EA1-01695401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8A18-1911-4DFE-9A29-FBACBCBD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2AE9-7665-4228-BE3D-8467549A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90E8-9D59-4865-811C-9134D45D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F906-9671-4B0C-8191-55EDA447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8440-6915-4A44-BCA0-D72F192B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DA3C-9A35-45B3-BB1D-D4E028AFB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DCB8-B784-4C5D-A8D2-C76AB4A63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50C5C-BAAE-4039-A3D9-F87C155AF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116EB-6AFB-4A1D-9539-E5608676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0EAB5-3731-4349-895F-4ABBB2F6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A6C26-011C-47FE-8A91-7C6392EA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F737E-DCA0-4364-A8C1-94BEFBD1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9F8D-95D5-486B-9E24-25C976A3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7FED5-90BE-4C09-939E-5D169436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1D234-DCE7-4A95-B622-48ED5AF2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59F47-45BD-4B68-A5BE-36C59A0E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895A4-8606-4236-BC6E-6CA832C0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42E58-44BC-4CEF-AF8C-9580E8C5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800CA-B246-45E1-8A04-F9BE7397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38C91-E409-424D-829E-7F62CCA3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CE196-0074-45ED-87E3-5014DBF3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896A0-2679-4CB9-9990-E1D03CEA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AC7AA-F9BD-4599-A044-89BF6CF1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45FC-D40C-4402-9A3A-ABC61611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43B9D-2B54-462A-A600-BFE5A4F4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6E65A-CB89-4AAA-ADB5-07231CFA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5F123-0926-4E92-9078-988ED887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623CE-97D6-4797-B84F-3DA86560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66BBB-22FA-4CA8-B87E-F23752AF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E0192-328D-43C0-8D60-84B85FFD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2E2EB-61F6-4D4A-9D9F-67694A0B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9F26C-69D0-4B49-BB8E-82BD7354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8BD80-5938-4B88-BD8C-6C3A6BD3F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88D6F-C3E2-4BC5-A45F-2222D462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3DCF-32B3-4885-AA08-A55C4B39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A36D3-1869-4CF4-BCC7-238ACCE2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97002-2B2E-4BEA-828D-DB9AF50F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16B4A-37C7-46E8-9A3E-F525AD9D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05B43-D55D-4B7E-84A0-5963CEAE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653C2-0CDE-41DE-ADBF-F85C585B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CF028-283B-4AC7-BC37-7A1ABBB3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E78B3-1768-40A4-9B6B-676287A5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27BE6-A97E-4FAB-BCCD-051AC4E0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C4C25-4791-4E8E-8507-977E5FBC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1942F-006D-4DAE-88C3-D68B0249C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5A19-5BB0-4743-8E0A-3BFC76DD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143AA-4096-4C66-9D6F-1C0A98F4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59E2-0C0F-4C1B-A97C-548CF2A7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D7C3-E070-49B0-AF0B-DCFD0214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AB38-5342-44F2-BA7A-4A36BB2A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C055-3944-4489-87CA-5B00175054E4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\\srvfile01\progetti\RER\sitoParER\Convegno ParER\Grafica\Immagine\Sfondo-per-ppt.jpg"/>
          <p:cNvPicPr/>
          <p:nvPr/>
        </p:nvPicPr>
        <p:blipFill>
          <a:blip r:embed="rId2"/>
          <a:stretch/>
        </p:blipFill>
        <p:spPr>
          <a:xfrm>
            <a:off x="0" y="-9360"/>
            <a:ext cx="915336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Rettangolo 10"/>
          <p:cNvSpPr/>
          <p:nvPr/>
        </p:nvSpPr>
        <p:spPr>
          <a:xfrm>
            <a:off x="-3240" y="3500280"/>
            <a:ext cx="9217080" cy="3411720"/>
          </a:xfrm>
          <a:prstGeom prst="rect">
            <a:avLst/>
          </a:prstGeom>
          <a:solidFill>
            <a:srgbClr val="26326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ttangolo 6"/>
          <p:cNvSpPr/>
          <p:nvPr/>
        </p:nvSpPr>
        <p:spPr>
          <a:xfrm>
            <a:off x="0" y="-27000"/>
            <a:ext cx="9194760" cy="1295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9394-DECD-4531-9C79-0BB51C2F1524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srvfile01\progetti\RER\sitoParER\Convegno ParER\Grafica\Immagine\Sfondo-per-ppt.jpg"/>
          <p:cNvPicPr/>
          <p:nvPr/>
        </p:nvPicPr>
        <p:blipFill>
          <a:blip r:embed="rId2"/>
          <a:stretch/>
        </p:blipFill>
        <p:spPr>
          <a:xfrm>
            <a:off x="0" y="-9360"/>
            <a:ext cx="9153360" cy="6867360"/>
          </a:xfrm>
          <a:prstGeom prst="rect">
            <a:avLst/>
          </a:prstGeom>
          <a:ln w="0">
            <a:noFill/>
          </a:ln>
        </p:spPr>
      </p:pic>
      <p:sp>
        <p:nvSpPr>
          <p:cNvPr id="86" name="Rettangolo 6"/>
          <p:cNvSpPr/>
          <p:nvPr/>
        </p:nvSpPr>
        <p:spPr>
          <a:xfrm>
            <a:off x="468360" y="1241280"/>
            <a:ext cx="8712000" cy="56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ttangolo 8"/>
          <p:cNvSpPr/>
          <p:nvPr/>
        </p:nvSpPr>
        <p:spPr>
          <a:xfrm>
            <a:off x="0" y="-17640"/>
            <a:ext cx="9194760" cy="1295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E882-EB64-4CAC-AEDC-66A80DECF257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\\srvfile01\progetti\RER\sitoParER\Convegno ParER\Grafica\Immagine\Sfondo-per-ppt.jpg"/>
          <p:cNvPicPr/>
          <p:nvPr/>
        </p:nvPicPr>
        <p:blipFill>
          <a:blip r:embed="rId2"/>
          <a:stretch/>
        </p:blipFill>
        <p:spPr>
          <a:xfrm>
            <a:off x="0" y="-9360"/>
            <a:ext cx="9153360" cy="6867360"/>
          </a:xfrm>
          <a:prstGeom prst="rect">
            <a:avLst/>
          </a:prstGeom>
          <a:ln w="0">
            <a:noFill/>
          </a:ln>
        </p:spPr>
      </p:pic>
      <p:sp>
        <p:nvSpPr>
          <p:cNvPr id="130" name="Rettangolo 6"/>
          <p:cNvSpPr/>
          <p:nvPr/>
        </p:nvSpPr>
        <p:spPr>
          <a:xfrm>
            <a:off x="0" y="1484280"/>
            <a:ext cx="918036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ttangolo 7"/>
          <p:cNvSpPr/>
          <p:nvPr/>
        </p:nvSpPr>
        <p:spPr>
          <a:xfrm>
            <a:off x="-36360" y="-27000"/>
            <a:ext cx="9216720" cy="1511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DD43-E6FE-45C5-A07D-ACD39C3166AB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\\srvfile01\progetti\RER\sitoParER\Convegno ParER\Grafica\Immagine\Sfondo-per-ppt.jpg"/>
          <p:cNvPicPr/>
          <p:nvPr/>
        </p:nvPicPr>
        <p:blipFill>
          <a:blip r:embed="rId2"/>
          <a:stretch/>
        </p:blipFill>
        <p:spPr>
          <a:xfrm>
            <a:off x="0" y="-9360"/>
            <a:ext cx="9153360" cy="6867360"/>
          </a:xfrm>
          <a:prstGeom prst="rect">
            <a:avLst/>
          </a:prstGeom>
          <a:ln w="0">
            <a:noFill/>
          </a:ln>
        </p:spPr>
      </p:pic>
      <p:sp>
        <p:nvSpPr>
          <p:cNvPr id="174" name="Rettangolo 6"/>
          <p:cNvSpPr/>
          <p:nvPr/>
        </p:nvSpPr>
        <p:spPr>
          <a:xfrm>
            <a:off x="0" y="-27000"/>
            <a:ext cx="7093080" cy="62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ttangolo 7"/>
          <p:cNvSpPr/>
          <p:nvPr/>
        </p:nvSpPr>
        <p:spPr>
          <a:xfrm>
            <a:off x="6516720" y="-27000"/>
            <a:ext cx="2663640" cy="62643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ACB2-663D-4F2F-B611-4913EF99F2F6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it/imgres?imgurl=http://www.ecodimilano.com/data/ecodimilano/computer.gif&amp;imgrefurl=http://www.ecodimilano.com/archivio/200808&amp;usg=__QH0LUY4PiMJuG44M0tiZksWRCfc=&amp;h=400&amp;w=370&amp;sz=11&amp;hl=it&amp;start=4&amp;zoom=1&amp;itbs=1&amp;tbnid=Ki9GTOIndmf5IM:&amp;tbnh=124&amp;tbnw=115&amp;prev=/images%3Fq%3Dcomputer%26hl%3Dit%26sa%3DN%26gbv%3D2%26ndsp%3D20%26tbs%3Disch:1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google.it/imgres?imgurl=http://www.ctaservice.net/img/utenti.png&amp;imgrefurl=http://www.ctaservice.net/&amp;usg=__5idgAEY1UUPjyflpXspRW5ElbTs=&amp;h=35&amp;w=40&amp;sz=3&amp;hl=it&amp;start=9&amp;zoom=1&amp;itbs=1&amp;tbnid=COe1fu3fXMgNjM:&amp;tbnh=35&amp;tbnw=40&amp;prev=/images%3Fq%3Dutenti%26hl%3Dit%26gbv%3D2%26tbs%3Disch:1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www.google.it/imgres?imgurl=http://www.sermax.it/img/nuvola.jpg&amp;imgrefurl=http://www.sermax.it/dettaglio_popshirt.php&amp;usg=___arrprF2m3-3ym9-O4wWdl4yJsg=&amp;h=451&amp;w=500&amp;sz=29&amp;hl=it&amp;start=27&amp;zoom=1&amp;itbs=1&amp;tbnid=E2G1fS5R7rVn-M:&amp;tbnh=117&amp;tbnw=130&amp;prev=/images%3Fq%3Dnuvola%26start%3D20%26hl%3Dit%26sa%3DN%26gbv%3D2%26ndsp%3D20%26tbs%3Disch:1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www.google.it/imgres?imgurl=http://www.studca.it/img/professionisti.jpg&amp;imgrefurl=http://www.studca.it/professionisti.php&amp;usg=__fx7tnXU_xODyO6MTlAJG75jVfD8=&amp;h=253&amp;w=553&amp;sz=18&amp;hl=it&amp;start=2&amp;zoom=1&amp;itbs=1&amp;tbnid=4EICLh1XtLNKiM:&amp;tbnh=61&amp;tbnw=133&amp;prev=/images%3Fq%3Dprofessionisti%26hl%3Dit%26gbv%3D2%26tbs%3Disch:1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www.google.it/imgres?imgurl=http://www.ecodimilano.com/data/ecodimilano/computer.gif&amp;imgrefurl=http://www.ecodimilano.com/archivio/200808&amp;usg=__QH0LUY4PiMJuG44M0tiZksWRCfc=&amp;h=400&amp;w=370&amp;sz=11&amp;hl=it&amp;start=4&amp;zoom=1&amp;itbs=1&amp;tbnid=Ki9GTOIndmf5IM:&amp;tbnh=124&amp;tbnw=115&amp;prev=/images%3Fq%3Dcomputer%26hl%3Dit%26sa%3DN%26gbv%3D2%26ndsp%3D20%26tbs%3Disch:1" TargetMode="External"/><Relationship Id="rId10" Type="http://schemas.openxmlformats.org/officeDocument/2006/relationships/image" Target="../media/image3.jpeg"/><Relationship Id="rId11" Type="http://schemas.openxmlformats.org/officeDocument/2006/relationships/hyperlink" Target="http://www.google.it/imgres?imgurl=http://www.ctaservice.net/img/utenti.png&amp;imgrefurl=http://www.ctaservice.net/&amp;usg=__5idgAEY1UUPjyflpXspRW5ElbTs=&amp;h=35&amp;w=40&amp;sz=3&amp;hl=it&amp;start=9&amp;zoom=1&amp;itbs=1&amp;tbnid=COe1fu3fXMgNjM:&amp;tbnh=35&amp;tbnw=40&amp;prev=/images%3Fq%3Dutenti%26hl%3Dit%26gbv%3D2%26tbs%3Disch:1" TargetMode="External"/><Relationship Id="rId12" Type="http://schemas.openxmlformats.org/officeDocument/2006/relationships/image" Target="../media/image4.jpeg"/><Relationship Id="rId13" Type="http://schemas.openxmlformats.org/officeDocument/2006/relationships/hyperlink" Target="http://www.google.it/imgres?imgurl=http://www.anagrafenazionalericerche.it/arianna/immagini/soggetti.png&amp;imgrefurl=http://www.anagrafenazionalericerche.it/&amp;usg=__PIhga6fx73eznRwzGEx9aaIpzec=&amp;h=64&amp;w=64&amp;sz=35&amp;hl=it&amp;start=197&amp;zoom=0&amp;itbs=1&amp;tbnid=Qtu53P31rpepZM:&amp;tbnh=64&amp;tbnw=64&amp;prev=/images%3Fq%3Dsportello%2Btelematico%26start%3D180%26hl%3Dit%26sa%3DN%26gbv%3D2%26ndsp%3D20%26tbs%3Disch:1" TargetMode="External"/><Relationship Id="rId14" Type="http://schemas.openxmlformats.org/officeDocument/2006/relationships/image" Target="../media/image7.jpeg"/><Relationship Id="rId15" Type="http://schemas.openxmlformats.org/officeDocument/2006/relationships/hyperlink" Target="http://www.google.it/imgres?imgurl=http://www.clker.com/cliparts/4/b/8/d/1194983813750083554server_mimooh_.svg.med.png&amp;imgrefurl=http://www.clker.com/clipart-1826.html&amp;usg=__df2Hwr-8F_f1DdpaAyXoS43pszE=&amp;h=297&amp;w=279&amp;sz=16&amp;hl=it&amp;start=69&amp;zoom=1&amp;itbs=1&amp;tbnid=ERBQDiW8BPNhUM:&amp;tbnh=116&amp;tbnw=109&amp;prev=/images%3Fq%3Dserver%26start%3D60%26hl%3Dit%26sa%3DN%26gbv%3D2%26ndsp%3D20%26tbs%3Disch:1" TargetMode="External"/><Relationship Id="rId16" Type="http://schemas.openxmlformats.org/officeDocument/2006/relationships/image" Target="../media/image8.jpeg"/><Relationship Id="rId17" Type="http://schemas.openxmlformats.org/officeDocument/2006/relationships/image" Target="../media/image9.jpeg"/><Relationship Id="rId18" Type="http://schemas.openxmlformats.org/officeDocument/2006/relationships/image" Target="../media/image10.jpeg"/><Relationship Id="rId19" Type="http://schemas.openxmlformats.org/officeDocument/2006/relationships/image" Target="../media/image11.jpeg"/><Relationship Id="rId20" Type="http://schemas.openxmlformats.org/officeDocument/2006/relationships/hyperlink" Target="http://www.google.it/imgres?imgurl=http://www.ctaservice.net/img/utenti.png&amp;imgrefurl=http://www.ctaservice.net/&amp;usg=__5idgAEY1UUPjyflpXspRW5ElbTs=&amp;h=35&amp;w=40&amp;sz=3&amp;hl=it&amp;start=9&amp;zoom=1&amp;itbs=1&amp;tbnid=COe1fu3fXMgNjM:&amp;tbnh=35&amp;tbnw=40&amp;prev=/images%3Fq%3Dutenti%26hl%3Dit%26gbv%3D2%26tbs%3Disch:1" TargetMode="External"/><Relationship Id="rId21" Type="http://schemas.openxmlformats.org/officeDocument/2006/relationships/image" Target="../media/image4.jpeg"/><Relationship Id="rId22" Type="http://schemas.openxmlformats.org/officeDocument/2006/relationships/image" Target="../media/image12.png"/><Relationship Id="rId2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4920" y="3499920"/>
            <a:ext cx="828036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Arial"/>
              </a:rPr>
              <a:t>Polo Marche DigiP: la soluzione</a:t>
            </a:r>
            <a:br>
              <a:rPr sz="4000"/>
            </a:br>
            <a:r>
              <a:rPr b="1" lang="it-IT" sz="4000" spc="-1" strike="noStrike">
                <a:solidFill>
                  <a:srgbClr val="ffffff"/>
                </a:solidFill>
                <a:latin typeface="Arial"/>
              </a:rPr>
              <a:t>alla conservazione digitale</a:t>
            </a:r>
            <a:br>
              <a:rPr sz="4000"/>
            </a:br>
            <a:r>
              <a:rPr b="1" lang="it-IT" sz="4000" spc="-1" strike="noStrike">
                <a:solidFill>
                  <a:srgbClr val="ffffff"/>
                </a:solidFill>
                <a:latin typeface="Arial"/>
              </a:rPr>
              <a:t>della Regione Mar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68000" y="5013360"/>
            <a:ext cx="825012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Cinzia Am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ottotitolo 4"/>
          <p:cNvSpPr/>
          <p:nvPr/>
        </p:nvSpPr>
        <p:spPr>
          <a:xfrm>
            <a:off x="468360" y="5805360"/>
            <a:ext cx="41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Bologna 11-12 april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itolo 1"/>
          <p:cNvSpPr/>
          <p:nvPr/>
        </p:nvSpPr>
        <p:spPr>
          <a:xfrm>
            <a:off x="358920" y="0"/>
            <a:ext cx="87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Calibri"/>
              </a:rPr>
              <a:t>UN FUTURO PER IL PRESENTE</a:t>
            </a:r>
            <a:br>
              <a:rPr sz="3600"/>
            </a:br>
            <a:r>
              <a:rPr b="1" lang="it-IT" sz="2000" spc="-1" strike="noStrike">
                <a:solidFill>
                  <a:srgbClr val="ffffff"/>
                </a:solidFill>
                <a:latin typeface="Calibri"/>
              </a:rPr>
              <a:t>POLITICHE STRATEGIE E STRUMENTI DELLA CONSERVAZIONE DIGI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Analisi dei risc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egnaposto contenuto 2"/>
          <p:cNvSpPr/>
          <p:nvPr/>
        </p:nvSpPr>
        <p:spPr>
          <a:xfrm>
            <a:off x="971640" y="1700280"/>
            <a:ext cx="7859520" cy="35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Nella progettazione del Polo sono emersi subito alcuni possibili fattori di rischio da gestire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Dare un servizio non adatto a esigenze diverse di soggetti diver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Assenza di regole condivise per avere un patrimonio documentale “gestibile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Affidarsi a fornitori perdendo il controllo del proprio patrimonio archivistic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Definizione delle contromi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Segnaposto contenuto 3" descr="idea.jpg"/>
          <p:cNvPicPr/>
          <p:nvPr/>
        </p:nvPicPr>
        <p:blipFill>
          <a:blip r:embed="rId1"/>
          <a:stretch/>
        </p:blipFill>
        <p:spPr>
          <a:xfrm>
            <a:off x="2500200" y="3071880"/>
            <a:ext cx="4294440" cy="3220920"/>
          </a:xfrm>
          <a:prstGeom prst="rect">
            <a:avLst/>
          </a:prstGeom>
          <a:ln w="0">
            <a:noFill/>
          </a:ln>
        </p:spPr>
      </p:pic>
      <p:sp>
        <p:nvSpPr>
          <p:cNvPr id="268" name="Segnaposto contenuto 2"/>
          <p:cNvSpPr/>
          <p:nvPr/>
        </p:nvSpPr>
        <p:spPr>
          <a:xfrm>
            <a:off x="971640" y="1700280"/>
            <a:ext cx="78595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Di quali strumenti dotarsi dare per assicurare affidabilità ed efficacia al Polo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Calibri"/>
              </a:rPr>
              <a:t>Strumenti per integrare il Polo nel contesto region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26560" y="1484280"/>
            <a:ext cx="7859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21"/>
          <p:cNvGrpSpPr/>
          <p:nvPr/>
        </p:nvGrpSpPr>
        <p:grpSpPr>
          <a:xfrm>
            <a:off x="2124720" y="1603440"/>
            <a:ext cx="4819680" cy="4178160"/>
            <a:chOff x="2124720" y="1603440"/>
            <a:chExt cx="4819680" cy="4178160"/>
          </a:xfrm>
        </p:grpSpPr>
        <p:sp>
          <p:nvSpPr>
            <p:cNvPr id="272" name="Rectangle 23"/>
            <p:cNvSpPr/>
            <p:nvPr/>
          </p:nvSpPr>
          <p:spPr>
            <a:xfrm rot="18000000">
              <a:off x="1456560" y="2935800"/>
              <a:ext cx="32796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800" spc="-1" strike="noStrike">
                  <a:solidFill>
                    <a:srgbClr val="000000"/>
                  </a:solidFill>
                  <a:latin typeface="Arial"/>
                </a:rPr>
                <a:t>Soggetto Produttore (S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4"/>
            <p:cNvSpPr/>
            <p:nvPr/>
          </p:nvSpPr>
          <p:spPr>
            <a:xfrm flipH="1" rot="3600000">
              <a:off x="4331520" y="2935080"/>
              <a:ext cx="327960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800" spc="-1" strike="noStrike">
                  <a:solidFill>
                    <a:srgbClr val="000000"/>
                  </a:solidFill>
                  <a:latin typeface="Arial"/>
                </a:rPr>
                <a:t>Comitato Regionale Utilizzatori (CRU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25"/>
            <p:cNvSpPr/>
            <p:nvPr/>
          </p:nvSpPr>
          <p:spPr>
            <a:xfrm flipH="1">
              <a:off x="2857680" y="5429160"/>
              <a:ext cx="327960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800" spc="-1" strike="noStrike">
                  <a:solidFill>
                    <a:srgbClr val="000000"/>
                  </a:solidFill>
                  <a:latin typeface="Arial"/>
                </a:rPr>
                <a:t>Comitato Scientifico (C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uppo 17"/>
          <p:cNvGrpSpPr/>
          <p:nvPr/>
        </p:nvGrpSpPr>
        <p:grpSpPr>
          <a:xfrm>
            <a:off x="2643120" y="2071800"/>
            <a:ext cx="3638520" cy="3376440"/>
            <a:chOff x="2643120" y="2071800"/>
            <a:chExt cx="3638520" cy="3376440"/>
          </a:xfrm>
        </p:grpSpPr>
        <p:sp>
          <p:nvSpPr>
            <p:cNvPr id="276" name="Freeform 16"/>
            <p:cNvSpPr/>
            <p:nvPr/>
          </p:nvSpPr>
          <p:spPr>
            <a:xfrm>
              <a:off x="2643120" y="2071800"/>
              <a:ext cx="3638520" cy="3143160"/>
            </a:xfrm>
            <a:custGeom>
              <a:avLst/>
              <a:gdLst>
                <a:gd name="textAreaLeft" fmla="*/ 0 w 3638520"/>
                <a:gd name="textAreaRight" fmla="*/ 3638880 w 3638520"/>
                <a:gd name="textAreaTop" fmla="*/ 0 h 3143160"/>
                <a:gd name="textAreaBottom" fmla="*/ 3143520 h 3143160"/>
              </a:gdLst>
              <a:ahLst/>
              <a:rect l="textAreaLeft" t="textAreaTop" r="textAreaRight" b="textAreaBottom"/>
              <a:pathLst>
                <a:path w="365" h="316">
                  <a:moveTo>
                    <a:pt x="26" y="316"/>
                  </a:moveTo>
                  <a:cubicBezTo>
                    <a:pt x="7" y="316"/>
                    <a:pt x="0" y="303"/>
                    <a:pt x="9" y="287"/>
                  </a:cubicBezTo>
                  <a:cubicBezTo>
                    <a:pt x="165" y="16"/>
                    <a:pt x="165" y="16"/>
                    <a:pt x="165" y="16"/>
                  </a:cubicBezTo>
                  <a:cubicBezTo>
                    <a:pt x="175" y="0"/>
                    <a:pt x="190" y="0"/>
                    <a:pt x="200" y="16"/>
                  </a:cubicBezTo>
                  <a:cubicBezTo>
                    <a:pt x="356" y="287"/>
                    <a:pt x="356" y="287"/>
                    <a:pt x="356" y="287"/>
                  </a:cubicBezTo>
                  <a:cubicBezTo>
                    <a:pt x="365" y="303"/>
                    <a:pt x="358" y="316"/>
                    <a:pt x="339" y="316"/>
                  </a:cubicBezTo>
                  <a:lnTo>
                    <a:pt x="26" y="316"/>
                  </a:lnTo>
                  <a:close/>
                </a:path>
              </a:pathLst>
            </a:custGeom>
            <a:solidFill>
              <a:srgbClr val="1f497d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62"/>
            <p:cNvGrpSpPr/>
            <p:nvPr/>
          </p:nvGrpSpPr>
          <p:grpSpPr>
            <a:xfrm>
              <a:off x="3143160" y="2571840"/>
              <a:ext cx="2571480" cy="2285640"/>
              <a:chOff x="3143160" y="2571840"/>
              <a:chExt cx="2571480" cy="2285640"/>
            </a:xfrm>
          </p:grpSpPr>
          <p:sp>
            <p:nvSpPr>
              <p:cNvPr id="278" name="Freeform 31"/>
              <p:cNvSpPr/>
              <p:nvPr/>
            </p:nvSpPr>
            <p:spPr>
              <a:xfrm>
                <a:off x="3143160" y="2571840"/>
                <a:ext cx="1269720" cy="2273760"/>
              </a:xfrm>
              <a:custGeom>
                <a:avLst/>
                <a:gdLst>
                  <a:gd name="textAreaLeft" fmla="*/ 0 w 1269720"/>
                  <a:gd name="textAreaRight" fmla="*/ 1270080 w 1269720"/>
                  <a:gd name="textAreaTop" fmla="*/ 0 h 2273760"/>
                  <a:gd name="textAreaBottom" fmla="*/ 2274120 h 2273760"/>
                </a:gdLst>
                <a:ahLst/>
                <a:rect l="textAreaLeft" t="textAreaTop" r="textAreaRight" b="textAreaBottom"/>
                <a:pathLst>
                  <a:path w="1859" h="3212">
                    <a:moveTo>
                      <a:pt x="1859" y="0"/>
                    </a:moveTo>
                    <a:lnTo>
                      <a:pt x="0" y="3212"/>
                    </a:lnTo>
                    <a:lnTo>
                      <a:pt x="1859" y="1769"/>
                    </a:lnTo>
                    <a:lnTo>
                      <a:pt x="1859" y="0"/>
                    </a:lnTo>
                    <a:close/>
                  </a:path>
                </a:pathLst>
              </a:custGeom>
              <a:solidFill>
                <a:srgbClr val="ddd9c3"/>
              </a:solidFill>
              <a:ln w="93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35"/>
              <p:cNvSpPr/>
              <p:nvPr/>
            </p:nvSpPr>
            <p:spPr>
              <a:xfrm>
                <a:off x="3160080" y="3833280"/>
                <a:ext cx="2547360" cy="1024200"/>
              </a:xfrm>
              <a:custGeom>
                <a:avLst/>
                <a:gdLst>
                  <a:gd name="textAreaLeft" fmla="*/ 0 w 2547360"/>
                  <a:gd name="textAreaRight" fmla="*/ 2547720 w 2547360"/>
                  <a:gd name="textAreaTop" fmla="*/ 0 h 1024200"/>
                  <a:gd name="textAreaBottom" fmla="*/ 1024560 h 1024200"/>
                </a:gdLst>
                <a:ahLst/>
                <a:rect l="textAreaLeft" t="textAreaTop" r="textAreaRight" b="textAreaBottom"/>
                <a:pathLst>
                  <a:path w="3730" h="1448">
                    <a:moveTo>
                      <a:pt x="1859" y="0"/>
                    </a:moveTo>
                    <a:lnTo>
                      <a:pt x="0" y="1441"/>
                    </a:lnTo>
                    <a:lnTo>
                      <a:pt x="3730" y="1448"/>
                    </a:lnTo>
                    <a:lnTo>
                      <a:pt x="1859" y="0"/>
                    </a:lnTo>
                    <a:close/>
                  </a:path>
                </a:pathLst>
              </a:custGeom>
              <a:solidFill>
                <a:srgbClr val="ddd9c3"/>
              </a:solidFill>
              <a:ln w="93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39"/>
              <p:cNvSpPr/>
              <p:nvPr/>
            </p:nvSpPr>
            <p:spPr>
              <a:xfrm>
                <a:off x="4428000" y="2576880"/>
                <a:ext cx="1286640" cy="2277000"/>
              </a:xfrm>
              <a:custGeom>
                <a:avLst/>
                <a:gdLst>
                  <a:gd name="textAreaLeft" fmla="*/ 0 w 1286640"/>
                  <a:gd name="textAreaRight" fmla="*/ 1287000 w 1286640"/>
                  <a:gd name="textAreaTop" fmla="*/ 0 h 2277000"/>
                  <a:gd name="textAreaBottom" fmla="*/ 2277360 h 2277000"/>
                </a:gdLst>
                <a:ahLst/>
                <a:rect l="textAreaLeft" t="textAreaTop" r="textAreaRight" b="textAreaBottom"/>
                <a:pathLst>
                  <a:path w="1871" h="3220">
                    <a:moveTo>
                      <a:pt x="1871" y="3220"/>
                    </a:moveTo>
                    <a:lnTo>
                      <a:pt x="0" y="0"/>
                    </a:lnTo>
                    <a:lnTo>
                      <a:pt x="0" y="1770"/>
                    </a:lnTo>
                    <a:lnTo>
                      <a:pt x="1871" y="3220"/>
                    </a:lnTo>
                    <a:close/>
                  </a:path>
                </a:pathLst>
              </a:custGeom>
              <a:solidFill>
                <a:srgbClr val="ddd9c3"/>
              </a:solidFill>
              <a:ln w="93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Line 18"/>
            <p:cNvSpPr/>
            <p:nvPr/>
          </p:nvSpPr>
          <p:spPr>
            <a:xfrm flipV="1">
              <a:off x="4481280" y="3119400"/>
              <a:ext cx="1203120" cy="706320"/>
            </a:xfrm>
            <a:prstGeom prst="line">
              <a:avLst/>
            </a:prstGeom>
            <a:ln w="38160">
              <a:solidFill>
                <a:srgbClr val="9f9f9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7"/>
            <p:cNvSpPr/>
            <p:nvPr/>
          </p:nvSpPr>
          <p:spPr>
            <a:xfrm flipH="1" flipV="1">
              <a:off x="3288960" y="3184200"/>
              <a:ext cx="1077840" cy="634680"/>
            </a:xfrm>
            <a:prstGeom prst="line">
              <a:avLst/>
            </a:prstGeom>
            <a:ln w="38160">
              <a:solidFill>
                <a:srgbClr val="9f9f9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9"/>
            <p:cNvSpPr/>
            <p:nvPr/>
          </p:nvSpPr>
          <p:spPr>
            <a:xfrm flipH="1">
              <a:off x="4381560" y="3857760"/>
              <a:ext cx="47520" cy="1590480"/>
            </a:xfrm>
            <a:prstGeom prst="line">
              <a:avLst/>
            </a:prstGeom>
            <a:ln w="38160">
              <a:solidFill>
                <a:srgbClr val="9f9f9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20"/>
            <p:cNvSpPr/>
            <p:nvPr/>
          </p:nvSpPr>
          <p:spPr>
            <a:xfrm>
              <a:off x="3714480" y="3500280"/>
              <a:ext cx="1422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o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rche Dig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Calibri"/>
              </a:rPr>
              <a:t>Strumenti per integrare il Polo nel contesto region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826560" y="1484280"/>
            <a:ext cx="7859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Soggetto produttor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l rapporto tra soggetto produttore e Polo Marche DigiP è disciplinato da specifici contratti di serviz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uò richiedere i servizi di consulenza offerti dalla Unità di Gestione del Polo per la definizione delle politiche di dematerializzazione e conserv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uppo 3"/>
          <p:cNvGrpSpPr/>
          <p:nvPr/>
        </p:nvGrpSpPr>
        <p:grpSpPr>
          <a:xfrm>
            <a:off x="7858080" y="1428840"/>
            <a:ext cx="928800" cy="876240"/>
            <a:chOff x="7858080" y="1428840"/>
            <a:chExt cx="928800" cy="876240"/>
          </a:xfrm>
        </p:grpSpPr>
        <p:sp>
          <p:nvSpPr>
            <p:cNvPr id="288" name="Freeform 16"/>
            <p:cNvSpPr/>
            <p:nvPr/>
          </p:nvSpPr>
          <p:spPr>
            <a:xfrm>
              <a:off x="7858080" y="1428840"/>
              <a:ext cx="928800" cy="815760"/>
            </a:xfrm>
            <a:custGeom>
              <a:avLst/>
              <a:gdLst>
                <a:gd name="textAreaLeft" fmla="*/ 0 w 928800"/>
                <a:gd name="textAreaRight" fmla="*/ 929160 w 92880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365" h="316">
                  <a:moveTo>
                    <a:pt x="26" y="316"/>
                  </a:moveTo>
                  <a:cubicBezTo>
                    <a:pt x="7" y="316"/>
                    <a:pt x="0" y="303"/>
                    <a:pt x="9" y="287"/>
                  </a:cubicBezTo>
                  <a:cubicBezTo>
                    <a:pt x="165" y="16"/>
                    <a:pt x="165" y="16"/>
                    <a:pt x="165" y="16"/>
                  </a:cubicBezTo>
                  <a:cubicBezTo>
                    <a:pt x="175" y="0"/>
                    <a:pt x="190" y="0"/>
                    <a:pt x="200" y="16"/>
                  </a:cubicBezTo>
                  <a:cubicBezTo>
                    <a:pt x="356" y="287"/>
                    <a:pt x="356" y="287"/>
                    <a:pt x="356" y="287"/>
                  </a:cubicBezTo>
                  <a:cubicBezTo>
                    <a:pt x="365" y="303"/>
                    <a:pt x="358" y="316"/>
                    <a:pt x="339" y="316"/>
                  </a:cubicBezTo>
                  <a:lnTo>
                    <a:pt x="26" y="316"/>
                  </a:lnTo>
                  <a:close/>
                </a:path>
              </a:pathLst>
            </a:custGeom>
            <a:solidFill>
              <a:srgbClr val="1f497d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62"/>
            <p:cNvGrpSpPr/>
            <p:nvPr/>
          </p:nvGrpSpPr>
          <p:grpSpPr>
            <a:xfrm>
              <a:off x="7985520" y="1558440"/>
              <a:ext cx="656640" cy="592920"/>
              <a:chOff x="7985520" y="1558440"/>
              <a:chExt cx="656640" cy="592920"/>
            </a:xfrm>
          </p:grpSpPr>
          <p:sp>
            <p:nvSpPr>
              <p:cNvPr id="290" name="Freeform 31"/>
              <p:cNvSpPr/>
              <p:nvPr/>
            </p:nvSpPr>
            <p:spPr>
              <a:xfrm>
                <a:off x="7985520" y="1558440"/>
                <a:ext cx="323640" cy="59004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590040"/>
                  <a:gd name="textAreaBottom" fmla="*/ 590400 h 590040"/>
                </a:gdLst>
                <a:ahLst/>
                <a:rect l="textAreaLeft" t="textAreaTop" r="textAreaRight" b="textAreaBottom"/>
                <a:pathLst>
                  <a:path w="1859" h="3212">
                    <a:moveTo>
                      <a:pt x="1859" y="0"/>
                    </a:moveTo>
                    <a:lnTo>
                      <a:pt x="0" y="3212"/>
                    </a:lnTo>
                    <a:lnTo>
                      <a:pt x="1859" y="1769"/>
                    </a:lnTo>
                    <a:lnTo>
                      <a:pt x="1859" y="0"/>
                    </a:lnTo>
                    <a:close/>
                  </a:path>
                </a:pathLst>
              </a:custGeom>
              <a:solidFill>
                <a:srgbClr val="ddd9c3"/>
              </a:solidFill>
              <a:ln w="93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5"/>
              <p:cNvSpPr/>
              <p:nvPr/>
            </p:nvSpPr>
            <p:spPr>
              <a:xfrm>
                <a:off x="7990200" y="1886760"/>
                <a:ext cx="650520" cy="264600"/>
              </a:xfrm>
              <a:custGeom>
                <a:avLst/>
                <a:gdLst>
                  <a:gd name="textAreaLeft" fmla="*/ 0 w 650520"/>
                  <a:gd name="textAreaRight" fmla="*/ 650880 w 650520"/>
                  <a:gd name="textAreaTop" fmla="*/ 0 h 264600"/>
                  <a:gd name="textAreaBottom" fmla="*/ 264960 h 264600"/>
                </a:gdLst>
                <a:ahLst/>
                <a:rect l="textAreaLeft" t="textAreaTop" r="textAreaRight" b="textAreaBottom"/>
                <a:pathLst>
                  <a:path w="3730" h="1448">
                    <a:moveTo>
                      <a:pt x="1859" y="0"/>
                    </a:moveTo>
                    <a:lnTo>
                      <a:pt x="0" y="1441"/>
                    </a:lnTo>
                    <a:lnTo>
                      <a:pt x="3730" y="1448"/>
                    </a:lnTo>
                    <a:lnTo>
                      <a:pt x="1859" y="0"/>
                    </a:lnTo>
                    <a:close/>
                  </a:path>
                </a:pathLst>
              </a:custGeom>
              <a:solidFill>
                <a:srgbClr val="ddd9c3"/>
              </a:solidFill>
              <a:ln w="93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39"/>
              <p:cNvSpPr/>
              <p:nvPr/>
            </p:nvSpPr>
            <p:spPr>
              <a:xfrm>
                <a:off x="8313840" y="1559520"/>
                <a:ext cx="328320" cy="587160"/>
              </a:xfrm>
              <a:custGeom>
                <a:avLst/>
                <a:gdLst>
                  <a:gd name="textAreaLeft" fmla="*/ 0 w 328320"/>
                  <a:gd name="textAreaRight" fmla="*/ 328680 w 328320"/>
                  <a:gd name="textAreaTop" fmla="*/ 0 h 587160"/>
                  <a:gd name="textAreaBottom" fmla="*/ 587520 h 587160"/>
                </a:gdLst>
                <a:ahLst/>
                <a:rect l="textAreaLeft" t="textAreaTop" r="textAreaRight" b="textAreaBottom"/>
                <a:pathLst>
                  <a:path w="1871" h="3220">
                    <a:moveTo>
                      <a:pt x="1871" y="3220"/>
                    </a:moveTo>
                    <a:lnTo>
                      <a:pt x="0" y="0"/>
                    </a:lnTo>
                    <a:lnTo>
                      <a:pt x="0" y="1770"/>
                    </a:lnTo>
                    <a:lnTo>
                      <a:pt x="1871" y="3220"/>
                    </a:lnTo>
                    <a:close/>
                  </a:path>
                </a:pathLst>
              </a:custGeom>
              <a:solidFill>
                <a:srgbClr val="ddd9c3"/>
              </a:solidFill>
              <a:ln w="93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Line 18"/>
            <p:cNvSpPr/>
            <p:nvPr/>
          </p:nvSpPr>
          <p:spPr>
            <a:xfrm flipV="1">
              <a:off x="8327520" y="1700280"/>
              <a:ext cx="307080" cy="183240"/>
            </a:xfrm>
            <a:prstGeom prst="line">
              <a:avLst/>
            </a:prstGeom>
            <a:ln w="38160">
              <a:solidFill>
                <a:srgbClr val="9f9f9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 flipH="1" flipV="1">
              <a:off x="8022960" y="1717200"/>
              <a:ext cx="275040" cy="164520"/>
            </a:xfrm>
            <a:prstGeom prst="line">
              <a:avLst/>
            </a:prstGeom>
            <a:ln w="38160">
              <a:solidFill>
                <a:srgbClr val="9f9f9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9"/>
            <p:cNvSpPr/>
            <p:nvPr/>
          </p:nvSpPr>
          <p:spPr>
            <a:xfrm flipH="1">
              <a:off x="8301600" y="1892160"/>
              <a:ext cx="11880" cy="412920"/>
            </a:xfrm>
            <a:prstGeom prst="line">
              <a:avLst/>
            </a:prstGeom>
            <a:ln w="38160">
              <a:solidFill>
                <a:srgbClr val="9f9f9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CasellaDiTesto 13"/>
          <p:cNvSpPr/>
          <p:nvPr/>
        </p:nvSpPr>
        <p:spPr>
          <a:xfrm>
            <a:off x="7646400" y="150012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Calibri"/>
              </a:rPr>
              <a:t>Strumenti per integrare il Polo nel contesto region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826560" y="1484280"/>
            <a:ext cx="7859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Il Comitato Regionale Utilizzatori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è un comitato inter-ente formato dalla Regione Marche e da altri enti del territorio rappresentativi delle diverse tipologie di soggetti che interagiscono con il Polo Marche DigiP (enti locali, aziende ospedaliere, imprese, etc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collabora alla valutazione dei livelli qualitativi dei servizi offerti (customer satisfaction) , all’identificazione delle esigenze degli utilizzatori e alla formulazione di eventuali richieste di servizio e/o proposte di migliorament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uppo 3"/>
          <p:cNvGrpSpPr/>
          <p:nvPr/>
        </p:nvGrpSpPr>
        <p:grpSpPr>
          <a:xfrm>
            <a:off x="7858080" y="1428840"/>
            <a:ext cx="928800" cy="876240"/>
            <a:chOff x="7858080" y="1428840"/>
            <a:chExt cx="928800" cy="876240"/>
          </a:xfrm>
        </p:grpSpPr>
        <p:sp>
          <p:nvSpPr>
            <p:cNvPr id="300" name="Freeform 16"/>
            <p:cNvSpPr/>
            <p:nvPr/>
          </p:nvSpPr>
          <p:spPr>
            <a:xfrm>
              <a:off x="7858080" y="1428840"/>
              <a:ext cx="928800" cy="815760"/>
            </a:xfrm>
            <a:custGeom>
              <a:avLst/>
              <a:gdLst>
                <a:gd name="textAreaLeft" fmla="*/ 0 w 928800"/>
                <a:gd name="textAreaRight" fmla="*/ 929160 w 92880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365" h="316">
                  <a:moveTo>
                    <a:pt x="26" y="316"/>
                  </a:moveTo>
                  <a:cubicBezTo>
                    <a:pt x="7" y="316"/>
                    <a:pt x="0" y="303"/>
                    <a:pt x="9" y="287"/>
                  </a:cubicBezTo>
                  <a:cubicBezTo>
                    <a:pt x="165" y="16"/>
                    <a:pt x="165" y="16"/>
                    <a:pt x="165" y="16"/>
                  </a:cubicBezTo>
                  <a:cubicBezTo>
                    <a:pt x="175" y="0"/>
                    <a:pt x="190" y="0"/>
                    <a:pt x="200" y="16"/>
                  </a:cubicBezTo>
                  <a:cubicBezTo>
                    <a:pt x="356" y="287"/>
                    <a:pt x="356" y="287"/>
                    <a:pt x="356" y="287"/>
                  </a:cubicBezTo>
                  <a:cubicBezTo>
                    <a:pt x="365" y="303"/>
                    <a:pt x="358" y="316"/>
                    <a:pt x="339" y="316"/>
                  </a:cubicBezTo>
                  <a:lnTo>
                    <a:pt x="26" y="316"/>
                  </a:lnTo>
                  <a:close/>
                </a:path>
              </a:pathLst>
            </a:custGeom>
            <a:solidFill>
              <a:srgbClr val="1f497d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Group 62"/>
            <p:cNvGrpSpPr/>
            <p:nvPr/>
          </p:nvGrpSpPr>
          <p:grpSpPr>
            <a:xfrm>
              <a:off x="7985520" y="1558440"/>
              <a:ext cx="656640" cy="592920"/>
              <a:chOff x="7985520" y="1558440"/>
              <a:chExt cx="656640" cy="592920"/>
            </a:xfrm>
          </p:grpSpPr>
          <p:sp>
            <p:nvSpPr>
              <p:cNvPr id="302" name="Freeform 31"/>
              <p:cNvSpPr/>
              <p:nvPr/>
            </p:nvSpPr>
            <p:spPr>
              <a:xfrm>
                <a:off x="7985520" y="1558440"/>
                <a:ext cx="323640" cy="59004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590040"/>
                  <a:gd name="textAreaBottom" fmla="*/ 590400 h 590040"/>
                </a:gdLst>
                <a:ahLst/>
                <a:rect l="textAreaLeft" t="textAreaTop" r="textAreaRight" b="textAreaBottom"/>
                <a:pathLst>
                  <a:path w="1859" h="3212">
                    <a:moveTo>
                      <a:pt x="1859" y="0"/>
                    </a:moveTo>
                    <a:lnTo>
                      <a:pt x="0" y="3212"/>
                    </a:lnTo>
                    <a:lnTo>
                      <a:pt x="1859" y="1769"/>
                    </a:lnTo>
                    <a:lnTo>
                      <a:pt x="1859" y="0"/>
                    </a:lnTo>
                    <a:close/>
                  </a:path>
                </a:pathLst>
              </a:custGeom>
              <a:solidFill>
                <a:srgbClr val="ddd9c3"/>
              </a:solidFill>
              <a:ln w="93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35"/>
              <p:cNvSpPr/>
              <p:nvPr/>
            </p:nvSpPr>
            <p:spPr>
              <a:xfrm>
                <a:off x="7990200" y="1886760"/>
                <a:ext cx="650520" cy="264600"/>
              </a:xfrm>
              <a:custGeom>
                <a:avLst/>
                <a:gdLst>
                  <a:gd name="textAreaLeft" fmla="*/ 0 w 650520"/>
                  <a:gd name="textAreaRight" fmla="*/ 650880 w 650520"/>
                  <a:gd name="textAreaTop" fmla="*/ 0 h 264600"/>
                  <a:gd name="textAreaBottom" fmla="*/ 264960 h 264600"/>
                </a:gdLst>
                <a:ahLst/>
                <a:rect l="textAreaLeft" t="textAreaTop" r="textAreaRight" b="textAreaBottom"/>
                <a:pathLst>
                  <a:path w="3730" h="1448">
                    <a:moveTo>
                      <a:pt x="1859" y="0"/>
                    </a:moveTo>
                    <a:lnTo>
                      <a:pt x="0" y="1441"/>
                    </a:lnTo>
                    <a:lnTo>
                      <a:pt x="3730" y="1448"/>
                    </a:lnTo>
                    <a:lnTo>
                      <a:pt x="1859" y="0"/>
                    </a:lnTo>
                    <a:close/>
                  </a:path>
                </a:pathLst>
              </a:custGeom>
              <a:solidFill>
                <a:srgbClr val="ddd9c3"/>
              </a:solidFill>
              <a:ln w="93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39"/>
              <p:cNvSpPr/>
              <p:nvPr/>
            </p:nvSpPr>
            <p:spPr>
              <a:xfrm>
                <a:off x="8313840" y="1559520"/>
                <a:ext cx="328320" cy="587160"/>
              </a:xfrm>
              <a:custGeom>
                <a:avLst/>
                <a:gdLst>
                  <a:gd name="textAreaLeft" fmla="*/ 0 w 328320"/>
                  <a:gd name="textAreaRight" fmla="*/ 328680 w 328320"/>
                  <a:gd name="textAreaTop" fmla="*/ 0 h 587160"/>
                  <a:gd name="textAreaBottom" fmla="*/ 587520 h 587160"/>
                </a:gdLst>
                <a:ahLst/>
                <a:rect l="textAreaLeft" t="textAreaTop" r="textAreaRight" b="textAreaBottom"/>
                <a:pathLst>
                  <a:path w="1871" h="3220">
                    <a:moveTo>
                      <a:pt x="1871" y="3220"/>
                    </a:moveTo>
                    <a:lnTo>
                      <a:pt x="0" y="0"/>
                    </a:lnTo>
                    <a:lnTo>
                      <a:pt x="0" y="1770"/>
                    </a:lnTo>
                    <a:lnTo>
                      <a:pt x="1871" y="3220"/>
                    </a:lnTo>
                    <a:close/>
                  </a:path>
                </a:pathLst>
              </a:custGeom>
              <a:solidFill>
                <a:srgbClr val="ddd9c3"/>
              </a:solidFill>
              <a:ln w="93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Line 18"/>
            <p:cNvSpPr/>
            <p:nvPr/>
          </p:nvSpPr>
          <p:spPr>
            <a:xfrm flipV="1">
              <a:off x="8327520" y="1700280"/>
              <a:ext cx="307080" cy="183240"/>
            </a:xfrm>
            <a:prstGeom prst="line">
              <a:avLst/>
            </a:prstGeom>
            <a:ln w="38160">
              <a:solidFill>
                <a:srgbClr val="9f9f9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17"/>
            <p:cNvSpPr/>
            <p:nvPr/>
          </p:nvSpPr>
          <p:spPr>
            <a:xfrm flipH="1" flipV="1">
              <a:off x="8022960" y="1717200"/>
              <a:ext cx="275040" cy="164520"/>
            </a:xfrm>
            <a:prstGeom prst="line">
              <a:avLst/>
            </a:prstGeom>
            <a:ln w="38160">
              <a:solidFill>
                <a:srgbClr val="9f9f9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9"/>
            <p:cNvSpPr/>
            <p:nvPr/>
          </p:nvSpPr>
          <p:spPr>
            <a:xfrm flipH="1">
              <a:off x="8301600" y="1892160"/>
              <a:ext cx="11880" cy="412920"/>
            </a:xfrm>
            <a:prstGeom prst="line">
              <a:avLst/>
            </a:prstGeom>
            <a:ln w="38160">
              <a:solidFill>
                <a:srgbClr val="9f9f9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CasellaDiTesto 13"/>
          <p:cNvSpPr/>
          <p:nvPr/>
        </p:nvSpPr>
        <p:spPr>
          <a:xfrm>
            <a:off x="8368560" y="1357200"/>
            <a:ext cx="45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Calibri"/>
              </a:rPr>
              <a:t>Strumenti per integrare il Polo nel contesto region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782280" y="1371240"/>
            <a:ext cx="785988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Il Comitato Scientifico, formato da soggetti altamente qualificati ha lo scopo di indirizzo e supervisione delle attività del Polo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definisce gli indicatori e gli strumenti per assicurare la qualità dei servizi erogat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approva la documentazione elaborata dalla Unità di Progettazione, il piano di audit e monitoraggi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assicura il monitoraggio della evoluzione tecnologica, normativa e degli standard fornendo all’UP il know how per l’aggiornamento del modello conservativo e tecnologo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uppo 3"/>
          <p:cNvGrpSpPr/>
          <p:nvPr/>
        </p:nvGrpSpPr>
        <p:grpSpPr>
          <a:xfrm>
            <a:off x="7858080" y="1428840"/>
            <a:ext cx="928800" cy="876240"/>
            <a:chOff x="7858080" y="1428840"/>
            <a:chExt cx="928800" cy="876240"/>
          </a:xfrm>
        </p:grpSpPr>
        <p:sp>
          <p:nvSpPr>
            <p:cNvPr id="312" name="Freeform 16"/>
            <p:cNvSpPr/>
            <p:nvPr/>
          </p:nvSpPr>
          <p:spPr>
            <a:xfrm>
              <a:off x="7858080" y="1428840"/>
              <a:ext cx="928800" cy="815760"/>
            </a:xfrm>
            <a:custGeom>
              <a:avLst/>
              <a:gdLst>
                <a:gd name="textAreaLeft" fmla="*/ 0 w 928800"/>
                <a:gd name="textAreaRight" fmla="*/ 929160 w 92880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365" h="316">
                  <a:moveTo>
                    <a:pt x="26" y="316"/>
                  </a:moveTo>
                  <a:cubicBezTo>
                    <a:pt x="7" y="316"/>
                    <a:pt x="0" y="303"/>
                    <a:pt x="9" y="287"/>
                  </a:cubicBezTo>
                  <a:cubicBezTo>
                    <a:pt x="165" y="16"/>
                    <a:pt x="165" y="16"/>
                    <a:pt x="165" y="16"/>
                  </a:cubicBezTo>
                  <a:cubicBezTo>
                    <a:pt x="175" y="0"/>
                    <a:pt x="190" y="0"/>
                    <a:pt x="200" y="16"/>
                  </a:cubicBezTo>
                  <a:cubicBezTo>
                    <a:pt x="356" y="287"/>
                    <a:pt x="356" y="287"/>
                    <a:pt x="356" y="287"/>
                  </a:cubicBezTo>
                  <a:cubicBezTo>
                    <a:pt x="365" y="303"/>
                    <a:pt x="358" y="316"/>
                    <a:pt x="339" y="316"/>
                  </a:cubicBezTo>
                  <a:lnTo>
                    <a:pt x="26" y="316"/>
                  </a:lnTo>
                  <a:close/>
                </a:path>
              </a:pathLst>
            </a:custGeom>
            <a:solidFill>
              <a:srgbClr val="1f497d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Group 62"/>
            <p:cNvGrpSpPr/>
            <p:nvPr/>
          </p:nvGrpSpPr>
          <p:grpSpPr>
            <a:xfrm>
              <a:off x="7985520" y="1558440"/>
              <a:ext cx="656640" cy="592920"/>
              <a:chOff x="7985520" y="1558440"/>
              <a:chExt cx="656640" cy="592920"/>
            </a:xfrm>
          </p:grpSpPr>
          <p:sp>
            <p:nvSpPr>
              <p:cNvPr id="314" name="Freeform 31"/>
              <p:cNvSpPr/>
              <p:nvPr/>
            </p:nvSpPr>
            <p:spPr>
              <a:xfrm>
                <a:off x="7985520" y="1558440"/>
                <a:ext cx="323640" cy="59004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590040"/>
                  <a:gd name="textAreaBottom" fmla="*/ 590400 h 590040"/>
                </a:gdLst>
                <a:ahLst/>
                <a:rect l="textAreaLeft" t="textAreaTop" r="textAreaRight" b="textAreaBottom"/>
                <a:pathLst>
                  <a:path w="1859" h="3212">
                    <a:moveTo>
                      <a:pt x="1859" y="0"/>
                    </a:moveTo>
                    <a:lnTo>
                      <a:pt x="0" y="3212"/>
                    </a:lnTo>
                    <a:lnTo>
                      <a:pt x="1859" y="1769"/>
                    </a:lnTo>
                    <a:lnTo>
                      <a:pt x="1859" y="0"/>
                    </a:lnTo>
                    <a:close/>
                  </a:path>
                </a:pathLst>
              </a:custGeom>
              <a:solidFill>
                <a:srgbClr val="ddd9c3"/>
              </a:solidFill>
              <a:ln w="93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35"/>
              <p:cNvSpPr/>
              <p:nvPr/>
            </p:nvSpPr>
            <p:spPr>
              <a:xfrm>
                <a:off x="7990200" y="1886760"/>
                <a:ext cx="650520" cy="264600"/>
              </a:xfrm>
              <a:custGeom>
                <a:avLst/>
                <a:gdLst>
                  <a:gd name="textAreaLeft" fmla="*/ 0 w 650520"/>
                  <a:gd name="textAreaRight" fmla="*/ 650880 w 650520"/>
                  <a:gd name="textAreaTop" fmla="*/ 0 h 264600"/>
                  <a:gd name="textAreaBottom" fmla="*/ 264960 h 264600"/>
                </a:gdLst>
                <a:ahLst/>
                <a:rect l="textAreaLeft" t="textAreaTop" r="textAreaRight" b="textAreaBottom"/>
                <a:pathLst>
                  <a:path w="3730" h="1448">
                    <a:moveTo>
                      <a:pt x="1859" y="0"/>
                    </a:moveTo>
                    <a:lnTo>
                      <a:pt x="0" y="1441"/>
                    </a:lnTo>
                    <a:lnTo>
                      <a:pt x="3730" y="1448"/>
                    </a:lnTo>
                    <a:lnTo>
                      <a:pt x="1859" y="0"/>
                    </a:lnTo>
                    <a:close/>
                  </a:path>
                </a:pathLst>
              </a:custGeom>
              <a:solidFill>
                <a:srgbClr val="ddd9c3"/>
              </a:solidFill>
              <a:ln w="93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39"/>
              <p:cNvSpPr/>
              <p:nvPr/>
            </p:nvSpPr>
            <p:spPr>
              <a:xfrm>
                <a:off x="8313840" y="1559520"/>
                <a:ext cx="328320" cy="587160"/>
              </a:xfrm>
              <a:custGeom>
                <a:avLst/>
                <a:gdLst>
                  <a:gd name="textAreaLeft" fmla="*/ 0 w 328320"/>
                  <a:gd name="textAreaRight" fmla="*/ 328680 w 328320"/>
                  <a:gd name="textAreaTop" fmla="*/ 0 h 587160"/>
                  <a:gd name="textAreaBottom" fmla="*/ 587520 h 587160"/>
                </a:gdLst>
                <a:ahLst/>
                <a:rect l="textAreaLeft" t="textAreaTop" r="textAreaRight" b="textAreaBottom"/>
                <a:pathLst>
                  <a:path w="1871" h="3220">
                    <a:moveTo>
                      <a:pt x="1871" y="3220"/>
                    </a:moveTo>
                    <a:lnTo>
                      <a:pt x="0" y="0"/>
                    </a:lnTo>
                    <a:lnTo>
                      <a:pt x="0" y="1770"/>
                    </a:lnTo>
                    <a:lnTo>
                      <a:pt x="1871" y="3220"/>
                    </a:lnTo>
                    <a:close/>
                  </a:path>
                </a:pathLst>
              </a:custGeom>
              <a:solidFill>
                <a:srgbClr val="ddd9c3"/>
              </a:solidFill>
              <a:ln w="93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Line 18"/>
            <p:cNvSpPr/>
            <p:nvPr/>
          </p:nvSpPr>
          <p:spPr>
            <a:xfrm flipV="1">
              <a:off x="8327520" y="1700280"/>
              <a:ext cx="307080" cy="183240"/>
            </a:xfrm>
            <a:prstGeom prst="line">
              <a:avLst/>
            </a:prstGeom>
            <a:ln w="38160">
              <a:solidFill>
                <a:srgbClr val="9f9f9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17"/>
            <p:cNvSpPr/>
            <p:nvPr/>
          </p:nvSpPr>
          <p:spPr>
            <a:xfrm flipH="1" flipV="1">
              <a:off x="8022960" y="1717200"/>
              <a:ext cx="275040" cy="164520"/>
            </a:xfrm>
            <a:prstGeom prst="line">
              <a:avLst/>
            </a:prstGeom>
            <a:ln w="38160">
              <a:solidFill>
                <a:srgbClr val="9f9f9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9"/>
            <p:cNvSpPr/>
            <p:nvPr/>
          </p:nvSpPr>
          <p:spPr>
            <a:xfrm flipH="1">
              <a:off x="8301600" y="1892160"/>
              <a:ext cx="11880" cy="412920"/>
            </a:xfrm>
            <a:prstGeom prst="line">
              <a:avLst/>
            </a:prstGeom>
            <a:ln w="38160">
              <a:solidFill>
                <a:srgbClr val="9f9f9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CasellaDiTesto 13"/>
          <p:cNvSpPr/>
          <p:nvPr/>
        </p:nvSpPr>
        <p:spPr>
          <a:xfrm>
            <a:off x="8075160" y="228600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Calibri"/>
              </a:rPr>
              <a:t>Il modello log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826560" y="1484280"/>
            <a:ext cx="7859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1"/>
          <p:cNvGrpSpPr/>
          <p:nvPr/>
        </p:nvGrpSpPr>
        <p:grpSpPr>
          <a:xfrm>
            <a:off x="1415880" y="1465200"/>
            <a:ext cx="6239160" cy="5276880"/>
            <a:chOff x="1415880" y="1465200"/>
            <a:chExt cx="6239160" cy="5276880"/>
          </a:xfrm>
        </p:grpSpPr>
        <p:sp>
          <p:nvSpPr>
            <p:cNvPr id="324" name="AutoShape 37"/>
            <p:cNvSpPr/>
            <p:nvPr/>
          </p:nvSpPr>
          <p:spPr>
            <a:xfrm>
              <a:off x="1415880" y="1465200"/>
              <a:ext cx="6239160" cy="52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36"/>
            <p:cNvSpPr/>
            <p:nvPr/>
          </p:nvSpPr>
          <p:spPr>
            <a:xfrm>
              <a:off x="1769400" y="2520360"/>
              <a:ext cx="1413360" cy="28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Ente produtto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6" name="ipfKi9GTOIndmf5IM:" descr="http://t2.gstatic.com/images?q=tbn:Ki9GTOIndmf5IM:http://www.ecodimilano.com/data/ecodimilano/computer.gif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2357640" y="1944720"/>
              <a:ext cx="54504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ipfCOe1fu3fXMgNjM:" descr="http://t1.gstatic.com/images?q=tbn:COe1fu3fXMgNjM:http://www.ctaservice.net/img/utenti.png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1886040" y="1944720"/>
              <a:ext cx="5104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ipfE2G1fS5R7rVn-M:" descr="http://t1.gstatic.com/images?q=tbn:E2G1fS5R7rVn-M:http://www.sermax.it/img/nuvola.jpg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3063960" y="2801880"/>
              <a:ext cx="1530360" cy="81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Text Box 32"/>
            <p:cNvSpPr/>
            <p:nvPr/>
          </p:nvSpPr>
          <p:spPr>
            <a:xfrm>
              <a:off x="3534840" y="2973960"/>
              <a:ext cx="706320" cy="40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Rete Sicu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31"/>
            <p:cNvSpPr/>
            <p:nvPr/>
          </p:nvSpPr>
          <p:spPr>
            <a:xfrm>
              <a:off x="3063960" y="2424600"/>
              <a:ext cx="470880" cy="47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ipf4EICLh1XtLNKiM:" descr="http://t2.gstatic.com/images?q=tbn:4EICLh1XtLNKiM:http://www.studca.it/img/professionisti.jpg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5302800" y="1465200"/>
              <a:ext cx="1307160" cy="48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 Box 29"/>
            <p:cNvSpPr/>
            <p:nvPr/>
          </p:nvSpPr>
          <p:spPr>
            <a:xfrm>
              <a:off x="5358240" y="1944720"/>
              <a:ext cx="1414440" cy="38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28"/>
            <p:cNvSpPr/>
            <p:nvPr/>
          </p:nvSpPr>
          <p:spPr>
            <a:xfrm>
              <a:off x="3416400" y="2424600"/>
              <a:ext cx="1414440" cy="28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Ente produtto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4" name="ipfKi9GTOIndmf5IM:" descr="http://t2.gstatic.com/images?q=tbn:Ki9GTOIndmf5IM:http://www.ecodimilano.com/data/ecodimilano/computer.gif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4005720" y="1944720"/>
              <a:ext cx="54540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ipfCOe1fu3fXMgNjM:" descr="http://t1.gstatic.com/images?q=tbn:COe1fu3fXMgNjM:http://www.ctaservice.net/img/utenti.png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3652560" y="1926000"/>
              <a:ext cx="390240" cy="2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Line 25"/>
            <p:cNvSpPr/>
            <p:nvPr/>
          </p:nvSpPr>
          <p:spPr>
            <a:xfrm flipH="1">
              <a:off x="4240800" y="2616480"/>
              <a:ext cx="360" cy="19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7" name="Picture 24" descr="http://t1.gstatic.com/images?q=tbn:Qtu53P31rpepZM:http://www.anagrafenazionalericerche.it/arianna/immagini/soggetti.png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3299760" y="4151520"/>
              <a:ext cx="631080" cy="51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Text Box 23"/>
            <p:cNvSpPr/>
            <p:nvPr/>
          </p:nvSpPr>
          <p:spPr>
            <a:xfrm>
              <a:off x="3182760" y="4667040"/>
              <a:ext cx="1256760" cy="25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ipfERBQDiW8BPNhUM:" descr="http://t0.gstatic.com/images?q=tbn:ERBQDiW8BPNhUM:http://www.clker.com/cliparts/4/b/8/d/1194983813750083554server_mimooh_.svg.med.png">
              <a:hlinkClick r:id="rId15"/>
            </p:cNvPr>
            <p:cNvPicPr/>
            <p:nvPr/>
          </p:nvPicPr>
          <p:blipFill>
            <a:blip r:embed="rId16"/>
            <a:stretch/>
          </p:blipFill>
          <p:spPr>
            <a:xfrm>
              <a:off x="4005720" y="4247640"/>
              <a:ext cx="471960" cy="41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Line 21"/>
            <p:cNvSpPr/>
            <p:nvPr/>
          </p:nvSpPr>
          <p:spPr>
            <a:xfrm>
              <a:off x="4042800" y="3717720"/>
              <a:ext cx="80280" cy="4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20"/>
            <p:cNvSpPr/>
            <p:nvPr/>
          </p:nvSpPr>
          <p:spPr>
            <a:xfrm rot="5400000">
              <a:off x="5544360" y="2848320"/>
              <a:ext cx="1158120" cy="118080"/>
            </a:xfrm>
            <a:prstGeom prst="leftRightArrow">
              <a:avLst>
                <a:gd name="adj1" fmla="val 50000"/>
                <a:gd name="adj2" fmla="val 19525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19"/>
            <p:cNvSpPr/>
            <p:nvPr/>
          </p:nvSpPr>
          <p:spPr>
            <a:xfrm rot="9189000">
              <a:off x="4478040" y="1853640"/>
              <a:ext cx="824040" cy="96120"/>
            </a:xfrm>
            <a:prstGeom prst="leftRightArrow">
              <a:avLst>
                <a:gd name="adj1" fmla="val 50000"/>
                <a:gd name="adj2" fmla="val 170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3" name="ipf9HBKE672GMcJUM:" descr="http://t2.gstatic.com/images?q=tbn:9HBKE672GMcJUM:http://www.apexnwts.com/images/DataCenter.jpg"/>
            <p:cNvPicPr/>
            <p:nvPr/>
          </p:nvPicPr>
          <p:blipFill>
            <a:blip r:embed="rId17"/>
            <a:stretch/>
          </p:blipFill>
          <p:spPr>
            <a:xfrm>
              <a:off x="4278240" y="5592960"/>
              <a:ext cx="1176840" cy="7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17"/>
            <p:cNvSpPr/>
            <p:nvPr/>
          </p:nvSpPr>
          <p:spPr>
            <a:xfrm>
              <a:off x="4575960" y="6296040"/>
              <a:ext cx="1453320" cy="38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tà Data Cent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16"/>
            <p:cNvSpPr/>
            <p:nvPr/>
          </p:nvSpPr>
          <p:spPr>
            <a:xfrm>
              <a:off x="4348440" y="4794480"/>
              <a:ext cx="245880" cy="89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5"/>
            <p:cNvSpPr/>
            <p:nvPr/>
          </p:nvSpPr>
          <p:spPr>
            <a:xfrm flipH="1">
              <a:off x="4708800" y="4103640"/>
              <a:ext cx="1168560" cy="43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12"/>
            <p:cNvSpPr/>
            <p:nvPr/>
          </p:nvSpPr>
          <p:spPr>
            <a:xfrm>
              <a:off x="5900400" y="4187880"/>
              <a:ext cx="1218240" cy="26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" name="Picture 11" descr="http://t1.gstatic.com/images?q=tbn:iss9RRv4MdmcrM:http://www.3points.com/UserFiles/image/Laptop%2520Audit.jpg"/>
            <p:cNvPicPr/>
            <p:nvPr/>
          </p:nvPicPr>
          <p:blipFill>
            <a:blip r:embed="rId18"/>
            <a:stretch/>
          </p:blipFill>
          <p:spPr>
            <a:xfrm>
              <a:off x="6904800" y="2473560"/>
              <a:ext cx="47412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10" descr="Mostra immagine originale"/>
            <p:cNvPicPr/>
            <p:nvPr/>
          </p:nvPicPr>
          <p:blipFill>
            <a:blip r:embed="rId19"/>
            <a:stretch/>
          </p:blipFill>
          <p:spPr>
            <a:xfrm>
              <a:off x="5955840" y="3817440"/>
              <a:ext cx="706680" cy="3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Text Box 3"/>
            <p:cNvSpPr/>
            <p:nvPr/>
          </p:nvSpPr>
          <p:spPr>
            <a:xfrm>
              <a:off x="6609960" y="2808360"/>
              <a:ext cx="998280" cy="26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2"/>
            <p:cNvSpPr/>
            <p:nvPr/>
          </p:nvSpPr>
          <p:spPr>
            <a:xfrm rot="7133400">
              <a:off x="6577200" y="3246840"/>
              <a:ext cx="506160" cy="148320"/>
            </a:xfrm>
            <a:prstGeom prst="leftRightArrow">
              <a:avLst>
                <a:gd name="adj1" fmla="val 50000"/>
                <a:gd name="adj2" fmla="val 6793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2" name="ipfCOe1fu3fXMgNjM:" descr="http://t1.gstatic.com/images?q=tbn:COe1fu3fXMgNjM:http://www.ctaservice.net/img/utenti.png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5667480" y="5646600"/>
            <a:ext cx="390600" cy="282600"/>
          </a:xfrm>
          <a:prstGeom prst="rect">
            <a:avLst/>
          </a:prstGeom>
          <a:ln w="0">
            <a:noFill/>
          </a:ln>
        </p:spPr>
      </p:pic>
      <p:sp>
        <p:nvSpPr>
          <p:cNvPr id="353" name="Rettangolo arrotondato 2"/>
          <p:cNvSpPr/>
          <p:nvPr/>
        </p:nvSpPr>
        <p:spPr>
          <a:xfrm>
            <a:off x="1979640" y="3622680"/>
            <a:ext cx="5384880" cy="3008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Text Box 17" descr=""/>
          <p:cNvPicPr/>
          <p:nvPr/>
        </p:nvPicPr>
        <p:blipFill>
          <a:blip r:embed="rId22"/>
          <a:stretch/>
        </p:blipFill>
        <p:spPr>
          <a:xfrm>
            <a:off x="2262240" y="4011480"/>
            <a:ext cx="43164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Calibri"/>
              </a:rPr>
              <a:t>La filosof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826560" y="1484280"/>
            <a:ext cx="7859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struttura organizzativa definita si ispira a modello della Total Quality Management in cui tutti gli istituti coinvolti partecipano al miglioramento continuo dei servizi del P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Immagine 2" descr=""/>
          <p:cNvPicPr/>
          <p:nvPr/>
        </p:nvPicPr>
        <p:blipFill>
          <a:blip r:embed="rId1"/>
          <a:stretch/>
        </p:blipFill>
        <p:spPr>
          <a:xfrm>
            <a:off x="3059280" y="3403440"/>
            <a:ext cx="274608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Calibri"/>
              </a:rPr>
              <a:t>Il contes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826560" y="1484280"/>
            <a:ext cx="7859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La regione March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uò contare nella diffusione sul territorio del proprio sistema di protocollo e gestione documentale, denominato FDRM-PALEO, e su un sistema di regole condivi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755640" y="3716280"/>
            <a:ext cx="805968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Calibri"/>
              </a:rPr>
              <a:t>Il contesto/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826560" y="1484280"/>
            <a:ext cx="7859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ell’ambito dell’amministrazione regionale sono stati messi a regime numerose applicazioni che producono e gestiscono documenti digitali garantendo la dematerializzazione di interi procedi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900000" y="3716280"/>
          <a:ext cx="7704360" cy="1789200"/>
        </p:xfrm>
        <a:graphic>
          <a:graphicData uri="http://schemas.openxmlformats.org/drawingml/2006/table">
            <a:tbl>
              <a:tblPr/>
              <a:tblGrid>
                <a:gridCol w="816120"/>
                <a:gridCol w="1569960"/>
                <a:gridCol w="1498680"/>
                <a:gridCol w="1773360"/>
                <a:gridCol w="2046240"/>
              </a:tblGrid>
              <a:tr h="1152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An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ocumenti total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ocumenti digital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ocumenti firmati digitalm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ocumenti digitali non firm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636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31.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Polo Marche Dig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971640" y="1700280"/>
            <a:ext cx="78595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Con Delibera di Giunta n. 167 del 01/02/2010 la Regione Marche ha deliberato la costituzione del Polo regionale di conservazione digitale denominato Marche DigiP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E’ la struttura dedicata a fornire la soluzione tecnologica, organizzativa, giuridica ed archivistica per la gestione e conservazione di archivi digitali della Amministrazione regionale  e degli enti locali del nostro territorio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Calibri"/>
              </a:rPr>
              <a:t>L’esperienza del lavoro di equi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26560" y="2349000"/>
            <a:ext cx="78598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’organizzazione del Polo intende completare e mettere a sistema gli sforzi che si stanno già portando avanti nell’ambito del progetto Paleo, nella definizione di standard per la dematerializzazione dei procedimenti e nel supporto a strutture regionali ed enti locali per l’analisi dei flussi e la progettazione degli strumenti volti alla dematerializz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Un Polo regionale per la conservazione dell’archivio digit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71640" y="1700280"/>
            <a:ext cx="78595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olo Marche DigiP nasce con l’obiettivo di svolgere le seguenti funzio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servazione a lungo termine degli archivi digitali e di altri oggetti digitali della Regione e degli enti region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rchiviazione sostitutiva nel rispetto della normativa vig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ruibilità dei contenuti digitali conservati da parte dei soggetti aventi dirit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Il modello organizza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egnaposto contenuto 2"/>
          <p:cNvSpPr/>
          <p:nvPr/>
        </p:nvSpPr>
        <p:spPr>
          <a:xfrm>
            <a:off x="971640" y="1700280"/>
            <a:ext cx="7859520" cy="35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i è ritenuto fondamentale per l’efficacia del progetto definire un modello organizzativo - basato su quello definito dallo standard OASIS -  in cui trovassero spazio le diverse professionalità da coinvolg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Calibri"/>
              </a:rPr>
              <a:t>Composizione del Polo Marche Digi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26560" y="171468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62"/>
          <p:cNvGrpSpPr/>
          <p:nvPr/>
        </p:nvGrpSpPr>
        <p:grpSpPr>
          <a:xfrm>
            <a:off x="3357720" y="2428920"/>
            <a:ext cx="2999520" cy="2717280"/>
            <a:chOff x="3357720" y="2428920"/>
            <a:chExt cx="2999520" cy="2717280"/>
          </a:xfrm>
        </p:grpSpPr>
        <p:sp>
          <p:nvSpPr>
            <p:cNvPr id="230" name="Freeform 31"/>
            <p:cNvSpPr/>
            <p:nvPr/>
          </p:nvSpPr>
          <p:spPr>
            <a:xfrm>
              <a:off x="3357720" y="2428920"/>
              <a:ext cx="1481400" cy="2702880"/>
            </a:xfrm>
            <a:custGeom>
              <a:avLst/>
              <a:gdLst>
                <a:gd name="textAreaLeft" fmla="*/ 0 w 1481400"/>
                <a:gd name="textAreaRight" fmla="*/ 1481760 w 1481400"/>
                <a:gd name="textAreaTop" fmla="*/ 0 h 2702880"/>
                <a:gd name="textAreaBottom" fmla="*/ 2703240 h 2702880"/>
              </a:gdLst>
              <a:ahLst/>
              <a:rect l="textAreaLeft" t="textAreaTop" r="textAreaRight" b="textAreaBottom"/>
              <a:pathLst>
                <a:path w="1859" h="3212">
                  <a:moveTo>
                    <a:pt x="1859" y="0"/>
                  </a:moveTo>
                  <a:lnTo>
                    <a:pt x="0" y="3212"/>
                  </a:lnTo>
                  <a:lnTo>
                    <a:pt x="1859" y="1769"/>
                  </a:lnTo>
                  <a:lnTo>
                    <a:pt x="1859" y="0"/>
                  </a:lnTo>
                  <a:close/>
                </a:path>
              </a:pathLst>
            </a:custGeom>
            <a:gradFill rotWithShape="0">
              <a:gsLst>
                <a:gs pos="0">
                  <a:srgbClr val="69a2e1"/>
                </a:gs>
                <a:gs pos="50000">
                  <a:srgbClr val="466b95"/>
                </a:gs>
                <a:gs pos="100000">
                  <a:srgbClr val="69a2e1"/>
                </a:gs>
              </a:gsLst>
              <a:lin ang="18900000"/>
            </a:gradFill>
            <a:ln w="93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5"/>
            <p:cNvSpPr/>
            <p:nvPr/>
          </p:nvSpPr>
          <p:spPr>
            <a:xfrm>
              <a:off x="3377520" y="3928680"/>
              <a:ext cx="2971800" cy="1217520"/>
            </a:xfrm>
            <a:custGeom>
              <a:avLst/>
              <a:gdLst>
                <a:gd name="textAreaLeft" fmla="*/ 0 w 2971800"/>
                <a:gd name="textAreaRight" fmla="*/ 2972160 w 29718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730" h="1448">
                  <a:moveTo>
                    <a:pt x="1859" y="0"/>
                  </a:moveTo>
                  <a:lnTo>
                    <a:pt x="0" y="1441"/>
                  </a:lnTo>
                  <a:lnTo>
                    <a:pt x="3730" y="1448"/>
                  </a:lnTo>
                  <a:lnTo>
                    <a:pt x="1859" y="0"/>
                  </a:lnTo>
                  <a:close/>
                </a:path>
              </a:pathLst>
            </a:custGeom>
            <a:gradFill rotWithShape="0">
              <a:gsLst>
                <a:gs pos="0">
                  <a:srgbClr val="2a79d0"/>
                </a:gs>
                <a:gs pos="50000">
                  <a:srgbClr val="1c508a"/>
                </a:gs>
                <a:gs pos="100000">
                  <a:srgbClr val="2a79d0"/>
                </a:gs>
              </a:gsLst>
              <a:lin ang="18900000"/>
            </a:gradFill>
            <a:ln w="93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9"/>
            <p:cNvSpPr/>
            <p:nvPr/>
          </p:nvSpPr>
          <p:spPr>
            <a:xfrm>
              <a:off x="4856400" y="2434680"/>
              <a:ext cx="1500840" cy="2705040"/>
            </a:xfrm>
            <a:custGeom>
              <a:avLst/>
              <a:gdLst>
                <a:gd name="textAreaLeft" fmla="*/ 0 w 1500840"/>
                <a:gd name="textAreaRight" fmla="*/ 1501200 w 1500840"/>
                <a:gd name="textAreaTop" fmla="*/ 0 h 2705040"/>
                <a:gd name="textAreaBottom" fmla="*/ 2705400 h 2705040"/>
              </a:gdLst>
              <a:ahLst/>
              <a:rect l="textAreaLeft" t="textAreaTop" r="textAreaRight" b="textAreaBottom"/>
              <a:pathLst>
                <a:path w="1871" h="3220">
                  <a:moveTo>
                    <a:pt x="1871" y="3220"/>
                  </a:moveTo>
                  <a:lnTo>
                    <a:pt x="0" y="0"/>
                  </a:lnTo>
                  <a:lnTo>
                    <a:pt x="0" y="1770"/>
                  </a:lnTo>
                  <a:lnTo>
                    <a:pt x="1871" y="3220"/>
                  </a:lnTo>
                  <a:close/>
                </a:path>
              </a:pathLst>
            </a:custGeom>
            <a:gradFill rotWithShape="0">
              <a:gsLst>
                <a:gs pos="0">
                  <a:srgbClr val="0061b2"/>
                </a:gs>
                <a:gs pos="50000">
                  <a:srgbClr val="004076"/>
                </a:gs>
                <a:gs pos="100000">
                  <a:srgbClr val="0061b2"/>
                </a:gs>
              </a:gsLst>
              <a:lin ang="18900000"/>
            </a:gradFill>
            <a:ln w="93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CasellaDiTesto 2"/>
          <p:cNvSpPr/>
          <p:nvPr/>
        </p:nvSpPr>
        <p:spPr>
          <a:xfrm>
            <a:off x="5786280" y="264312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ità di progett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asellaDiTesto 11"/>
          <p:cNvSpPr/>
          <p:nvPr/>
        </p:nvSpPr>
        <p:spPr>
          <a:xfrm>
            <a:off x="3500280" y="550080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ità Data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UD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asellaDiTesto 12"/>
          <p:cNvSpPr/>
          <p:nvPr/>
        </p:nvSpPr>
        <p:spPr>
          <a:xfrm>
            <a:off x="857160" y="271476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ità di Gest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U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Calibri"/>
              </a:rPr>
              <a:t>Organizzazione del Polo Marche Dig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56800" y="1785960"/>
            <a:ext cx="78598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L’ Unità di Progettazione è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formata 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igure professionali aventi competenz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giuridic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archivistic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nformatic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di dominio, ossia specializzate nelle aree tematiche dove si registra la maggiore produzione di documenti informatici (salute, servizi a cittadini/imprese, gestione delle risorse umane, strumentali e materiali, atti amministrativi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62"/>
          <p:cNvGrpSpPr/>
          <p:nvPr/>
        </p:nvGrpSpPr>
        <p:grpSpPr>
          <a:xfrm>
            <a:off x="7651800" y="1644480"/>
            <a:ext cx="887040" cy="719280"/>
            <a:chOff x="7651800" y="1644480"/>
            <a:chExt cx="887040" cy="719280"/>
          </a:xfrm>
        </p:grpSpPr>
        <p:sp>
          <p:nvSpPr>
            <p:cNvPr id="239" name="Freeform 31"/>
            <p:cNvSpPr/>
            <p:nvPr/>
          </p:nvSpPr>
          <p:spPr>
            <a:xfrm>
              <a:off x="7651800" y="1644480"/>
              <a:ext cx="438120" cy="71568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859" h="3212">
                  <a:moveTo>
                    <a:pt x="1859" y="0"/>
                  </a:moveTo>
                  <a:lnTo>
                    <a:pt x="0" y="3212"/>
                  </a:lnTo>
                  <a:lnTo>
                    <a:pt x="1859" y="1769"/>
                  </a:lnTo>
                  <a:lnTo>
                    <a:pt x="185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lin ang="18900000"/>
            </a:gradFill>
            <a:ln w="93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5"/>
            <p:cNvSpPr/>
            <p:nvPr/>
          </p:nvSpPr>
          <p:spPr>
            <a:xfrm>
              <a:off x="7657560" y="2041560"/>
              <a:ext cx="879120" cy="322200"/>
            </a:xfrm>
            <a:custGeom>
              <a:avLst/>
              <a:gdLst>
                <a:gd name="textAreaLeft" fmla="*/ 0 w 879120"/>
                <a:gd name="textAreaRight" fmla="*/ 879480 w 87912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3730" h="1448">
                  <a:moveTo>
                    <a:pt x="1859" y="0"/>
                  </a:moveTo>
                  <a:lnTo>
                    <a:pt x="0" y="1441"/>
                  </a:lnTo>
                  <a:lnTo>
                    <a:pt x="3730" y="1448"/>
                  </a:lnTo>
                  <a:lnTo>
                    <a:pt x="185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lin ang="18900000"/>
            </a:gradFill>
            <a:ln w="93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9"/>
            <p:cNvSpPr/>
            <p:nvPr/>
          </p:nvSpPr>
          <p:spPr>
            <a:xfrm>
              <a:off x="8094960" y="1645920"/>
              <a:ext cx="443880" cy="716040"/>
            </a:xfrm>
            <a:custGeom>
              <a:avLst/>
              <a:gdLst>
                <a:gd name="textAreaLeft" fmla="*/ 0 w 443880"/>
                <a:gd name="textAreaRight" fmla="*/ 444240 w 44388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1871" h="3220">
                  <a:moveTo>
                    <a:pt x="1871" y="3220"/>
                  </a:moveTo>
                  <a:lnTo>
                    <a:pt x="0" y="0"/>
                  </a:lnTo>
                  <a:lnTo>
                    <a:pt x="0" y="1770"/>
                  </a:lnTo>
                  <a:lnTo>
                    <a:pt x="1871" y="3220"/>
                  </a:lnTo>
                  <a:close/>
                </a:path>
              </a:pathLst>
            </a:custGeom>
            <a:gradFill rotWithShape="0">
              <a:gsLst>
                <a:gs pos="0">
                  <a:srgbClr val="0061b2"/>
                </a:gs>
                <a:gs pos="50000">
                  <a:srgbClr val="004076"/>
                </a:gs>
                <a:gs pos="100000">
                  <a:srgbClr val="0061b2"/>
                </a:gs>
              </a:gsLst>
              <a:lin ang="18900000"/>
            </a:gradFill>
            <a:ln w="93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CasellaDiTesto 19"/>
          <p:cNvSpPr/>
          <p:nvPr/>
        </p:nvSpPr>
        <p:spPr>
          <a:xfrm>
            <a:off x="8361000" y="164304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Calibri"/>
              </a:rPr>
              <a:t>Organizzazione del Polo Marche Dig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56800" y="1785960"/>
            <a:ext cx="78598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Alla Unità di Progettazione è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deman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l’ elaborazione delle procedure e i processi che costituiscono il modello conservativo digitale del Po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la definizione ed implementazione del piano self-audit, di monitoraggio e di documentazione delle attività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la definizione, progettazione e pianificazione dell’aggiornamento tecnologico ed aggiornamento professionale del personale del Polo Marche Digi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la elaborazione degli schemi di contratto di serviz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la supervisione e il coordinamento della attività dell’Unità di Gestione e dell’Unità Data Ce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62"/>
          <p:cNvGrpSpPr/>
          <p:nvPr/>
        </p:nvGrpSpPr>
        <p:grpSpPr>
          <a:xfrm>
            <a:off x="7651800" y="1644480"/>
            <a:ext cx="887040" cy="719280"/>
            <a:chOff x="7651800" y="1644480"/>
            <a:chExt cx="887040" cy="719280"/>
          </a:xfrm>
        </p:grpSpPr>
        <p:sp>
          <p:nvSpPr>
            <p:cNvPr id="246" name="Freeform 31"/>
            <p:cNvSpPr/>
            <p:nvPr/>
          </p:nvSpPr>
          <p:spPr>
            <a:xfrm>
              <a:off x="7651800" y="1644480"/>
              <a:ext cx="438120" cy="71568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859" h="3212">
                  <a:moveTo>
                    <a:pt x="1859" y="0"/>
                  </a:moveTo>
                  <a:lnTo>
                    <a:pt x="0" y="3212"/>
                  </a:lnTo>
                  <a:lnTo>
                    <a:pt x="1859" y="1769"/>
                  </a:lnTo>
                  <a:lnTo>
                    <a:pt x="185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lin ang="18900000"/>
            </a:gradFill>
            <a:ln w="93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35"/>
            <p:cNvSpPr/>
            <p:nvPr/>
          </p:nvSpPr>
          <p:spPr>
            <a:xfrm>
              <a:off x="7657560" y="2041560"/>
              <a:ext cx="879120" cy="322200"/>
            </a:xfrm>
            <a:custGeom>
              <a:avLst/>
              <a:gdLst>
                <a:gd name="textAreaLeft" fmla="*/ 0 w 879120"/>
                <a:gd name="textAreaRight" fmla="*/ 879480 w 87912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3730" h="1448">
                  <a:moveTo>
                    <a:pt x="1859" y="0"/>
                  </a:moveTo>
                  <a:lnTo>
                    <a:pt x="0" y="1441"/>
                  </a:lnTo>
                  <a:lnTo>
                    <a:pt x="3730" y="1448"/>
                  </a:lnTo>
                  <a:lnTo>
                    <a:pt x="185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lin ang="18900000"/>
            </a:gradFill>
            <a:ln w="93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39"/>
            <p:cNvSpPr/>
            <p:nvPr/>
          </p:nvSpPr>
          <p:spPr>
            <a:xfrm>
              <a:off x="8094960" y="1645920"/>
              <a:ext cx="443880" cy="716040"/>
            </a:xfrm>
            <a:custGeom>
              <a:avLst/>
              <a:gdLst>
                <a:gd name="textAreaLeft" fmla="*/ 0 w 443880"/>
                <a:gd name="textAreaRight" fmla="*/ 444240 w 44388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1871" h="3220">
                  <a:moveTo>
                    <a:pt x="1871" y="3220"/>
                  </a:moveTo>
                  <a:lnTo>
                    <a:pt x="0" y="0"/>
                  </a:lnTo>
                  <a:lnTo>
                    <a:pt x="0" y="1770"/>
                  </a:lnTo>
                  <a:lnTo>
                    <a:pt x="1871" y="3220"/>
                  </a:lnTo>
                  <a:close/>
                </a:path>
              </a:pathLst>
            </a:custGeom>
            <a:gradFill rotWithShape="0">
              <a:gsLst>
                <a:gs pos="0">
                  <a:srgbClr val="0061b2"/>
                </a:gs>
                <a:gs pos="50000">
                  <a:srgbClr val="004076"/>
                </a:gs>
                <a:gs pos="100000">
                  <a:srgbClr val="0061b2"/>
                </a:gs>
              </a:gsLst>
              <a:lin ang="18900000"/>
            </a:gradFill>
            <a:ln w="93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CasellaDiTesto 19"/>
          <p:cNvSpPr/>
          <p:nvPr/>
        </p:nvSpPr>
        <p:spPr>
          <a:xfrm>
            <a:off x="8361000" y="164304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Calibri"/>
              </a:rPr>
              <a:t>Organizzazione del Polo Marche Dig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56800" y="1785960"/>
            <a:ext cx="78598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L’ Unità di Gestio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mplementa il modello conservativo digitale disegnato dall’Unità di Progett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rende disponibile un servizio di help desk sulle tematiche di archiviazione e conservazione, interagendo con gli enti produttor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62"/>
          <p:cNvGrpSpPr/>
          <p:nvPr/>
        </p:nvGrpSpPr>
        <p:grpSpPr>
          <a:xfrm>
            <a:off x="7658280" y="1646280"/>
            <a:ext cx="880920" cy="717480"/>
            <a:chOff x="7658280" y="1646280"/>
            <a:chExt cx="880920" cy="717480"/>
          </a:xfrm>
        </p:grpSpPr>
        <p:sp>
          <p:nvSpPr>
            <p:cNvPr id="253" name="Freeform 35"/>
            <p:cNvSpPr/>
            <p:nvPr/>
          </p:nvSpPr>
          <p:spPr>
            <a:xfrm>
              <a:off x="7658280" y="2041560"/>
              <a:ext cx="878760" cy="322200"/>
            </a:xfrm>
            <a:custGeom>
              <a:avLst/>
              <a:gdLst>
                <a:gd name="textAreaLeft" fmla="*/ 0 w 878760"/>
                <a:gd name="textAreaRight" fmla="*/ 879120 w 87876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3730" h="1448">
                  <a:moveTo>
                    <a:pt x="1859" y="0"/>
                  </a:moveTo>
                  <a:lnTo>
                    <a:pt x="0" y="1441"/>
                  </a:lnTo>
                  <a:lnTo>
                    <a:pt x="3730" y="1448"/>
                  </a:lnTo>
                  <a:lnTo>
                    <a:pt x="185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lin ang="18900000"/>
            </a:gradFill>
            <a:ln w="93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39"/>
            <p:cNvSpPr/>
            <p:nvPr/>
          </p:nvSpPr>
          <p:spPr>
            <a:xfrm>
              <a:off x="8094960" y="1646280"/>
              <a:ext cx="444240" cy="71604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1871" h="3220">
                  <a:moveTo>
                    <a:pt x="1871" y="3220"/>
                  </a:moveTo>
                  <a:lnTo>
                    <a:pt x="0" y="0"/>
                  </a:lnTo>
                  <a:lnTo>
                    <a:pt x="0" y="1770"/>
                  </a:lnTo>
                  <a:lnTo>
                    <a:pt x="1871" y="3220"/>
                  </a:lnTo>
                  <a:close/>
                </a:path>
              </a:pathLst>
            </a:custGeom>
            <a:solidFill>
              <a:srgbClr val="ddd9c3"/>
            </a:solidFill>
            <a:ln w="93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CasellaDiTesto 19"/>
          <p:cNvSpPr/>
          <p:nvPr/>
        </p:nvSpPr>
        <p:spPr>
          <a:xfrm>
            <a:off x="7432920" y="171468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U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31"/>
          <p:cNvSpPr/>
          <p:nvPr/>
        </p:nvSpPr>
        <p:spPr>
          <a:xfrm>
            <a:off x="7662960" y="1643040"/>
            <a:ext cx="409320" cy="714240"/>
          </a:xfrm>
          <a:custGeom>
            <a:avLst/>
            <a:gdLst>
              <a:gd name="textAreaLeft" fmla="*/ 0 w 409320"/>
              <a:gd name="textAreaRight" fmla="*/ 409680 w 40932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1859" h="3212">
                <a:moveTo>
                  <a:pt x="1859" y="0"/>
                </a:moveTo>
                <a:lnTo>
                  <a:pt x="0" y="3212"/>
                </a:lnTo>
                <a:lnTo>
                  <a:pt x="1859" y="1769"/>
                </a:lnTo>
                <a:lnTo>
                  <a:pt x="1859" y="0"/>
                </a:lnTo>
                <a:close/>
              </a:path>
            </a:pathLst>
          </a:custGeom>
          <a:gradFill rotWithShape="0">
            <a:gsLst>
              <a:gs pos="0">
                <a:srgbClr val="69a2e1"/>
              </a:gs>
              <a:gs pos="50000">
                <a:srgbClr val="466b95"/>
              </a:gs>
              <a:gs pos="100000">
                <a:srgbClr val="69a2e1"/>
              </a:gs>
            </a:gsLst>
            <a:lin ang="18900000"/>
          </a:gradFill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Calibri"/>
              </a:rPr>
              <a:t>Organizzazione del Polo Marche Dig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856800" y="1785960"/>
            <a:ext cx="78598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L’ Unità di Data Center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è formata da figure professionali idonee che svolgono le attività di natura tecnica assicurando il corretto funzionamento del Polo Marche DigiP con modalità e tempi definiti dalla Unità di Progettazi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l Data Center è dislocato presso la Regione Marc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62"/>
          <p:cNvGrpSpPr/>
          <p:nvPr/>
        </p:nvGrpSpPr>
        <p:grpSpPr>
          <a:xfrm>
            <a:off x="7651800" y="1644480"/>
            <a:ext cx="887400" cy="719280"/>
            <a:chOff x="7651800" y="1644480"/>
            <a:chExt cx="887400" cy="719280"/>
          </a:xfrm>
        </p:grpSpPr>
        <p:sp>
          <p:nvSpPr>
            <p:cNvPr id="260" name="Freeform 31"/>
            <p:cNvSpPr/>
            <p:nvPr/>
          </p:nvSpPr>
          <p:spPr>
            <a:xfrm>
              <a:off x="7651800" y="1644480"/>
              <a:ext cx="438120" cy="71568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859" h="3212">
                  <a:moveTo>
                    <a:pt x="1859" y="0"/>
                  </a:moveTo>
                  <a:lnTo>
                    <a:pt x="0" y="3212"/>
                  </a:lnTo>
                  <a:lnTo>
                    <a:pt x="1859" y="1769"/>
                  </a:lnTo>
                  <a:lnTo>
                    <a:pt x="185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lin ang="18900000"/>
            </a:gradFill>
            <a:ln w="93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35"/>
            <p:cNvSpPr/>
            <p:nvPr/>
          </p:nvSpPr>
          <p:spPr>
            <a:xfrm>
              <a:off x="7658280" y="2041560"/>
              <a:ext cx="879120" cy="322200"/>
            </a:xfrm>
            <a:custGeom>
              <a:avLst/>
              <a:gdLst>
                <a:gd name="textAreaLeft" fmla="*/ 0 w 879120"/>
                <a:gd name="textAreaRight" fmla="*/ 879480 w 87912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3730" h="1448">
                  <a:moveTo>
                    <a:pt x="1859" y="0"/>
                  </a:moveTo>
                  <a:lnTo>
                    <a:pt x="0" y="1441"/>
                  </a:lnTo>
                  <a:lnTo>
                    <a:pt x="3730" y="1448"/>
                  </a:lnTo>
                  <a:lnTo>
                    <a:pt x="1859" y="0"/>
                  </a:lnTo>
                  <a:close/>
                </a:path>
              </a:pathLst>
            </a:custGeom>
            <a:solidFill>
              <a:srgbClr val="558ed5"/>
            </a:solidFill>
            <a:ln w="93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39"/>
            <p:cNvSpPr/>
            <p:nvPr/>
          </p:nvSpPr>
          <p:spPr>
            <a:xfrm>
              <a:off x="8094600" y="1645920"/>
              <a:ext cx="444600" cy="71604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1871" h="3220">
                  <a:moveTo>
                    <a:pt x="1871" y="3220"/>
                  </a:moveTo>
                  <a:lnTo>
                    <a:pt x="0" y="0"/>
                  </a:lnTo>
                  <a:lnTo>
                    <a:pt x="0" y="1770"/>
                  </a:lnTo>
                  <a:lnTo>
                    <a:pt x="1871" y="3220"/>
                  </a:lnTo>
                  <a:close/>
                </a:path>
              </a:pathLst>
            </a:custGeom>
            <a:solidFill>
              <a:srgbClr val="ddd9c3"/>
            </a:solidFill>
            <a:ln w="93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CasellaDiTesto 19"/>
          <p:cNvSpPr/>
          <p:nvPr/>
        </p:nvSpPr>
        <p:spPr>
          <a:xfrm>
            <a:off x="7933680" y="2428920"/>
            <a:ext cx="45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UD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10:08:06Z</dcterms:created>
  <dc:creator>Silvia Pedroni</dc:creator>
  <dc:description/>
  <dc:language>en-US</dc:language>
  <cp:lastModifiedBy>Cinzia Amici</cp:lastModifiedBy>
  <dcterms:modified xsi:type="dcterms:W3CDTF">2011-04-12T08:38:27Z</dcterms:modified>
  <cp:revision>82</cp:revision>
  <dc:subject/>
  <dc:title>Presentazione standard di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A78713864A00704CB64864F8B518FC12</vt:lpwstr>
  </property>
</Properties>
</file>