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5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6.png" ContentType="image/png"/>
  <Override PartName="/ppt/media/image44.jpeg" ContentType="image/jpeg"/>
  <Override PartName="/ppt/media/image45.png" ContentType="image/png"/>
  <Override PartName="/ppt/media/image51.jpeg" ContentType="image/jpeg"/>
  <Override PartName="/ppt/media/image40.png" ContentType="image/png"/>
  <Override PartName="/ppt/media/image52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png" ContentType="image/png"/>
  <Override PartName="/ppt/media/image54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6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770C-C9A6-4615-B33A-53933DB849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01D7-0058-49AD-9F86-C92087CACA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F4C6-20D6-4C1A-8400-0109A5FFADE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C4E0-E72D-44C5-BAF5-8DC90C60A8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8EDE-0770-4D37-854D-FB4B9BBEB0E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EED9-02D9-43AF-BD56-748C89E7E77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5506-DD85-4AF1-93D4-C3BFE127172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E74E-7AEC-4587-976A-BCC963B4E4D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FFED-899C-4E85-976F-8F0B7DD0342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45B3D-D8C8-4AC1-A8BD-D7DB7710917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02597A-A5C3-4647-A607-74DFA292E06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2EA6B1-C294-4EB6-B588-0E3463A0D0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AEE7-1F68-46F2-B081-2472692C93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CB342-AB99-49A5-8816-FC6BF3374D6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32AD6F-BD45-4E52-A23D-C3B3CD1BA5B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4921C-61BE-42EE-BA9A-B018D5CBD8E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BB3DE-70DD-48C9-96DB-9C3F71C4D28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30596-3D2A-4684-88C4-D6A010545CC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6E6867-0257-43CF-86FC-CBE30AF5D5D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B02DF5-ADC1-4CC3-B420-5BD72828F27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8428D7-E894-4CD0-ADF1-E2A71ABF4FC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0A32E-B48D-4108-8E96-AD8602A3323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E84E-874E-4DD7-A70A-BFCCFF2DD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3DF8-36DE-411D-8619-AA773F8D84B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3DE2-932D-4A82-86C2-411B6318CBA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E4CD-CA5D-465A-A620-FAEE3DBE87D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0868-1096-4DF1-828D-A4C9A6794C4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4788-8C45-4EA4-8E2B-2775915B73A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D91B-CCF7-4A77-B602-C2A7761B830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7EF7-382D-4974-A497-17620B18F48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B220-6F69-432C-B022-97F1FC505D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96DC-B582-4ED5-B5C5-54BAF392BB0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B8E82-AB0E-49A5-B10F-34462F5EB1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EF64-E02E-4A94-B26B-0D41ED460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06C7-FC0B-45CD-B5EC-637C7379F8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98EB8-7057-415C-8ABE-B621E2EA9A2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BBCFE-09BD-4C93-9CFA-734407681D9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4C9AE-F2C8-48BD-979F-C90BC97B5A4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3F14F-9FB6-4129-A1B6-31043B28B1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38B2E-7968-4B2F-8D82-496840BF1C1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0BA32-F9CE-46AF-88F2-F985449AE46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65A38-1185-4E0D-98CC-99E297C3B35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24CC5-ADF7-4CF4-86C8-5A487E88DD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2F20E-F9F1-4D2C-94E2-AEAB17F2735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58AFE-7D4C-47D3-A7F2-65CF387C79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F7917-7FD5-4705-8F4F-52419CCA347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218C5-4ABE-4E59-849B-5D9234CBA96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687AA-9A4A-49E7-9FA0-357FC4C4A4C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136D4-7A04-47DC-A431-0E6B3C4B078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14F31-9497-42AF-883F-0A6001D3BF9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813F3-0E70-427A-B14A-A6CC2EC610D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331CB-9A80-451A-A2CC-51CAD74C97A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EDD55-97E0-4D80-AAB1-4AEF4B7AB69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35AC5-C016-41B3-B2E6-844BD26D64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09842-3CD8-4464-99DC-6E7314FDE9A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E197F-47A8-4961-84A1-72057F075E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0A85-9B61-4305-A505-D34A7CA3A96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0621C-8D2A-4967-8F01-F048F4BBFBD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12F10-B535-4FB7-AC96-2C6AA071C6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33A55-2E6A-424A-A4D9-BCFF6082CFB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7453E-4ACA-46EE-AAC6-3783D626000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E68D1-029D-4D28-BCCE-85CD95E9811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51554-BCBE-4D6B-BF2D-0536FF2C24E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5FEB8-A2F2-4AC1-BB53-2EFEAF37B0A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C41AF-844E-41D1-AC28-E164EF85EF2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FCCFF-43D7-48D9-84A4-76002FA434C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F3A8-5FFC-4EBC-BFE2-202C2E3488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A7EFB-69C1-4D57-832E-106FFABE179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75D51-17E3-4FF9-AB3C-F718B2038A2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6688-D7C9-4DB8-97E5-EFCA4173700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7B345-83A5-434E-8899-7DB53AAFD36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56CA-65B7-4F5F-B6CF-96B5CB5574B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D486-649B-43EA-B1AA-95B3041084A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4AD56-20B8-4C95-976A-3F9BF147760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42639-656C-4BED-A802-2A8792420B5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B500E-21CC-42F6-81D7-9840EC97FA2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F5A655-D03B-4512-A2FA-8C2634FD74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D256D-56BC-41A8-B799-A31D0A1E14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94C36-1ED9-4628-83AB-4D478BE47C6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FFD27-DFB2-483B-8340-7E3F77D3DD3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670C58-AABB-4349-82CB-90E9AA9635D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9D32D-1829-4060-B4C3-BEDD3ED79C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10361-5E0C-4CA0-A0DE-7645A7BABE8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CB245-05CC-435D-8CBE-99359786D41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689D16-0AEA-4143-9196-008EBCE644A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545DD-3FB1-4D47-B9C6-47FA732D8EA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ECB20-7C47-4F15-A325-B06C98A1C18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D9941-D363-496D-90A5-7D39CE6C59B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E7C461-1D42-47D0-A099-4F1C68CA65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0C2A-80AD-4A45-B5EE-1CC5705B7D6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ADC6D7-6C54-460A-9839-9A55FEA37B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0088D8-8872-453B-B89C-D880F9938F8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BEA205-374A-4D1D-94F6-A471A81B51E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2A6FA-2F2E-47F6-B59D-43B5D36CE39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6982A-EBD8-4850-9E15-18618CAA34A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B7B899-15C4-4592-94DC-EA405EBBB44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E47A68-8D9F-490D-ADD4-F6F90672707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1FBF9F-0ADC-4DDF-B30B-73CCDB3DF7E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B4B720-54E7-496E-B19D-68179F9612A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375519-EDDA-4545-BA25-9054BDD21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410E-ABA2-46AF-926D-0CF562B5993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BD966D-6B72-4566-A1F5-F3077D4B34E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891E1-B496-40B5-8202-7E658D6ACE6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EA4A4-BFED-4485-8B16-69987733A04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CDFAC-FD2D-4054-ADC9-FA27B1D4DA1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7443E-3211-4C42-9AAE-1E6B10DD22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AC00-2CB2-4CF5-892F-1855BD37AEB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F022A-8E56-4DFC-8521-1F6F37D7A94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2E073-28FA-4FC8-8F35-AC54FE579D3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19236-CB13-4813-8E57-5303EA72BBC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FB49F-123A-412B-A38D-EB6033E06E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67F6-E1A5-46ED-B49F-39A83A18DC9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5B9B-B0C0-467A-83CA-21E3F00CCC7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079A6-E8DF-43F4-9245-5AE1820C16A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CFF47-8099-4C40-8C5E-3F970E12DF1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DB6732-8C13-4AD2-9A22-9F1FE2A6806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DF293-4EB2-4F57-A523-E7BB47506EA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2F372-64E9-428D-8A9E-CA7516E536E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7768A3-F0C9-44ED-A8DB-751B4434A1A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5C8B5-2A4D-471B-8C13-BCD40C63E2B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5E219-EA9A-49F3-B5DF-694F05F0F2E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4F4239-0F32-4E44-A772-D045210431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893FF-28F4-4F89-AEDB-27A7F1DE530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7C0905-147C-4172-892E-DEA51DC0644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909CBB-9533-4C9A-A341-9A3A4256C96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5B5EA-4977-4B2D-AEE0-95B52DF2883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72637-2AD1-41BC-AF47-5B9CF72EB09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437830-EBF2-4095-8477-4C13BC939C6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05E484-412D-4D15-9550-5936008B809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40B3B1-A316-4A09-A91E-F1AAF37FF9E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E75B77-8652-4C5C-884A-43D6D5C6F5A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806CF2-BF5D-430D-987D-C719FA2B0C4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5A7597-F73F-4D18-86BA-2EB5EC149F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1061-012D-488A-B45F-900F5FDD7FD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980381-FB28-4919-A7D1-E8F18291A2A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0FCB88-9302-4C29-B46D-456AE389F87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E4275D-5B8F-4568-92BE-9B0B32FD9BD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88A88F-9EEF-4B1A-BF7A-D8C47AC45AA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2C3991-9297-4EF5-B322-0DD5CB1A6D3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445EF4-5D7C-42D8-97AE-5AD13B9BEA9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FB7CF6-B771-4C51-A425-AA0BBE0AC29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E2AD6-4D84-4E19-B95B-48459E6C8F9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73DD7-07C6-4DC7-AC15-10F796C3525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6634A-2E6D-4F48-9085-EAE7CC47F6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07478-9DC9-4BB9-AFD1-EED52E8A1B0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DD154-F6E6-4FAE-9145-A6775F1AFB0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59816-2C62-4687-ACBE-10D63337A88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FA0FB-9C19-40C5-8DB3-5A49F5EC3EA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D3F2A-D231-4DAD-8447-5BBABA831BD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EB75E-FF57-4238-9AA8-B775FCBE881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996FF-E3AA-457A-9E60-19208EBCAC1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62A50-B5BE-417E-A065-C45A60908C5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F46C4-EF5F-4525-8754-80896C1FF5B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1A699-7128-41C4-A419-2689632DCD3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C4BF-0E3F-4E33-9534-39D3B5E1ACA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C413-5C0B-47B2-87FE-42A99C1F783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0A2F7-FC29-43BA-A9ED-111DBC05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EA9F2-CE83-4D2D-981F-5FD776B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4223D2-5F79-4561-A925-5E4DC3BE94C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E649D5-3E7F-43EA-AE7D-E5EBE00D466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0CC92E-8B4F-4EA4-AEE9-22411ADCFDA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639484-53F2-4FCD-8133-FA4962FB198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7C058E-A408-410A-976E-3C989C11A5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0C31D-FC1D-4BE0-A209-E11CF177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01E0CA-593D-424A-AEC9-5583F440F43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DDE3C1-E8FD-4A52-8A4C-CBA3AA7C3C2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F3D3F3-0EB5-4719-9431-71A1BC1FA4E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1738EF-D340-43F1-883E-CE32187DDC7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9B03F9-520E-4943-B00C-EF75D6CABFD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C4BCDC-0A6B-4C5C-BF6B-79B9EBDC1D3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03B02A-2BD2-479D-A9CC-28396C7B101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E3482-9C10-46B6-A02E-A30D971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D82A2-2C1B-429E-B817-5BA95FF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99F32-6978-4996-B6DB-69217D3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8A7F4-720E-4767-BA05-D3B3F7F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7E141-6512-4130-86E9-F9910B7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13473-1BAF-4763-9A31-F1513E13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4866A-7D0E-4024-BCC6-A3468E3A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F1475-3A1F-4AEB-8428-6DC2AD3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B27A6-6AFA-43CB-B90A-5CE20FE6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5900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7918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394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791880"/>
            <a:ext cx="4015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394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791880"/>
            <a:ext cx="264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511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Gianfilippo D’Agostino  DMO.Public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ftr" idx="10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ftr" idx="11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ftr" idx="12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ftr" idx="13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ftr" idx="14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ftr" idx="15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ftr" idx="16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ftr" idx="17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ftr" idx="18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19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45B7-EE0E-4821-A6DA-A2CA9EDF06A4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0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ECEB-D1D0-4B8A-BD0F-0F1ED5947118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Gianfilippo D’Agostino DMO.Public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1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1F4-F21B-4D15-8727-8C2685A0E036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22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sldNum" idx="23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CA1B-90DB-4222-AA25-D41942B7D690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24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sldNum" idx="25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44F-4FC1-4F87-B124-10C1B9222788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26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sldNum" idx="27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0CE-D5AD-4CA3-BEF2-30F287E45BD1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28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sldNum" idx="29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2A4-4D2F-4A13-950E-B2D5AA144D16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30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sldNum" idx="31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BE6-34F5-43E1-9B4F-4BAB63365071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32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sldNum" idx="33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399-D57D-45B9-9DFD-F12D0C212548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34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35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AA03-3731-46F9-8BCB-0685993360AB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36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Num" idx="37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499-1A77-49CA-8280-46DC0776B09F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38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7" descr="marchio_telecom_colore"/>
          <p:cNvPicPr/>
          <p:nvPr/>
        </p:nvPicPr>
        <p:blipFill>
          <a:blip r:embed="rId2"/>
          <a:stretch/>
        </p:blipFill>
        <p:spPr>
          <a:xfrm>
            <a:off x="179280" y="6207120"/>
            <a:ext cx="1611360" cy="39060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15"/>
          <p:cNvSpPr/>
          <p:nvPr/>
        </p:nvSpPr>
        <p:spPr>
          <a:xfrm>
            <a:off x="611280" y="6188040"/>
            <a:ext cx="8316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4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CATANIA, 21 SETTEMBRE 2010</a:t>
            </a:r>
            <a:r>
              <a:rPr b="1" lang="en-US" sz="1200" spc="-1" strike="noStrike">
                <a:solidFill>
                  <a:srgbClr val="6c6f70"/>
                </a:solidFill>
                <a:latin typeface="Franklin Gothic Book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23640" y="604440"/>
            <a:ext cx="8569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323640" y="1766880"/>
            <a:ext cx="8569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42160" indent="-20844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3412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67840" indent="-166680">
              <a:lnSpc>
                <a:spcPct val="120000"/>
              </a:lnSpc>
              <a:spcAft>
                <a:spcPts val="1599"/>
              </a:spcAft>
              <a:buClr>
                <a:srgbClr val="d52b1e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501560" indent="-1666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501560" indent="-1666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sldNum" idx="39"/>
          </p:nvPr>
        </p:nvSpPr>
        <p:spPr>
          <a:xfrm>
            <a:off x="4572000" y="626580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86E5-F9CC-4F2D-8192-05530DC81868}" type="slidenum"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40"/>
          </p:nvPr>
        </p:nvSpPr>
        <p:spPr>
          <a:xfrm>
            <a:off x="5219280" y="6237000"/>
            <a:ext cx="37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33520" indent="-17640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93880" indent="-16992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25748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71800" indent="-228600">
              <a:spcAft>
                <a:spcPts val="7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4"/>
          </p:nvPr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6120"/>
            <a:ext cx="1312920" cy="272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1968480" y="6342120"/>
            <a:ext cx="457200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Top Clients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IT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8141040" y="6469200"/>
            <a:ext cx="799560" cy="26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49B-A48D-4539-9661-41188F9DD665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DATA CENTER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8"/>
          <p:cNvSpPr/>
          <p:nvPr/>
        </p:nvSpPr>
        <p:spPr>
          <a:xfrm>
            <a:off x="1981080" y="260280"/>
            <a:ext cx="48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GRUPPO TELECOM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Maggi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9" descr="marchio_telecom_colore"/>
          <p:cNvPicPr/>
          <p:nvPr/>
        </p:nvPicPr>
        <p:blipFill>
          <a:blip r:embed="rId3"/>
          <a:stretch/>
        </p:blipFill>
        <p:spPr>
          <a:xfrm>
            <a:off x="1251000" y="6396120"/>
            <a:ext cx="1312920" cy="272880"/>
          </a:xfrm>
          <a:prstGeom prst="rect">
            <a:avLst/>
          </a:prstGeom>
          <a:ln w="0">
            <a:noFill/>
          </a:ln>
        </p:spPr>
      </p:pic>
      <p:sp>
        <p:nvSpPr>
          <p:cNvPr id="1180" name="PlaceHolder 1"/>
          <p:cNvSpPr>
            <a:spLocks noGrp="1"/>
          </p:cNvSpPr>
          <p:nvPr>
            <p:ph type="body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33520" indent="-17640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93880" indent="-16992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25748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71800" indent="-228600">
              <a:spcAft>
                <a:spcPts val="7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6120"/>
            <a:ext cx="1312920" cy="27288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9"/>
          <p:cNvSpPr/>
          <p:nvPr/>
        </p:nvSpPr>
        <p:spPr>
          <a:xfrm>
            <a:off x="1968480" y="6342120"/>
            <a:ext cx="457200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Top Clients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IT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10"/>
          <p:cNvSpPr/>
          <p:nvPr/>
        </p:nvSpPr>
        <p:spPr>
          <a:xfrm>
            <a:off x="8141040" y="6469200"/>
            <a:ext cx="799560" cy="26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43F5-BD7F-4A9B-B092-C6FCDC1C762C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DATA CENTER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body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33520" indent="-17640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93880" indent="-16992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25748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71800" indent="-228600">
              <a:spcAft>
                <a:spcPts val="7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6120"/>
            <a:ext cx="1312920" cy="27288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9"/>
          <p:cNvSpPr/>
          <p:nvPr/>
        </p:nvSpPr>
        <p:spPr>
          <a:xfrm>
            <a:off x="1968480" y="6342120"/>
            <a:ext cx="457200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Top Clients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IT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0"/>
          <p:cNvSpPr/>
          <p:nvPr/>
        </p:nvSpPr>
        <p:spPr>
          <a:xfrm>
            <a:off x="8141040" y="6469200"/>
            <a:ext cx="799560" cy="26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20F6-D248-4CE0-A2C4-8838F57D715F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DATA CENTER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body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33520" indent="-17640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93880" indent="-16992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25748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71800" indent="-228600">
              <a:spcAft>
                <a:spcPts val="7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457200" y="12394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533520" indent="-17640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893880" indent="-169920">
              <a:spcAft>
                <a:spcPts val="799"/>
              </a:spcAft>
              <a:buClr>
                <a:srgbClr val="ff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257480" indent="-177840">
              <a:spcAft>
                <a:spcPts val="799"/>
              </a:spcAft>
              <a:buClr>
                <a:srgbClr val="ff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71800" indent="-228600">
              <a:spcAft>
                <a:spcPts val="7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71800" indent="-228600">
              <a:spcAft>
                <a:spcPts val="7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sldNum" idx="41"/>
          </p:nvPr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7560"/>
            <a:ext cx="1312920" cy="271440"/>
          </a:xfrm>
          <a:prstGeom prst="rect">
            <a:avLst/>
          </a:prstGeom>
          <a:ln w="0">
            <a:noFill/>
          </a:ln>
        </p:spPr>
      </p:pic>
      <p:sp>
        <p:nvSpPr>
          <p:cNvPr id="1342" name="Rectangle 6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Gruppo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8"/>
          <p:cNvSpPr/>
          <p:nvPr/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400-8E2F-45E4-B35C-9AF65E8D4ED9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5983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6277-739F-4231-972C-565457985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983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6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7560"/>
            <a:ext cx="1312920" cy="271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Gruppo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5046-B51C-4A3C-98F6-3A263A4D674A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</a:rPr>
              <a:t>Click to edit the title text format</a:t>
            </a:r>
            <a:endParaRPr b="0" lang="en-US" sz="2600" spc="-1" strike="noStrike">
              <a:solidFill>
                <a:srgbClr val="ff0000"/>
              </a:solidFill>
              <a:latin typeface="Franklin Gothic Dem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74400" indent="936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750600" indent="1692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125360" indent="262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740240" indent="-191880">
              <a:lnSpc>
                <a:spcPct val="120000"/>
              </a:lnSpc>
              <a:spcAft>
                <a:spcPts val="1599"/>
              </a:spcAft>
              <a:buClr>
                <a:srgbClr val="ff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740240" indent="-1918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740240" indent="-191880">
              <a:lnSpc>
                <a:spcPct val="120000"/>
              </a:lnSpc>
              <a:spcAft>
                <a:spcPts val="1599"/>
              </a:spcAft>
              <a:buClr>
                <a:srgbClr val="000000"/>
              </a:buClr>
              <a:buSzPct val="50000"/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Gruppo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marchio_telecom_colore"/>
          <p:cNvPicPr/>
          <p:nvPr/>
        </p:nvPicPr>
        <p:blipFill>
          <a:blip r:embed="rId2"/>
          <a:stretch/>
        </p:blipFill>
        <p:spPr>
          <a:xfrm>
            <a:off x="539640" y="6396120"/>
            <a:ext cx="1312920" cy="272880"/>
          </a:xfrm>
          <a:prstGeom prst="rect">
            <a:avLst/>
          </a:prstGeom>
          <a:ln w="0">
            <a:noFill/>
          </a:ln>
        </p:spPr>
      </p:pic>
      <p:sp>
        <p:nvSpPr>
          <p:cNvPr id="209" name="Segnaposto piè di pagina 3"/>
          <p:cNvSpPr/>
          <p:nvPr/>
        </p:nvSpPr>
        <p:spPr>
          <a:xfrm>
            <a:off x="2050920" y="6381720"/>
            <a:ext cx="3313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7e7e"/>
                </a:solidFill>
                <a:latin typeface="Franklin Gothic Demi"/>
                <a:ea typeface="Arial"/>
              </a:rPr>
              <a:t>Top Clients -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F42-8EA5-4411-8FA7-4C11C3C6255C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983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8" name="Picture 9" descr="marchio_telecom_colore"/>
          <p:cNvPicPr/>
          <p:nvPr/>
        </p:nvPicPr>
        <p:blipFill>
          <a:blip r:embed="rId2"/>
          <a:stretch/>
        </p:blipFill>
        <p:spPr>
          <a:xfrm>
            <a:off x="539640" y="6397560"/>
            <a:ext cx="1312920" cy="271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468360" y="260280"/>
            <a:ext cx="8207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Gruppo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7667640" y="638172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8150-8055-4E48-A029-EAC11A4D4DAA}" type="slidenum">
              <a:rPr b="0" lang="it-IT" sz="1000" spc="-1" strike="noStrike">
                <a:solidFill>
                  <a:srgbClr val="7e7e7e"/>
                </a:solidFill>
                <a:latin typeface="Franklin Gothic Dem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ftr" idx="8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8" descr="nuvola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"/>
          <p:cNvSpPr/>
          <p:nvPr/>
        </p:nvSpPr>
        <p:spPr>
          <a:xfrm>
            <a:off x="1042920" y="6235560"/>
            <a:ext cx="813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NCONTRA LE ISTITUZIONI E GLI IMPRENDI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CATANIA, 21 SETTEM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ftr" idx="9"/>
          </p:nvPr>
        </p:nvSpPr>
        <p:spPr>
          <a:xfrm>
            <a:off x="4643280" y="6308640"/>
            <a:ext cx="4392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Nome e funzione del Rel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hyperlink" Target="http://www.telecomitalia.it/" TargetMode="External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egione.emilia-romagna.it/" TargetMode="External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tat.it/" TargetMode="External"/><Relationship Id="rId2" Type="http://schemas.openxmlformats.org/officeDocument/2006/relationships/image" Target="../media/image50.png"/><Relationship Id="rId3" Type="http://schemas.openxmlformats.org/officeDocument/2006/relationships/hyperlink" Target="http://www.istat.it/censimenti/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www.digitpa.gov.it/spc" TargetMode="External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3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hyperlink" Target="http://images.google.it/imgres?imgurl=http://eetd.lbl.gov/hightech/img/datacenter_lg.jpg&amp;imgrefurl=http://eetd.lbl.gov/hightech/vol1.htm&amp;h=343&amp;w=463&amp;sz=44&amp;hl=it&amp;start=73&amp;um=1&amp;tbnid=J8-hvvJv5FOTTM:&amp;tbnh=95&amp;tbnw=128&amp;prev=/images?q=data+center&amp;start=60&amp;gbv=2&amp;ndsp=20&amp;svnum=10&amp;um=1&amp;hl=it&amp;sa=N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3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Segnaposto piè di pagina 3"/>
          <p:cNvSpPr/>
          <p:nvPr/>
        </p:nvSpPr>
        <p:spPr>
          <a:xfrm>
            <a:off x="5867280" y="6400800"/>
            <a:ext cx="3097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e7e7e"/>
                </a:solidFill>
                <a:latin typeface="Franklin Gothic Demi"/>
                <a:ea typeface="Arial"/>
              </a:rPr>
              <a:t>Andrea Costa DMO.Public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ttangolo 2"/>
          <p:cNvSpPr/>
          <p:nvPr/>
        </p:nvSpPr>
        <p:spPr>
          <a:xfrm>
            <a:off x="189000" y="3857760"/>
            <a:ext cx="866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Demi"/>
                <a:ea typeface="Arial"/>
              </a:rPr>
              <a:t>Opportunità e sfide del Cloud Computing per la Pubblica Amministrazione:  il ruolo di Telecom come provider di servizi di Burocraz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Franklin Gothic Demi"/>
                <a:ea typeface="Arial"/>
              </a:rPr>
              <a:t>Seminario "Politiche, strategie e strumenti della conservazione digitale" - Bologna, 11-12 april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ttangolo 6"/>
          <p:cNvSpPr/>
          <p:nvPr/>
        </p:nvSpPr>
        <p:spPr>
          <a:xfrm>
            <a:off x="1857240" y="6000840"/>
            <a:ext cx="72154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CasellaDiTesto 4"/>
          <p:cNvSpPr/>
          <p:nvPr/>
        </p:nvSpPr>
        <p:spPr>
          <a:xfrm>
            <a:off x="7763400" y="5581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rea C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itolo 1"/>
          <p:cNvSpPr/>
          <p:nvPr/>
        </p:nvSpPr>
        <p:spPr>
          <a:xfrm>
            <a:off x="428760" y="50004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Matrice accesso/proprietà  e Cloud “feder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6629400" cy="43434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1604" name="Rettangolo arrotondato 5"/>
          <p:cNvSpPr/>
          <p:nvPr/>
        </p:nvSpPr>
        <p:spPr>
          <a:xfrm>
            <a:off x="2500200" y="2819520"/>
            <a:ext cx="2857680" cy="1857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5" name="Connettore 2 6"/>
          <p:cNvCxnSpPr>
            <a:stCxn id="1604" idx="3"/>
            <a:endCxn id="1606" idx="1"/>
          </p:cNvCxnSpPr>
          <p:nvPr/>
        </p:nvCxnSpPr>
        <p:spPr>
          <a:xfrm>
            <a:off x="5357880" y="3747600"/>
            <a:ext cx="1929600" cy="3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06" name="Croce 7"/>
          <p:cNvSpPr/>
          <p:nvPr/>
        </p:nvSpPr>
        <p:spPr>
          <a:xfrm>
            <a:off x="7286760" y="3286080"/>
            <a:ext cx="1643040" cy="928800"/>
          </a:xfrm>
          <a:prstGeom prst="plus">
            <a:avLst>
              <a:gd name="adj" fmla="val 25000"/>
            </a:avLst>
          </a:prstGeom>
          <a:solidFill>
            <a:srgbClr val="677390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Franklin Gothic Demi"/>
                <a:ea typeface="Arial"/>
              </a:rPr>
              <a:t>Ambiente abilitante dei cloud condi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Croce 8"/>
          <p:cNvSpPr/>
          <p:nvPr/>
        </p:nvSpPr>
        <p:spPr>
          <a:xfrm>
            <a:off x="7500960" y="2643120"/>
            <a:ext cx="1285920" cy="870120"/>
          </a:xfrm>
          <a:prstGeom prst="plus">
            <a:avLst>
              <a:gd name="adj" fmla="val 25000"/>
            </a:avLst>
          </a:prstGeom>
          <a:solidFill>
            <a:srgbClr val="0070b0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application interoper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Croce 9"/>
          <p:cNvSpPr/>
          <p:nvPr/>
        </p:nvSpPr>
        <p:spPr>
          <a:xfrm>
            <a:off x="7500960" y="4000680"/>
            <a:ext cx="1285920" cy="869760"/>
          </a:xfrm>
          <a:prstGeom prst="plus">
            <a:avLst>
              <a:gd name="adj" fmla="val 25000"/>
            </a:avLst>
          </a:prstGeom>
          <a:solidFill>
            <a:srgbClr val="0070b0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Security/Priv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ttangolo arrotondato 10"/>
          <p:cNvSpPr/>
          <p:nvPr/>
        </p:nvSpPr>
        <p:spPr>
          <a:xfrm>
            <a:off x="7286760" y="2428920"/>
            <a:ext cx="1714320" cy="2928960"/>
          </a:xfrm>
          <a:custGeom>
            <a:avLst/>
            <a:gdLst>
              <a:gd name="textAreaLeft" fmla="*/ 83520 w 1714320"/>
              <a:gd name="textAreaRight" fmla="*/ 1630800 w 1714320"/>
              <a:gd name="textAreaTop" fmla="*/ 83520 h 2928960"/>
              <a:gd name="textAreaBottom" fmla="*/ 2845440 h 2928960"/>
            </a:gdLst>
            <a:ahLst/>
            <a:rect l="textAreaLeft" t="textAreaTop" r="textAreaRight" b="textAreaBottom"/>
            <a:pathLst>
              <a:path w="21600" h="36901">
                <a:moveTo>
                  <a:pt x="3600" y="0"/>
                </a:moveTo>
                <a:arcTo wR="3600" hR="3600" stAng="16200000" swAng="-5400000"/>
                <a:lnTo>
                  <a:pt x="0" y="33301"/>
                </a:lnTo>
                <a:arcTo wR="3600" hR="3600" stAng="10800000" swAng="-5400000"/>
                <a:lnTo>
                  <a:pt x="18000" y="36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ttangolo 11"/>
          <p:cNvSpPr/>
          <p:nvPr/>
        </p:nvSpPr>
        <p:spPr>
          <a:xfrm flipH="1">
            <a:off x="7099200" y="178596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RUOLO TELECOM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AutoShape 19"/>
          <p:cNvSpPr/>
          <p:nvPr/>
        </p:nvSpPr>
        <p:spPr>
          <a:xfrm rot="10800000">
            <a:off x="7643520" y="1999800"/>
            <a:ext cx="857160" cy="142920"/>
          </a:xfrm>
          <a:prstGeom prst="triangle">
            <a:avLst>
              <a:gd name="adj" fmla="val 510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itolo 1"/>
          <p:cNvSpPr/>
          <p:nvPr/>
        </p:nvSpPr>
        <p:spPr>
          <a:xfrm>
            <a:off x="325440" y="444600"/>
            <a:ext cx="85186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Il Fascicolo Sanitario Elettronico in un approccio Clo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Diagramma 4" descr=""/>
          <p:cNvPicPr/>
          <p:nvPr/>
        </p:nvPicPr>
        <p:blipFill>
          <a:blip r:embed="rId1"/>
          <a:stretch/>
        </p:blipFill>
        <p:spPr>
          <a:xfrm>
            <a:off x="3157560" y="1987560"/>
            <a:ext cx="2401920" cy="3120840"/>
          </a:xfrm>
          <a:prstGeom prst="rect">
            <a:avLst/>
          </a:prstGeom>
          <a:ln w="0">
            <a:noFill/>
          </a:ln>
        </p:spPr>
      </p:pic>
      <p:sp>
        <p:nvSpPr>
          <p:cNvPr id="1616" name="Freccia a destra con strisce 5"/>
          <p:cNvSpPr/>
          <p:nvPr/>
        </p:nvSpPr>
        <p:spPr>
          <a:xfrm flipV="1" rot="5400000">
            <a:off x="3484440" y="3530520"/>
            <a:ext cx="2168640" cy="727200"/>
          </a:xfrm>
          <a:prstGeom prst="pie">
            <a:avLst/>
          </a:prstGeom>
          <a:solidFill>
            <a:srgbClr val="a3a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Franklin Gothic Book"/>
                <a:ea typeface="MS PGothic"/>
              </a:rPr>
              <a:t>Public Cloud/ </a:t>
            </a:r>
            <a:r>
              <a:rPr b="0" lang="it-IT" sz="1000" spc="-1" strike="noStrike">
                <a:solidFill>
                  <a:srgbClr val="e70b30"/>
                </a:solidFill>
                <a:latin typeface="Franklin Gothic Book"/>
                <a:ea typeface="MS PGothic"/>
              </a:rPr>
              <a:t>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14"/>
          <p:cNvSpPr/>
          <p:nvPr/>
        </p:nvSpPr>
        <p:spPr>
          <a:xfrm>
            <a:off x="3227400" y="5357880"/>
            <a:ext cx="828720" cy="496800"/>
          </a:xfrm>
          <a:prstGeom prst="rect">
            <a:avLst/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MS PGothic"/>
              </a:rPr>
              <a:t>DATA/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ccia a destra con strisce 7"/>
          <p:cNvSpPr/>
          <p:nvPr/>
        </p:nvSpPr>
        <p:spPr>
          <a:xfrm flipV="1" rot="5400000">
            <a:off x="4045680" y="5182560"/>
            <a:ext cx="961920" cy="884160"/>
          </a:xfrm>
          <a:prstGeom prst="pie">
            <a:avLst/>
          </a:prstGeom>
          <a:solidFill>
            <a:srgbClr val="a3a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Franklin Gothic Book"/>
                <a:ea typeface="Arial"/>
              </a:rPr>
              <a:t>Private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Diagramma 8" descr=""/>
          <p:cNvPicPr/>
          <p:nvPr/>
        </p:nvPicPr>
        <p:blipFill>
          <a:blip r:embed="rId2"/>
          <a:stretch/>
        </p:blipFill>
        <p:spPr>
          <a:xfrm>
            <a:off x="5553000" y="1322280"/>
            <a:ext cx="2640240" cy="261648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19" descr="logo_tele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4560" y="2428920"/>
            <a:ext cx="1411560" cy="361800"/>
          </a:xfrm>
          <a:prstGeom prst="rect">
            <a:avLst/>
          </a:prstGeom>
          <a:ln w="0">
            <a:noFill/>
          </a:ln>
        </p:spPr>
      </p:pic>
      <p:sp>
        <p:nvSpPr>
          <p:cNvPr id="1621" name="Line 18"/>
          <p:cNvSpPr/>
          <p:nvPr/>
        </p:nvSpPr>
        <p:spPr>
          <a:xfrm flipH="1">
            <a:off x="-71280" y="2698920"/>
            <a:ext cx="2992320" cy="0"/>
          </a:xfrm>
          <a:prstGeom prst="line">
            <a:avLst/>
          </a:prstGeom>
          <a:ln w="3240">
            <a:solidFill>
              <a:srgbClr val="7e7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8"/>
          <p:cNvSpPr/>
          <p:nvPr/>
        </p:nvSpPr>
        <p:spPr>
          <a:xfrm flipH="1">
            <a:off x="-71280" y="4903920"/>
            <a:ext cx="2992320" cy="0"/>
          </a:xfrm>
          <a:prstGeom prst="line">
            <a:avLst/>
          </a:prstGeom>
          <a:ln w="3240">
            <a:solidFill>
              <a:srgbClr val="7e7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Freccia bidirezionale verticale 12"/>
          <p:cNvSpPr/>
          <p:nvPr/>
        </p:nvSpPr>
        <p:spPr>
          <a:xfrm>
            <a:off x="398520" y="2563920"/>
            <a:ext cx="152280" cy="26964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ccia bidirezionale verticale 13"/>
          <p:cNvSpPr/>
          <p:nvPr/>
        </p:nvSpPr>
        <p:spPr>
          <a:xfrm>
            <a:off x="1357200" y="2563920"/>
            <a:ext cx="152640" cy="269640"/>
          </a:xfrm>
          <a:prstGeom prst="upDownArrow">
            <a:avLst>
              <a:gd name="adj1" fmla="val 50000"/>
              <a:gd name="adj2" fmla="val 49879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ccia bidirezionale verticale 14"/>
          <p:cNvSpPr/>
          <p:nvPr/>
        </p:nvSpPr>
        <p:spPr>
          <a:xfrm>
            <a:off x="2276640" y="2563920"/>
            <a:ext cx="152280" cy="26964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ccia bidirezionale verticale 15"/>
          <p:cNvSpPr/>
          <p:nvPr/>
        </p:nvSpPr>
        <p:spPr>
          <a:xfrm>
            <a:off x="434880" y="4768920"/>
            <a:ext cx="155520" cy="26964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ccia bidirezionale verticale 16"/>
          <p:cNvSpPr/>
          <p:nvPr/>
        </p:nvSpPr>
        <p:spPr>
          <a:xfrm>
            <a:off x="1395360" y="4768920"/>
            <a:ext cx="152280" cy="26964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ccia bidirezionale verticale 17"/>
          <p:cNvSpPr/>
          <p:nvPr/>
        </p:nvSpPr>
        <p:spPr>
          <a:xfrm>
            <a:off x="2314440" y="4768920"/>
            <a:ext cx="154080" cy="269640"/>
          </a:xfrm>
          <a:prstGeom prst="upDownArrow">
            <a:avLst>
              <a:gd name="adj1" fmla="val 50000"/>
              <a:gd name="adj2" fmla="val 49924"/>
            </a:avLst>
          </a:prstGeom>
          <a:solidFill>
            <a:srgbClr val="0070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9" name="Connettore 2 40"/>
          <p:cNvCxnSpPr/>
          <p:nvPr/>
        </p:nvCxnSpPr>
        <p:spPr>
          <a:xfrm>
            <a:off x="2698920" y="2000160"/>
            <a:ext cx="584640" cy="705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0" name="Connettore 2 42"/>
          <p:cNvCxnSpPr/>
          <p:nvPr/>
        </p:nvCxnSpPr>
        <p:spPr>
          <a:xfrm flipV="1">
            <a:off x="2830320" y="3733560"/>
            <a:ext cx="548280" cy="46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1" name="Connettore 2 45"/>
          <p:cNvCxnSpPr/>
          <p:nvPr/>
        </p:nvCxnSpPr>
        <p:spPr>
          <a:xfrm flipV="1">
            <a:off x="2633760" y="5000760"/>
            <a:ext cx="923040" cy="64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32" name="Rettangolo 21"/>
          <p:cNvSpPr/>
          <p:nvPr/>
        </p:nvSpPr>
        <p:spPr>
          <a:xfrm flipH="1">
            <a:off x="5253120" y="928800"/>
            <a:ext cx="33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FSE ARCHITETTURA IN HYBRID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19"/>
          <p:cNvSpPr/>
          <p:nvPr/>
        </p:nvSpPr>
        <p:spPr>
          <a:xfrm>
            <a:off x="106200" y="1214280"/>
            <a:ext cx="27259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l livello Superiore (business layer) definisce I servizi per supportare I processi medici (fattura elettronica, prenotazioni etc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37"/>
          <p:cNvSpPr/>
          <p:nvPr/>
        </p:nvSpPr>
        <p:spPr>
          <a:xfrm>
            <a:off x="39600" y="5286240"/>
            <a:ext cx="27241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l lvello inferiore (connettività) è il Sistema Pubblico di Connettività  per la cooperazione tra l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9"/>
          <p:cNvSpPr/>
          <p:nvPr/>
        </p:nvSpPr>
        <p:spPr>
          <a:xfrm>
            <a:off x="173160" y="2870280"/>
            <a:ext cx="2592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l livello intermedio (component layer) contiene  i principali componenti dell’infrastruttura del fse : il livello di interfaccia ai servizi del livello superiore ed i moduli funzionali ( (database, registri, access polici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ccia a destra con strisce 29"/>
          <p:cNvSpPr/>
          <p:nvPr/>
        </p:nvSpPr>
        <p:spPr>
          <a:xfrm flipV="1" rot="5400000">
            <a:off x="3894120" y="2130480"/>
            <a:ext cx="1411200" cy="874800"/>
          </a:xfrm>
          <a:prstGeom prst="pie">
            <a:avLst/>
          </a:prstGeom>
          <a:solidFill>
            <a:srgbClr val="a3a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Franklin Gothic Book"/>
                <a:ea typeface="MS PGothic"/>
              </a:rPr>
              <a:t>Application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7" name="Picture 49" descr=""/>
          <p:cNvPicPr/>
          <p:nvPr/>
        </p:nvPicPr>
        <p:blipFill>
          <a:blip r:embed="rId5"/>
          <a:stretch/>
        </p:blipFill>
        <p:spPr>
          <a:xfrm>
            <a:off x="5602320" y="4071960"/>
            <a:ext cx="3365640" cy="2271600"/>
          </a:xfrm>
          <a:prstGeom prst="rect">
            <a:avLst/>
          </a:prstGeom>
          <a:ln w="0">
            <a:noFill/>
          </a:ln>
        </p:spPr>
      </p:pic>
      <p:cxnSp>
        <p:nvCxnSpPr>
          <p:cNvPr id="1638" name="Connettore 2 27"/>
          <p:cNvCxnSpPr/>
          <p:nvPr/>
        </p:nvCxnSpPr>
        <p:spPr>
          <a:xfrm flipH="1">
            <a:off x="4128480" y="3142080"/>
            <a:ext cx="1215000" cy="252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sp>
        <p:nvSpPr>
          <p:cNvPr id="1639" name="Connettore 1 28"/>
          <p:cNvSpPr/>
          <p:nvPr/>
        </p:nvSpPr>
        <p:spPr>
          <a:xfrm flipH="1">
            <a:off x="5343120" y="3143160"/>
            <a:ext cx="1800" cy="257328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0" name="Connettore 2 29"/>
          <p:cNvCxnSpPr/>
          <p:nvPr/>
        </p:nvCxnSpPr>
        <p:spPr>
          <a:xfrm flipH="1" flipV="1">
            <a:off x="4842720" y="5714640"/>
            <a:ext cx="500760" cy="216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sp>
        <p:nvSpPr>
          <p:cNvPr id="1641" name="Rettangolo arrotondato 30"/>
          <p:cNvSpPr/>
          <p:nvPr/>
        </p:nvSpPr>
        <p:spPr>
          <a:xfrm>
            <a:off x="4986360" y="4000680"/>
            <a:ext cx="1071720" cy="428400"/>
          </a:xfrm>
          <a:prstGeom prst="roundRect">
            <a:avLst>
              <a:gd name="adj" fmla="val 16667"/>
            </a:avLst>
          </a:prstGeom>
          <a:solidFill>
            <a:srgbClr val="0070b0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Franklin Gothic Demi"/>
                <a:ea typeface="Arial"/>
              </a:rPr>
              <a:t>Data  Por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itolo 1"/>
          <p:cNvSpPr/>
          <p:nvPr/>
        </p:nvSpPr>
        <p:spPr>
          <a:xfrm>
            <a:off x="457200" y="14292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MyDocs: Gestione Documentale in Cloud per una Burocrazia Digitale al passo coi te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203040" y="1092240"/>
            <a:ext cx="7878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Group 3"/>
          <p:cNvGrpSpPr/>
          <p:nvPr/>
        </p:nvGrpSpPr>
        <p:grpSpPr>
          <a:xfrm>
            <a:off x="379440" y="1055160"/>
            <a:ext cx="5898960" cy="5226480"/>
            <a:chOff x="379440" y="1055160"/>
            <a:chExt cx="5898960" cy="5226480"/>
          </a:xfrm>
        </p:grpSpPr>
        <p:sp>
          <p:nvSpPr>
            <p:cNvPr id="1647" name="Block Arc 95"/>
            <p:cNvSpPr/>
            <p:nvPr/>
          </p:nvSpPr>
          <p:spPr>
            <a:xfrm rot="3648000">
              <a:off x="1877400" y="1661760"/>
              <a:ext cx="3473280" cy="3613320"/>
            </a:xfrm>
            <a:prstGeom prst="pie">
              <a:avLst/>
            </a:prstGeom>
            <a:solidFill>
              <a:srgbClr val="ffcccc"/>
            </a:solidFill>
            <a:ln w="9360">
              <a:solidFill>
                <a:srgbClr val="b2b2c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Block Arc 94"/>
            <p:cNvSpPr/>
            <p:nvPr/>
          </p:nvSpPr>
          <p:spPr>
            <a:xfrm rot="8875200">
              <a:off x="1806120" y="1752120"/>
              <a:ext cx="3602160" cy="3475080"/>
            </a:xfrm>
            <a:prstGeom prst="pie">
              <a:avLst/>
            </a:prstGeom>
            <a:solidFill>
              <a:srgbClr val="ffcccc"/>
            </a:solidFill>
            <a:ln w="9360">
              <a:solidFill>
                <a:srgbClr val="b2b2c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Block Arc 66"/>
            <p:cNvSpPr/>
            <p:nvPr/>
          </p:nvSpPr>
          <p:spPr>
            <a:xfrm rot="19773000">
              <a:off x="1812600" y="1729800"/>
              <a:ext cx="3608280" cy="3473640"/>
            </a:xfrm>
            <a:prstGeom prst="pie">
              <a:avLst/>
            </a:prstGeom>
            <a:solidFill>
              <a:srgbClr val="ffcccc"/>
            </a:solidFill>
            <a:ln w="9360">
              <a:solidFill>
                <a:srgbClr val="b2b2c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34"/>
            <p:cNvSpPr/>
            <p:nvPr/>
          </p:nvSpPr>
          <p:spPr>
            <a:xfrm>
              <a:off x="431640" y="3576600"/>
              <a:ext cx="1185840" cy="7351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13131"/>
                  </a:solidFill>
                  <a:latin typeface="Verdana"/>
                  <a:ea typeface="MS PGothic"/>
                </a:rPr>
                <a:t>C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Straight Connector 21"/>
            <p:cNvSpPr/>
            <p:nvPr/>
          </p:nvSpPr>
          <p:spPr>
            <a:xfrm flipH="1">
              <a:off x="3557160" y="2475000"/>
              <a:ext cx="917640" cy="97128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Straight Connector 24"/>
            <p:cNvSpPr/>
            <p:nvPr/>
          </p:nvSpPr>
          <p:spPr>
            <a:xfrm flipH="1">
              <a:off x="3523680" y="3314520"/>
              <a:ext cx="1435320" cy="1317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Straight Connector 27"/>
            <p:cNvSpPr/>
            <p:nvPr/>
          </p:nvSpPr>
          <p:spPr>
            <a:xfrm flipV="1">
              <a:off x="2701800" y="3446280"/>
              <a:ext cx="917640" cy="11289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Straight Connector 30"/>
            <p:cNvSpPr/>
            <p:nvPr/>
          </p:nvSpPr>
          <p:spPr>
            <a:xfrm flipH="1" flipV="1">
              <a:off x="3607920" y="3446280"/>
              <a:ext cx="168120" cy="11289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Oval 8"/>
            <p:cNvSpPr/>
            <p:nvPr/>
          </p:nvSpPr>
          <p:spPr>
            <a:xfrm>
              <a:off x="2205000" y="4016160"/>
              <a:ext cx="1141200" cy="94140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onserv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Sostit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3"/>
            <p:cNvSpPr/>
            <p:nvPr/>
          </p:nvSpPr>
          <p:spPr>
            <a:xfrm>
              <a:off x="642960" y="2998800"/>
              <a:ext cx="1184040" cy="7351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13131"/>
                  </a:solidFill>
                  <a:latin typeface="Verdana"/>
                  <a:ea typeface="MS PGothic"/>
                </a:rPr>
                <a:t>Bi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"/>
            <p:cNvSpPr/>
            <p:nvPr/>
          </p:nvSpPr>
          <p:spPr>
            <a:xfrm>
              <a:off x="379440" y="2473200"/>
              <a:ext cx="1185840" cy="7351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13131"/>
                  </a:solidFill>
                  <a:latin typeface="Verdana"/>
                  <a:ea typeface="MS PGothic"/>
                </a:rPr>
                <a:t>ER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Straight Connector 35"/>
            <p:cNvSpPr/>
            <p:nvPr/>
          </p:nvSpPr>
          <p:spPr>
            <a:xfrm flipV="1">
              <a:off x="4927320" y="2106360"/>
              <a:ext cx="481320" cy="120780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Straight Connector 38"/>
            <p:cNvSpPr/>
            <p:nvPr/>
          </p:nvSpPr>
          <p:spPr>
            <a:xfrm flipV="1">
              <a:off x="4897440" y="2631960"/>
              <a:ext cx="928440" cy="6825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Straight Connector 41"/>
            <p:cNvSpPr/>
            <p:nvPr/>
          </p:nvSpPr>
          <p:spPr>
            <a:xfrm>
              <a:off x="4889520" y="3314520"/>
              <a:ext cx="1039680" cy="23652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Straight Connector 48"/>
            <p:cNvSpPr/>
            <p:nvPr/>
          </p:nvSpPr>
          <p:spPr>
            <a:xfrm flipV="1">
              <a:off x="4894200" y="3103560"/>
              <a:ext cx="985680" cy="2109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Oval 12"/>
            <p:cNvSpPr/>
            <p:nvPr/>
          </p:nvSpPr>
          <p:spPr>
            <a:xfrm>
              <a:off x="5068800" y="1758960"/>
              <a:ext cx="762120" cy="735120"/>
            </a:xfrm>
            <a:prstGeom prst="ellipse">
              <a:avLst/>
            </a:prstGeom>
            <a:solidFill>
              <a:srgbClr val="8585e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ort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11"/>
            <p:cNvSpPr/>
            <p:nvPr/>
          </p:nvSpPr>
          <p:spPr>
            <a:xfrm>
              <a:off x="5357520" y="2262240"/>
              <a:ext cx="763920" cy="736560"/>
            </a:xfrm>
            <a:prstGeom prst="ellipse">
              <a:avLst/>
            </a:prstGeom>
            <a:solidFill>
              <a:srgbClr val="8585e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Em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Straight Connector 51"/>
            <p:cNvSpPr/>
            <p:nvPr/>
          </p:nvSpPr>
          <p:spPr>
            <a:xfrm flipH="1" flipV="1">
              <a:off x="3458520" y="3314160"/>
              <a:ext cx="1212840" cy="83988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Oval 47"/>
            <p:cNvSpPr/>
            <p:nvPr/>
          </p:nvSpPr>
          <p:spPr>
            <a:xfrm>
              <a:off x="4182840" y="3809880"/>
              <a:ext cx="1014480" cy="94464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Fattura Elettronica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ed E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Straight Connector 55"/>
            <p:cNvSpPr/>
            <p:nvPr/>
          </p:nvSpPr>
          <p:spPr>
            <a:xfrm>
              <a:off x="2701800" y="2475000"/>
              <a:ext cx="917640" cy="97128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Straight Connector 58"/>
            <p:cNvSpPr/>
            <p:nvPr/>
          </p:nvSpPr>
          <p:spPr>
            <a:xfrm>
              <a:off x="3619440" y="2106720"/>
              <a:ext cx="0" cy="120780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Oval 5"/>
            <p:cNvSpPr/>
            <p:nvPr/>
          </p:nvSpPr>
          <p:spPr>
            <a:xfrm>
              <a:off x="2206440" y="1989000"/>
              <a:ext cx="1014480" cy="94464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aperless</a:t>
              </a:r>
              <a:br>
                <a:rPr sz="1200"/>
              </a:b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rocess</a:t>
              </a:r>
              <a:br>
                <a:rPr sz="1200"/>
              </a:b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(BP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9" name="Oval 4"/>
            <p:cNvGrpSpPr/>
            <p:nvPr/>
          </p:nvGrpSpPr>
          <p:grpSpPr>
            <a:xfrm>
              <a:off x="2846160" y="2730600"/>
              <a:ext cx="1584360" cy="1431720"/>
              <a:chOff x="2846160" y="2730600"/>
              <a:chExt cx="1584360" cy="1431720"/>
            </a:xfrm>
          </p:grpSpPr>
          <p:pic>
            <p:nvPicPr>
              <p:cNvPr id="1670" name="Oval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6160" y="2730600"/>
                <a:ext cx="1584360" cy="143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1" name=""/>
              <p:cNvSpPr/>
              <p:nvPr/>
            </p:nvSpPr>
            <p:spPr>
              <a:xfrm>
                <a:off x="3137400" y="2973600"/>
                <a:ext cx="1009800" cy="9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Verdana"/>
                    <a:ea typeface="MS PGothic"/>
                  </a:rPr>
                  <a:t>Hu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Verdana"/>
                    <a:ea typeface="MS PGothic"/>
                  </a:rPr>
                  <a:t>Olivett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Left-Right Arrow 64"/>
            <p:cNvGrpSpPr/>
            <p:nvPr/>
          </p:nvGrpSpPr>
          <p:grpSpPr>
            <a:xfrm>
              <a:off x="1689120" y="3090960"/>
              <a:ext cx="1249200" cy="633240"/>
              <a:chOff x="1689120" y="3090960"/>
              <a:chExt cx="1249200" cy="633240"/>
            </a:xfrm>
          </p:grpSpPr>
          <p:pic>
            <p:nvPicPr>
              <p:cNvPr id="1673" name="Left-Right Arrow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89120" y="3090960"/>
                <a:ext cx="1249200" cy="6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4" name=""/>
              <p:cNvSpPr/>
              <p:nvPr/>
            </p:nvSpPr>
            <p:spPr>
              <a:xfrm>
                <a:off x="1879560" y="3257280"/>
                <a:ext cx="87516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Oval 13"/>
            <p:cNvSpPr/>
            <p:nvPr/>
          </p:nvSpPr>
          <p:spPr>
            <a:xfrm>
              <a:off x="5464080" y="2709720"/>
              <a:ext cx="762120" cy="735120"/>
            </a:xfrm>
            <a:prstGeom prst="ellipse">
              <a:avLst/>
            </a:prstGeom>
            <a:solidFill>
              <a:srgbClr val="8585e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osta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Ibr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Oval 14"/>
            <p:cNvSpPr/>
            <p:nvPr/>
          </p:nvSpPr>
          <p:spPr>
            <a:xfrm>
              <a:off x="5516280" y="3230640"/>
              <a:ext cx="762120" cy="734760"/>
            </a:xfrm>
            <a:prstGeom prst="ellipse">
              <a:avLst/>
            </a:prstGeom>
            <a:solidFill>
              <a:srgbClr val="8585e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F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Straight Connector 84"/>
            <p:cNvSpPr/>
            <p:nvPr/>
          </p:nvSpPr>
          <p:spPr>
            <a:xfrm>
              <a:off x="4897440" y="3314520"/>
              <a:ext cx="928440" cy="9669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10"/>
            <p:cNvSpPr/>
            <p:nvPr/>
          </p:nvSpPr>
          <p:spPr>
            <a:xfrm>
              <a:off x="4383000" y="2865240"/>
              <a:ext cx="1179360" cy="94320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Distribuzione multican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78"/>
            <p:cNvSpPr/>
            <p:nvPr/>
          </p:nvSpPr>
          <p:spPr>
            <a:xfrm>
              <a:off x="5357520" y="3860640"/>
              <a:ext cx="763920" cy="735120"/>
            </a:xfrm>
            <a:prstGeom prst="ellipse">
              <a:avLst/>
            </a:prstGeom>
            <a:solidFill>
              <a:srgbClr val="8585e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Deliver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verso l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Straight Connector 116"/>
            <p:cNvSpPr/>
            <p:nvPr/>
          </p:nvSpPr>
          <p:spPr>
            <a:xfrm flipH="1">
              <a:off x="2823840" y="4754520"/>
              <a:ext cx="952200" cy="83988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Straight Connector 119"/>
            <p:cNvSpPr/>
            <p:nvPr/>
          </p:nvSpPr>
          <p:spPr>
            <a:xfrm flipH="1">
              <a:off x="3609720" y="4754520"/>
              <a:ext cx="138240" cy="99684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Straight Connector 121"/>
            <p:cNvSpPr/>
            <p:nvPr/>
          </p:nvSpPr>
          <p:spPr>
            <a:xfrm>
              <a:off x="3711600" y="4754520"/>
              <a:ext cx="536400" cy="83988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Straight Connector 124"/>
            <p:cNvSpPr/>
            <p:nvPr/>
          </p:nvSpPr>
          <p:spPr>
            <a:xfrm>
              <a:off x="3701880" y="4754520"/>
              <a:ext cx="1128600" cy="682560"/>
            </a:xfrm>
            <a:prstGeom prst="line">
              <a:avLst/>
            </a:prstGeom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7"/>
            <p:cNvSpPr/>
            <p:nvPr/>
          </p:nvSpPr>
          <p:spPr>
            <a:xfrm>
              <a:off x="3233520" y="4281480"/>
              <a:ext cx="1014480" cy="94140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Servizi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G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Group 50"/>
            <p:cNvGrpSpPr/>
            <p:nvPr/>
          </p:nvGrpSpPr>
          <p:grpSpPr>
            <a:xfrm>
              <a:off x="2514600" y="5016600"/>
              <a:ext cx="2809800" cy="1265040"/>
              <a:chOff x="2514600" y="5016600"/>
              <a:chExt cx="2809800" cy="1265040"/>
            </a:xfrm>
          </p:grpSpPr>
          <p:sp>
            <p:nvSpPr>
              <p:cNvPr id="1686" name="Oval 87"/>
              <p:cNvSpPr/>
              <p:nvPr/>
            </p:nvSpPr>
            <p:spPr>
              <a:xfrm>
                <a:off x="2514600" y="5227560"/>
                <a:ext cx="863640" cy="735120"/>
              </a:xfrm>
              <a:prstGeom prst="ellipse">
                <a:avLst/>
              </a:prstGeom>
              <a:solidFill>
                <a:srgbClr val="7878de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Scan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Oval 88"/>
              <p:cNvSpPr/>
              <p:nvPr/>
            </p:nvSpPr>
            <p:spPr>
              <a:xfrm>
                <a:off x="3200400" y="5332320"/>
                <a:ext cx="944280" cy="912960"/>
              </a:xfrm>
              <a:prstGeom prst="ellipse">
                <a:avLst/>
              </a:prstGeom>
              <a:solidFill>
                <a:srgbClr val="8585e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Index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Oval 89"/>
              <p:cNvSpPr/>
              <p:nvPr/>
            </p:nvSpPr>
            <p:spPr>
              <a:xfrm>
                <a:off x="3832200" y="5278320"/>
                <a:ext cx="1036440" cy="1003320"/>
              </a:xfrm>
              <a:prstGeom prst="ellipse">
                <a:avLst/>
              </a:prstGeom>
              <a:solidFill>
                <a:srgbClr val="8585e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Validazi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Oval 90"/>
              <p:cNvSpPr/>
              <p:nvPr/>
            </p:nvSpPr>
            <p:spPr>
              <a:xfrm>
                <a:off x="4411440" y="5016600"/>
                <a:ext cx="912960" cy="814320"/>
              </a:xfrm>
              <a:prstGeom prst="ellipse">
                <a:avLst/>
              </a:prstGeom>
              <a:solidFill>
                <a:srgbClr val="8585e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Archivi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Cartac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Oval 8"/>
            <p:cNvSpPr/>
            <p:nvPr/>
          </p:nvSpPr>
          <p:spPr>
            <a:xfrm>
              <a:off x="4012920" y="1968480"/>
              <a:ext cx="1089000" cy="93024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Documento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Informatico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(Servizi C.A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Oval 54"/>
            <p:cNvSpPr/>
            <p:nvPr/>
          </p:nvSpPr>
          <p:spPr>
            <a:xfrm>
              <a:off x="3057480" y="1603440"/>
              <a:ext cx="1149120" cy="941400"/>
            </a:xfrm>
            <a:prstGeom prst="ellipse">
              <a:avLst/>
            </a:prstGeom>
            <a:solidFill>
              <a:srgbClr val="67739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Enterprise</a:t>
              </a:r>
              <a:br>
                <a:rPr sz="1200"/>
              </a:b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ontent</a:t>
              </a:r>
              <a:br>
                <a:rPr sz="1200"/>
              </a:b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Rectangle 49"/>
          <p:cNvSpPr/>
          <p:nvPr/>
        </p:nvSpPr>
        <p:spPr>
          <a:xfrm>
            <a:off x="6357960" y="1285920"/>
            <a:ext cx="2448000" cy="285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che coprono in maniera integrata (consulenza, applicazioni SW, attività people-based e servizi di interconnessione) il ciclo di vita dei documenti in az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Franklin Gothic Demi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odello di “Full Outsourcing”, con un costo “a consumo” e applicazioni erogate in modalità SaaS da data center Telecom Italia oppure presso il cliente (SaaS behind-the-firew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itle 1"/>
          <p:cNvSpPr/>
          <p:nvPr/>
        </p:nvSpPr>
        <p:spPr>
          <a:xfrm>
            <a:off x="165240" y="1681200"/>
            <a:ext cx="2557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  <a:ea typeface="Arial"/>
              </a:rPr>
              <a:t>Servizi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4" name="Immagine 3" descr="Superclient.png"/>
          <p:cNvPicPr/>
          <p:nvPr/>
        </p:nvPicPr>
        <p:blipFill>
          <a:blip r:embed="rId3"/>
          <a:stretch/>
        </p:blipFill>
        <p:spPr>
          <a:xfrm>
            <a:off x="664380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695" name="Rettangolo 49"/>
          <p:cNvSpPr/>
          <p:nvPr/>
        </p:nvSpPr>
        <p:spPr>
          <a:xfrm>
            <a:off x="5357880" y="49291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OLITOUCH 2.0</a:t>
            </a:r>
            <a:r>
              <a:rPr b="1" lang="it-IT" sz="18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: un sistema completo per la dematerializzazione dei docum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Picture 10" descr=""/>
          <p:cNvPicPr/>
          <p:nvPr/>
        </p:nvPicPr>
        <p:blipFill>
          <a:blip r:embed="rId4"/>
          <a:stretch/>
        </p:blipFill>
        <p:spPr>
          <a:xfrm>
            <a:off x="357120" y="4875120"/>
            <a:ext cx="1785960" cy="5540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itolo 1"/>
          <p:cNvSpPr/>
          <p:nvPr/>
        </p:nvSpPr>
        <p:spPr>
          <a:xfrm>
            <a:off x="457200" y="214200"/>
            <a:ext cx="8229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Progetto PARER – Le infrastrutture TI al servizio della archiviazione dei documenti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642960" y="3624120"/>
            <a:ext cx="82296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istemi collocati in Data Center Telecom Italia (Bologna – Mila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Gestione sistemistica Telecom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truttura del repository basata su Oracle DB 11g e IBM Tivoli Storag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llineamento in tempo reale dei dati tra Bologna e Mil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re copie di sicurezza su nas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nfrastrutture del Data Center altamente affidabili e ISO 27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Gestione Control Room + SOC + NOC con personale qual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Group 62"/>
          <p:cNvGrpSpPr/>
          <p:nvPr/>
        </p:nvGrpSpPr>
        <p:grpSpPr>
          <a:xfrm>
            <a:off x="1071720" y="1695600"/>
            <a:ext cx="1607760" cy="1861920"/>
            <a:chOff x="1071720" y="1695600"/>
            <a:chExt cx="1607760" cy="1861920"/>
          </a:xfrm>
        </p:grpSpPr>
        <p:sp>
          <p:nvSpPr>
            <p:cNvPr id="1702" name="AutoShape 2"/>
            <p:cNvSpPr/>
            <p:nvPr/>
          </p:nvSpPr>
          <p:spPr>
            <a:xfrm>
              <a:off x="1071720" y="2714040"/>
              <a:ext cx="939600" cy="7768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3"/>
            <p:cNvSpPr/>
            <p:nvPr/>
          </p:nvSpPr>
          <p:spPr>
            <a:xfrm flipH="1">
              <a:off x="1196640" y="1700640"/>
              <a:ext cx="367560" cy="609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4"/>
            <p:cNvSpPr/>
            <p:nvPr/>
          </p:nvSpPr>
          <p:spPr>
            <a:xfrm flipH="1">
              <a:off x="1764360" y="1700640"/>
              <a:ext cx="367560" cy="609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5"/>
            <p:cNvSpPr/>
            <p:nvPr/>
          </p:nvSpPr>
          <p:spPr>
            <a:xfrm flipH="1">
              <a:off x="2293200" y="1695600"/>
              <a:ext cx="36756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6" name="Group 34"/>
            <p:cNvGrpSpPr/>
            <p:nvPr/>
          </p:nvGrpSpPr>
          <p:grpSpPr>
            <a:xfrm>
              <a:off x="1997280" y="2793600"/>
              <a:ext cx="682200" cy="763920"/>
              <a:chOff x="1997280" y="2793600"/>
              <a:chExt cx="682200" cy="763920"/>
            </a:xfrm>
          </p:grpSpPr>
          <p:grpSp>
            <p:nvGrpSpPr>
              <p:cNvPr id="1707" name="Group 35"/>
              <p:cNvGrpSpPr/>
              <p:nvPr/>
            </p:nvGrpSpPr>
            <p:grpSpPr>
              <a:xfrm>
                <a:off x="2132280" y="2793600"/>
                <a:ext cx="517320" cy="639720"/>
                <a:chOff x="2132280" y="2793600"/>
                <a:chExt cx="517320" cy="639720"/>
              </a:xfrm>
            </p:grpSpPr>
            <p:sp>
              <p:nvSpPr>
                <p:cNvPr id="1708" name="Rectangle 36"/>
                <p:cNvSpPr/>
                <p:nvPr/>
              </p:nvSpPr>
              <p:spPr>
                <a:xfrm flipH="1">
                  <a:off x="2131920" y="2793600"/>
                  <a:ext cx="517320" cy="6397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Rectangle 37"/>
                <p:cNvSpPr/>
                <p:nvPr/>
              </p:nvSpPr>
              <p:spPr>
                <a:xfrm flipH="1">
                  <a:off x="2534400" y="2833920"/>
                  <a:ext cx="96120" cy="519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Line 38"/>
                <p:cNvSpPr/>
                <p:nvPr/>
              </p:nvSpPr>
              <p:spPr>
                <a:xfrm flipH="1">
                  <a:off x="2534760" y="287352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Line 39"/>
                <p:cNvSpPr/>
                <p:nvPr/>
              </p:nvSpPr>
              <p:spPr>
                <a:xfrm flipH="1">
                  <a:off x="2534760" y="291384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Line 40"/>
                <p:cNvSpPr/>
                <p:nvPr/>
              </p:nvSpPr>
              <p:spPr>
                <a:xfrm flipH="1">
                  <a:off x="2534760" y="295344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Line 41"/>
                <p:cNvSpPr/>
                <p:nvPr/>
              </p:nvSpPr>
              <p:spPr>
                <a:xfrm flipH="1">
                  <a:off x="2534760" y="299412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Line 42"/>
                <p:cNvSpPr/>
                <p:nvPr/>
              </p:nvSpPr>
              <p:spPr>
                <a:xfrm flipH="1">
                  <a:off x="2534760" y="303336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Line 43"/>
                <p:cNvSpPr/>
                <p:nvPr/>
              </p:nvSpPr>
              <p:spPr>
                <a:xfrm flipH="1">
                  <a:off x="2534760" y="307404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Line 44"/>
                <p:cNvSpPr/>
                <p:nvPr/>
              </p:nvSpPr>
              <p:spPr>
                <a:xfrm flipH="1">
                  <a:off x="2534760" y="311364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45"/>
                <p:cNvSpPr/>
                <p:nvPr/>
              </p:nvSpPr>
              <p:spPr>
                <a:xfrm flipH="1">
                  <a:off x="2534760" y="315396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46"/>
                <p:cNvSpPr/>
                <p:nvPr/>
              </p:nvSpPr>
              <p:spPr>
                <a:xfrm flipH="1">
                  <a:off x="2534760" y="319320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47"/>
                <p:cNvSpPr/>
                <p:nvPr/>
              </p:nvSpPr>
              <p:spPr>
                <a:xfrm flipH="1">
                  <a:off x="2534760" y="323388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Line 48"/>
                <p:cNvSpPr/>
                <p:nvPr/>
              </p:nvSpPr>
              <p:spPr>
                <a:xfrm flipH="1">
                  <a:off x="2534760" y="327312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49"/>
                <p:cNvSpPr/>
                <p:nvPr/>
              </p:nvSpPr>
              <p:spPr>
                <a:xfrm flipH="1">
                  <a:off x="2534760" y="3313800"/>
                  <a:ext cx="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Rectangle 50"/>
                <p:cNvSpPr/>
                <p:nvPr/>
              </p:nvSpPr>
              <p:spPr>
                <a:xfrm flipH="1">
                  <a:off x="2496600" y="2833920"/>
                  <a:ext cx="19440" cy="3200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Rectangle 51"/>
                <p:cNvSpPr/>
                <p:nvPr/>
              </p:nvSpPr>
              <p:spPr>
                <a:xfrm flipH="1">
                  <a:off x="2400840" y="2833920"/>
                  <a:ext cx="76320" cy="1191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Rectangle 52"/>
                <p:cNvSpPr/>
                <p:nvPr/>
              </p:nvSpPr>
              <p:spPr>
                <a:xfrm flipH="1">
                  <a:off x="2151720" y="2833920"/>
                  <a:ext cx="229680" cy="1191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Rectangle 53"/>
                <p:cNvSpPr/>
                <p:nvPr/>
              </p:nvSpPr>
              <p:spPr>
                <a:xfrm flipH="1">
                  <a:off x="2151000" y="2994120"/>
                  <a:ext cx="57240" cy="1990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Rectangle 54"/>
                <p:cNvSpPr/>
                <p:nvPr/>
              </p:nvSpPr>
              <p:spPr>
                <a:xfrm flipH="1">
                  <a:off x="2496600" y="3193200"/>
                  <a:ext cx="19440" cy="40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7" name="Text Box 55"/>
              <p:cNvSpPr/>
              <p:nvPr/>
            </p:nvSpPr>
            <p:spPr>
              <a:xfrm flipH="1">
                <a:off x="1996920" y="3159000"/>
                <a:ext cx="682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Franklin Gothic Medium"/>
                    <a:ea typeface="Arial"/>
                  </a:rPr>
                  <a:t>TAP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Franklin Gothic Medium"/>
                    <a:ea typeface="Arial"/>
                  </a:rPr>
                  <a:t>LIBRAR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8" name="Line 56"/>
            <p:cNvSpPr/>
            <p:nvPr/>
          </p:nvSpPr>
          <p:spPr>
            <a:xfrm>
              <a:off x="1071720" y="2487960"/>
              <a:ext cx="157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Line 57"/>
            <p:cNvSpPr/>
            <p:nvPr/>
          </p:nvSpPr>
          <p:spPr>
            <a:xfrm flipV="1">
              <a:off x="1381320" y="2310120"/>
              <a:ext cx="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Line 58"/>
            <p:cNvSpPr/>
            <p:nvPr/>
          </p:nvSpPr>
          <p:spPr>
            <a:xfrm flipV="1">
              <a:off x="2011320" y="230472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59"/>
            <p:cNvSpPr/>
            <p:nvPr/>
          </p:nvSpPr>
          <p:spPr>
            <a:xfrm flipV="1">
              <a:off x="2496240" y="2310120"/>
              <a:ext cx="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60"/>
            <p:cNvSpPr/>
            <p:nvPr/>
          </p:nvSpPr>
          <p:spPr>
            <a:xfrm flipV="1">
              <a:off x="1591200" y="2487600"/>
              <a:ext cx="0" cy="30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61"/>
            <p:cNvSpPr/>
            <p:nvPr/>
          </p:nvSpPr>
          <p:spPr>
            <a:xfrm flipV="1">
              <a:off x="2401920" y="2482920"/>
              <a:ext cx="0" cy="23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4" name="Text Box 63"/>
          <p:cNvSpPr/>
          <p:nvPr/>
        </p:nvSpPr>
        <p:spPr>
          <a:xfrm>
            <a:off x="1192320" y="946080"/>
            <a:ext cx="1269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BOLOG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istema Princip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Group 103"/>
          <p:cNvGrpSpPr/>
          <p:nvPr/>
        </p:nvGrpSpPr>
        <p:grpSpPr>
          <a:xfrm>
            <a:off x="1981080" y="2672640"/>
            <a:ext cx="3464280" cy="561240"/>
            <a:chOff x="1981080" y="2672640"/>
            <a:chExt cx="3464280" cy="561240"/>
          </a:xfrm>
        </p:grpSpPr>
        <p:sp>
          <p:nvSpPr>
            <p:cNvPr id="1736" name="AutoShape 64"/>
            <p:cNvSpPr/>
            <p:nvPr/>
          </p:nvSpPr>
          <p:spPr>
            <a:xfrm rot="10293000">
              <a:off x="1986480" y="2831400"/>
              <a:ext cx="2180880" cy="240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AutoShape 65"/>
            <p:cNvSpPr/>
            <p:nvPr/>
          </p:nvSpPr>
          <p:spPr>
            <a:xfrm rot="21093600">
              <a:off x="3258720" y="2834280"/>
              <a:ext cx="2180880" cy="240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9"/>
          <p:cNvGrpSpPr/>
          <p:nvPr/>
        </p:nvGrpSpPr>
        <p:grpSpPr>
          <a:xfrm>
            <a:off x="5106960" y="1351080"/>
            <a:ext cx="1542960" cy="1992240"/>
            <a:chOff x="5106960" y="1351080"/>
            <a:chExt cx="1542960" cy="1992240"/>
          </a:xfrm>
        </p:grpSpPr>
        <p:sp>
          <p:nvSpPr>
            <p:cNvPr id="1739" name="AutoShape 70"/>
            <p:cNvSpPr/>
            <p:nvPr/>
          </p:nvSpPr>
          <p:spPr>
            <a:xfrm>
              <a:off x="5106960" y="2460960"/>
              <a:ext cx="892800" cy="8467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71"/>
            <p:cNvSpPr/>
            <p:nvPr/>
          </p:nvSpPr>
          <p:spPr>
            <a:xfrm flipH="1">
              <a:off x="5226480" y="1356480"/>
              <a:ext cx="349200" cy="663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72"/>
            <p:cNvSpPr/>
            <p:nvPr/>
          </p:nvSpPr>
          <p:spPr>
            <a:xfrm flipH="1">
              <a:off x="5765760" y="1356480"/>
              <a:ext cx="349200" cy="663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73"/>
            <p:cNvSpPr/>
            <p:nvPr/>
          </p:nvSpPr>
          <p:spPr>
            <a:xfrm flipH="1">
              <a:off x="6268320" y="1351080"/>
              <a:ext cx="349200" cy="664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Franklin Gothic Medium"/>
                  <a:ea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Group 74"/>
            <p:cNvGrpSpPr/>
            <p:nvPr/>
          </p:nvGrpSpPr>
          <p:grpSpPr>
            <a:xfrm>
              <a:off x="5967720" y="2547720"/>
              <a:ext cx="682200" cy="795600"/>
              <a:chOff x="5967720" y="2547720"/>
              <a:chExt cx="682200" cy="795600"/>
            </a:xfrm>
          </p:grpSpPr>
          <p:grpSp>
            <p:nvGrpSpPr>
              <p:cNvPr id="1744" name="Group 75"/>
              <p:cNvGrpSpPr/>
              <p:nvPr/>
            </p:nvGrpSpPr>
            <p:grpSpPr>
              <a:xfrm>
                <a:off x="6114600" y="2547720"/>
                <a:ext cx="491400" cy="697320"/>
                <a:chOff x="6114600" y="2547720"/>
                <a:chExt cx="491400" cy="697320"/>
              </a:xfrm>
            </p:grpSpPr>
            <p:sp>
              <p:nvSpPr>
                <p:cNvPr id="1745" name="Rectangle 76"/>
                <p:cNvSpPr/>
                <p:nvPr/>
              </p:nvSpPr>
              <p:spPr>
                <a:xfrm flipH="1">
                  <a:off x="6114240" y="2547720"/>
                  <a:ext cx="491400" cy="697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Rectangle 77"/>
                <p:cNvSpPr/>
                <p:nvPr/>
              </p:nvSpPr>
              <p:spPr>
                <a:xfrm flipH="1">
                  <a:off x="6496920" y="2591640"/>
                  <a:ext cx="91080" cy="5659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78"/>
                <p:cNvSpPr/>
                <p:nvPr/>
              </p:nvSpPr>
              <p:spPr>
                <a:xfrm flipH="1">
                  <a:off x="6497280" y="263484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79"/>
                <p:cNvSpPr/>
                <p:nvPr/>
              </p:nvSpPr>
              <p:spPr>
                <a:xfrm flipH="1">
                  <a:off x="6497280" y="267912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80"/>
                <p:cNvSpPr/>
                <p:nvPr/>
              </p:nvSpPr>
              <p:spPr>
                <a:xfrm flipH="1">
                  <a:off x="6497280" y="272196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Line 81"/>
                <p:cNvSpPr/>
                <p:nvPr/>
              </p:nvSpPr>
              <p:spPr>
                <a:xfrm flipH="1">
                  <a:off x="6497280" y="276624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Line 82"/>
                <p:cNvSpPr/>
                <p:nvPr/>
              </p:nvSpPr>
              <p:spPr>
                <a:xfrm flipH="1">
                  <a:off x="6497280" y="280908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83"/>
                <p:cNvSpPr/>
                <p:nvPr/>
              </p:nvSpPr>
              <p:spPr>
                <a:xfrm flipH="1">
                  <a:off x="6497280" y="285336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Line 84"/>
                <p:cNvSpPr/>
                <p:nvPr/>
              </p:nvSpPr>
              <p:spPr>
                <a:xfrm flipH="1">
                  <a:off x="6497280" y="289656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85"/>
                <p:cNvSpPr/>
                <p:nvPr/>
              </p:nvSpPr>
              <p:spPr>
                <a:xfrm flipH="1">
                  <a:off x="6497280" y="294048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Line 86"/>
                <p:cNvSpPr/>
                <p:nvPr/>
              </p:nvSpPr>
              <p:spPr>
                <a:xfrm flipH="1">
                  <a:off x="6497280" y="298332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Line 87"/>
                <p:cNvSpPr/>
                <p:nvPr/>
              </p:nvSpPr>
              <p:spPr>
                <a:xfrm flipH="1">
                  <a:off x="6497280" y="302796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Line 88"/>
                <p:cNvSpPr/>
                <p:nvPr/>
              </p:nvSpPr>
              <p:spPr>
                <a:xfrm flipH="1">
                  <a:off x="6497280" y="307044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Line 89"/>
                <p:cNvSpPr/>
                <p:nvPr/>
              </p:nvSpPr>
              <p:spPr>
                <a:xfrm flipH="1">
                  <a:off x="6497280" y="3114720"/>
                  <a:ext cx="9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Rectangle 90"/>
                <p:cNvSpPr/>
                <p:nvPr/>
              </p:nvSpPr>
              <p:spPr>
                <a:xfrm flipH="1">
                  <a:off x="6460200" y="2591640"/>
                  <a:ext cx="18720" cy="348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Rectangle 91"/>
                <p:cNvSpPr/>
                <p:nvPr/>
              </p:nvSpPr>
              <p:spPr>
                <a:xfrm flipH="1">
                  <a:off x="6369480" y="2591640"/>
                  <a:ext cx="72360" cy="1299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Rectangle 92"/>
                <p:cNvSpPr/>
                <p:nvPr/>
              </p:nvSpPr>
              <p:spPr>
                <a:xfrm flipH="1">
                  <a:off x="6132960" y="2591640"/>
                  <a:ext cx="218160" cy="12996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Rectangle 93"/>
                <p:cNvSpPr/>
                <p:nvPr/>
              </p:nvSpPr>
              <p:spPr>
                <a:xfrm flipH="1">
                  <a:off x="6132600" y="2766240"/>
                  <a:ext cx="54360" cy="2170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Rectangle 94"/>
                <p:cNvSpPr/>
                <p:nvPr/>
              </p:nvSpPr>
              <p:spPr>
                <a:xfrm flipH="1">
                  <a:off x="6460200" y="2983320"/>
                  <a:ext cx="18720" cy="442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4" name="Text Box 95"/>
              <p:cNvSpPr/>
              <p:nvPr/>
            </p:nvSpPr>
            <p:spPr>
              <a:xfrm flipH="1">
                <a:off x="5967360" y="2944800"/>
                <a:ext cx="682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Franklin Gothic Medium"/>
                    <a:ea typeface="Arial"/>
                  </a:rPr>
                  <a:t>TAP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Franklin Gothic Medium"/>
                    <a:ea typeface="Arial"/>
                  </a:rPr>
                  <a:t>LIBRAR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Line 96"/>
            <p:cNvSpPr/>
            <p:nvPr/>
          </p:nvSpPr>
          <p:spPr>
            <a:xfrm>
              <a:off x="5106960" y="2214720"/>
              <a:ext cx="150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97"/>
            <p:cNvSpPr/>
            <p:nvPr/>
          </p:nvSpPr>
          <p:spPr>
            <a:xfrm flipV="1">
              <a:off x="5401080" y="20206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Line 98"/>
            <p:cNvSpPr/>
            <p:nvPr/>
          </p:nvSpPr>
          <p:spPr>
            <a:xfrm flipV="1">
              <a:off x="5999760" y="2014920"/>
              <a:ext cx="0" cy="19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Line 99"/>
            <p:cNvSpPr/>
            <p:nvPr/>
          </p:nvSpPr>
          <p:spPr>
            <a:xfrm flipV="1">
              <a:off x="6460200" y="20206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100"/>
            <p:cNvSpPr/>
            <p:nvPr/>
          </p:nvSpPr>
          <p:spPr>
            <a:xfrm flipV="1">
              <a:off x="5600520" y="2214360"/>
              <a:ext cx="0" cy="33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Line 101"/>
            <p:cNvSpPr/>
            <p:nvPr/>
          </p:nvSpPr>
          <p:spPr>
            <a:xfrm flipV="1">
              <a:off x="6370920" y="2208960"/>
              <a:ext cx="0" cy="25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Text Box 102"/>
          <p:cNvSpPr/>
          <p:nvPr/>
        </p:nvSpPr>
        <p:spPr>
          <a:xfrm>
            <a:off x="7000920" y="2052720"/>
            <a:ext cx="1871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IL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istema Seco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104"/>
          <p:cNvSpPr/>
          <p:nvPr/>
        </p:nvSpPr>
        <p:spPr>
          <a:xfrm>
            <a:off x="3429000" y="2052720"/>
            <a:ext cx="1138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lline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ei Reposi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n tempo re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3" name="Picture 111" descr="Link al sito ER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8960" y="552600"/>
            <a:ext cx="2592360" cy="5220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774" name="Connettore 1 78"/>
          <p:cNvSpPr/>
          <p:nvPr/>
        </p:nvSpPr>
        <p:spPr>
          <a:xfrm flipH="1">
            <a:off x="2000160" y="812160"/>
            <a:ext cx="928800" cy="45396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Connettore 1 79"/>
          <p:cNvSpPr/>
          <p:nvPr/>
        </p:nvSpPr>
        <p:spPr>
          <a:xfrm>
            <a:off x="5521320" y="812880"/>
            <a:ext cx="407880" cy="38268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2"/>
          <p:cNvSpPr/>
          <p:nvPr/>
        </p:nvSpPr>
        <p:spPr>
          <a:xfrm>
            <a:off x="642960" y="2500200"/>
            <a:ext cx="4857840" cy="928800"/>
          </a:xfrm>
          <a:prstGeom prst="rect">
            <a:avLst/>
          </a:prstGeom>
          <a:solidFill>
            <a:srgbClr val="b2b2b2"/>
          </a:solidFill>
          <a:ln w="3240">
            <a:solidFill>
              <a:srgbClr val="dddddd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9" name="Picture 2" descr="Istat.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4141800"/>
            <a:ext cx="2143080" cy="500040"/>
          </a:xfrm>
          <a:prstGeom prst="rect">
            <a:avLst/>
          </a:prstGeom>
          <a:ln w="0">
            <a:noFill/>
          </a:ln>
        </p:spPr>
      </p:pic>
      <p:sp>
        <p:nvSpPr>
          <p:cNvPr id="1780" name="CasellaDiTesto 4"/>
          <p:cNvSpPr/>
          <p:nvPr/>
        </p:nvSpPr>
        <p:spPr>
          <a:xfrm>
            <a:off x="428760" y="5433840"/>
            <a:ext cx="8501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ISTAT attiverà il portale web con le applicazioni per la raccolta dati di censimento su servizi IaaS messi a disposizione in modalità virtualizzata dai NGDC di Telecom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1" name="Picture 4" descr="Censiment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407196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782" name="Rettangolo 6"/>
          <p:cNvSpPr/>
          <p:nvPr/>
        </p:nvSpPr>
        <p:spPr>
          <a:xfrm>
            <a:off x="2857680" y="4143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 Black"/>
                <a:ea typeface="Arial"/>
              </a:rPr>
              <a:t>15° censimento della popolazione e delle abi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AutoShape 19"/>
          <p:cNvSpPr/>
          <p:nvPr/>
        </p:nvSpPr>
        <p:spPr>
          <a:xfrm rot="10800000">
            <a:off x="2500200" y="4929120"/>
            <a:ext cx="3857760" cy="214560"/>
          </a:xfrm>
          <a:prstGeom prst="triangle">
            <a:avLst>
              <a:gd name="adj" fmla="val 510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ttangolo 8"/>
          <p:cNvSpPr/>
          <p:nvPr/>
        </p:nvSpPr>
        <p:spPr>
          <a:xfrm>
            <a:off x="571680" y="785880"/>
            <a:ext cx="492912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d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di sup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Vo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di interoperabilità di base  (servizi per la realizzazione, gestione ed evoluzione di strumenti per lo scambio di documenti informatic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di Data Center </a:t>
            </a: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- consistono nel rendere disponibile l’accesso al web dell’amministrazione, presso apposite server farm gestite dal fornitore ed interconnesse direttamente ad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di manutenzione ed assiste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43" descr="Logo SP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2280" y="142920"/>
            <a:ext cx="881280" cy="660240"/>
          </a:xfrm>
          <a:prstGeom prst="rect">
            <a:avLst/>
          </a:prstGeom>
          <a:ln w="0">
            <a:noFill/>
          </a:ln>
        </p:spPr>
      </p:pic>
      <p:sp>
        <p:nvSpPr>
          <p:cNvPr id="1786" name="AutoShape 19"/>
          <p:cNvSpPr/>
          <p:nvPr/>
        </p:nvSpPr>
        <p:spPr>
          <a:xfrm rot="5400000">
            <a:off x="5393160" y="2750040"/>
            <a:ext cx="1071360" cy="428760"/>
          </a:xfrm>
          <a:prstGeom prst="triangle">
            <a:avLst>
              <a:gd name="adj" fmla="val 510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CasellaDiTesto 14"/>
          <p:cNvSpPr/>
          <p:nvPr/>
        </p:nvSpPr>
        <p:spPr>
          <a:xfrm>
            <a:off x="6215040" y="25052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izio Totalmente IaaS da NGDC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ttangolo 13"/>
          <p:cNvSpPr/>
          <p:nvPr/>
        </p:nvSpPr>
        <p:spPr>
          <a:xfrm>
            <a:off x="500040" y="214200"/>
            <a:ext cx="1643040" cy="21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itolo 1"/>
          <p:cNvSpPr/>
          <p:nvPr/>
        </p:nvSpPr>
        <p:spPr>
          <a:xfrm>
            <a:off x="457200" y="21420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Case: DigitPA accordo quadro SPC Multifornit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2"/>
          <p:cNvSpPr/>
          <p:nvPr/>
        </p:nvSpPr>
        <p:spPr>
          <a:xfrm>
            <a:off x="324000" y="4506840"/>
            <a:ext cx="4060800" cy="20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Net Computing</a:t>
            </a:r>
            <a:r>
              <a:rPr b="1" lang="it-IT" sz="14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KMA4F595B"/>
          <p:cNvSpPr/>
          <p:nvPr/>
        </p:nvSpPr>
        <p:spPr>
          <a:xfrm>
            <a:off x="351000" y="4788000"/>
            <a:ext cx="37940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Demi"/>
                <a:ea typeface="Arial"/>
              </a:rPr>
              <a:t>Le soluzioni ICT basate su un modello  “Utility Like” permettono di ottimizzare il dimensionamento delle infrastrutture IT gestendo i picchi di ICT demand in modo flessib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KMA4F595B"/>
          <p:cNvSpPr/>
          <p:nvPr/>
        </p:nvSpPr>
        <p:spPr>
          <a:xfrm>
            <a:off x="4788000" y="3789360"/>
            <a:ext cx="38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70b0"/>
                </a:solidFill>
                <a:latin typeface="Franklin Gothic Demi"/>
                <a:ea typeface="Arial"/>
              </a:rPr>
              <a:t>MODELLO “UTILITY LIK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25" descr="1"/>
          <p:cNvPicPr/>
          <p:nvPr/>
        </p:nvPicPr>
        <p:blipFill>
          <a:blip r:embed="rId1"/>
          <a:stretch/>
        </p:blipFill>
        <p:spPr>
          <a:xfrm>
            <a:off x="4772160" y="4017960"/>
            <a:ext cx="4010040" cy="2003400"/>
          </a:xfrm>
          <a:prstGeom prst="rect">
            <a:avLst/>
          </a:prstGeom>
          <a:ln w="0">
            <a:noFill/>
          </a:ln>
        </p:spPr>
      </p:pic>
      <p:sp>
        <p:nvSpPr>
          <p:cNvPr id="1796" name="Oval 26"/>
          <p:cNvSpPr/>
          <p:nvPr/>
        </p:nvSpPr>
        <p:spPr>
          <a:xfrm>
            <a:off x="8088480" y="5419800"/>
            <a:ext cx="1020600" cy="4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70b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27"/>
          <p:cNvSpPr/>
          <p:nvPr/>
        </p:nvSpPr>
        <p:spPr>
          <a:xfrm>
            <a:off x="8184600" y="557856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atur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28"/>
          <p:cNvSpPr/>
          <p:nvPr/>
        </p:nvSpPr>
        <p:spPr>
          <a:xfrm flipH="1" flipV="1">
            <a:off x="8208720" y="4902120"/>
            <a:ext cx="28548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6"/>
          <p:cNvSpPr/>
          <p:nvPr/>
        </p:nvSpPr>
        <p:spPr>
          <a:xfrm>
            <a:off x="264960" y="442800"/>
            <a:ext cx="4676760" cy="368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Ottimizzazione degli Spazi Fis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Risparmi sui costi operativ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Ottimizzazione della potenza della virtualizzazione trasformazione dei data center in infrastrutture di cloud computing semplif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Possibilità di erogare servizi di nuova generazione, affidabili e flessibili, che fanno uso delle risorse interne ed esterne e garantiscono massima sicurezza e rischi contenu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nellire drasticamente le procedure di backup e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0" name="Picture 8" descr="http://t1.gstatic.com/images?q=tbn:ANd9GcSg_JgDWmxbS9EJfE12MJs_NCqZ0k9cDkB0YChbiNtDG6L016s&amp;t=1&amp;usg=__DFuIVbHNbrsc95zMIt-PMuxjEUk="/>
          <p:cNvPicPr/>
          <p:nvPr/>
        </p:nvPicPr>
        <p:blipFill>
          <a:blip r:embed="rId2"/>
          <a:stretch/>
        </p:blipFill>
        <p:spPr>
          <a:xfrm>
            <a:off x="7643880" y="1806480"/>
            <a:ext cx="1114200" cy="170496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33" descr="http://www.transtec.co.uk/tt_images/products/server/Virtualisierung_gross_02.jpg"/>
          <p:cNvPicPr/>
          <p:nvPr/>
        </p:nvPicPr>
        <p:blipFill>
          <a:blip r:embed="rId3"/>
          <a:stretch/>
        </p:blipFill>
        <p:spPr>
          <a:xfrm>
            <a:off x="6072120" y="1428840"/>
            <a:ext cx="1087560" cy="1746000"/>
          </a:xfrm>
          <a:prstGeom prst="rect">
            <a:avLst/>
          </a:prstGeom>
          <a:ln w="0">
            <a:noFill/>
          </a:ln>
        </p:spPr>
      </p:pic>
      <p:sp>
        <p:nvSpPr>
          <p:cNvPr id="1802" name="AutoShape 19"/>
          <p:cNvSpPr/>
          <p:nvPr/>
        </p:nvSpPr>
        <p:spPr>
          <a:xfrm rot="5400000">
            <a:off x="3912480" y="5341680"/>
            <a:ext cx="1285920" cy="174600"/>
          </a:xfrm>
          <a:prstGeom prst="triangle">
            <a:avLst>
              <a:gd name="adj" fmla="val 510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1520" bIns="11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ttangolo 14"/>
          <p:cNvSpPr/>
          <p:nvPr/>
        </p:nvSpPr>
        <p:spPr>
          <a:xfrm>
            <a:off x="500040" y="214200"/>
            <a:ext cx="1643040" cy="21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ttangolo 17"/>
          <p:cNvSpPr/>
          <p:nvPr/>
        </p:nvSpPr>
        <p:spPr>
          <a:xfrm>
            <a:off x="504000" y="3643200"/>
            <a:ext cx="26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+ 448 postazioni client for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2"/>
          <p:cNvSpPr/>
          <p:nvPr/>
        </p:nvSpPr>
        <p:spPr>
          <a:xfrm>
            <a:off x="414360" y="2858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Case: Le infrastrutture IT del Comune di Catania diventano ambienti abilitanti virtuali a basso impatto impiantistico ed alta effici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itolo 1"/>
          <p:cNvSpPr/>
          <p:nvPr/>
        </p:nvSpPr>
        <p:spPr>
          <a:xfrm>
            <a:off x="500040" y="2786040"/>
            <a:ext cx="822960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Grazie dell’Attenzione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it-IT" sz="2000" spc="-1" strike="noStrike">
                <a:solidFill>
                  <a:srgbClr val="000000"/>
                </a:solidFill>
                <a:latin typeface="Franklin Gothic Demi"/>
                <a:ea typeface="Arial"/>
              </a:rPr>
              <a:t>Ing. Andrea Costa</a:t>
            </a:r>
            <a:br>
              <a:rPr sz="1400"/>
            </a:br>
            <a:r>
              <a:rPr b="0" i="1" lang="it-IT" sz="1400" spc="-1" strike="noStrike">
                <a:solidFill>
                  <a:srgbClr val="000000"/>
                </a:solidFill>
                <a:latin typeface="Franklin Gothic Demi"/>
                <a:ea typeface="Arial"/>
              </a:rPr>
              <a:t>Telecom Italia Domestic Market Operations</a:t>
            </a:r>
            <a:br>
              <a:rPr sz="1400"/>
            </a:br>
            <a:r>
              <a:rPr b="0" i="1" lang="it-IT" sz="1400" spc="-1" strike="noStrike">
                <a:solidFill>
                  <a:srgbClr val="000000"/>
                </a:solidFill>
                <a:latin typeface="Franklin Gothic Demi"/>
                <a:ea typeface="Arial"/>
              </a:rPr>
              <a:t>Public Sector</a:t>
            </a:r>
            <a:br>
              <a:rPr sz="1400"/>
            </a:br>
            <a:r>
              <a:rPr b="0" i="1" lang="it-IT" sz="1400" spc="-1" strike="noStrike">
                <a:solidFill>
                  <a:srgbClr val="000000"/>
                </a:solidFill>
                <a:latin typeface="Franklin Gothic Demi"/>
                <a:ea typeface="Arial"/>
              </a:rPr>
              <a:t>Vertical Marketing &amp; Smart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2"/>
          <p:cNvSpPr/>
          <p:nvPr/>
        </p:nvSpPr>
        <p:spPr>
          <a:xfrm>
            <a:off x="214200" y="4000680"/>
            <a:ext cx="4000680" cy="2000160"/>
          </a:xfrm>
          <a:prstGeom prst="rect">
            <a:avLst/>
          </a:prstGeom>
          <a:solidFill>
            <a:srgbClr val="ffffff"/>
          </a:solidFill>
          <a:ln w="3240">
            <a:solidFill>
              <a:srgbClr val="dddddd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Immagine 17" descr="cloud solo mano_1.png"/>
          <p:cNvPicPr/>
          <p:nvPr/>
        </p:nvPicPr>
        <p:blipFill>
          <a:blip r:embed="rId1"/>
          <a:stretch/>
        </p:blipFill>
        <p:spPr>
          <a:xfrm>
            <a:off x="4429080" y="2357280"/>
            <a:ext cx="4714920" cy="1606680"/>
          </a:xfrm>
          <a:prstGeom prst="rect">
            <a:avLst/>
          </a:prstGeom>
          <a:ln w="0">
            <a:noFill/>
          </a:ln>
        </p:spPr>
      </p:pic>
      <p:pic>
        <p:nvPicPr>
          <p:cNvPr id="1387" name="Immagine 18" descr="cloud solo mano.png"/>
          <p:cNvPicPr/>
          <p:nvPr/>
        </p:nvPicPr>
        <p:blipFill>
          <a:blip r:embed="rId2"/>
          <a:stretch/>
        </p:blipFill>
        <p:spPr>
          <a:xfrm>
            <a:off x="5429160" y="1571760"/>
            <a:ext cx="2714760" cy="110160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28"/>
          <p:cNvSpPr/>
          <p:nvPr/>
        </p:nvSpPr>
        <p:spPr>
          <a:xfrm>
            <a:off x="285840" y="4000680"/>
            <a:ext cx="364320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I Valori del Cloud Computing seco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Orientato ai servizi ed ampiamente accessi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posta i costi da CapEx fissi a OpEx variabili secondo l’utiliz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Flessibilità e basse barriere all’ingresso ed usc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Federativo, collaborativo, comu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Picture 12" descr=""/>
          <p:cNvPicPr/>
          <p:nvPr/>
        </p:nvPicPr>
        <p:blipFill>
          <a:blip r:embed="rId3"/>
          <a:stretch/>
        </p:blipFill>
        <p:spPr>
          <a:xfrm>
            <a:off x="3308400" y="4013280"/>
            <a:ext cx="834840" cy="242640"/>
          </a:xfrm>
          <a:prstGeom prst="rect">
            <a:avLst/>
          </a:prstGeom>
          <a:ln w="0">
            <a:noFill/>
          </a:ln>
        </p:spPr>
      </p:pic>
      <p:sp>
        <p:nvSpPr>
          <p:cNvPr id="1390" name="Rectangle 8"/>
          <p:cNvSpPr/>
          <p:nvPr/>
        </p:nvSpPr>
        <p:spPr>
          <a:xfrm>
            <a:off x="3143160" y="1214280"/>
            <a:ext cx="285768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cquisition Model: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Business Model: Pay for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ccess Model: Internet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ebdings" charset="2"/>
              <a:buChar char="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echnical Model: Elastic, share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13"/>
          <p:cNvSpPr/>
          <p:nvPr/>
        </p:nvSpPr>
        <p:spPr>
          <a:xfrm>
            <a:off x="638280" y="1231920"/>
            <a:ext cx="242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876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 “</a:t>
            </a: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Tutto ciò che importa è il risultato. Non importa come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 “</a:t>
            </a: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Non voglio possedere gli asset. Voglio pagare solo l’utilità marginale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 “</a:t>
            </a: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Voglio accedere da ogni dispositiv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 “</a:t>
            </a:r>
            <a:r>
              <a:rPr b="0" lang="it-IT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Cerco le economie di scala con una condivisione efficente e dinamica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Picture 7" descr="MCj04325910000[1]"/>
          <p:cNvPicPr/>
          <p:nvPr/>
        </p:nvPicPr>
        <p:blipFill>
          <a:blip r:embed="rId4"/>
          <a:stretch/>
        </p:blipFill>
        <p:spPr>
          <a:xfrm>
            <a:off x="415800" y="1028880"/>
            <a:ext cx="513000" cy="55548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7" descr="MCj04325910000[1]"/>
          <p:cNvPicPr/>
          <p:nvPr/>
        </p:nvPicPr>
        <p:blipFill>
          <a:blip r:embed="rId5"/>
          <a:stretch/>
        </p:blipFill>
        <p:spPr>
          <a:xfrm>
            <a:off x="412920" y="1728720"/>
            <a:ext cx="527040" cy="57168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7" descr="MCj04325910000[1]"/>
          <p:cNvPicPr/>
          <p:nvPr/>
        </p:nvPicPr>
        <p:blipFill>
          <a:blip r:embed="rId6"/>
          <a:stretch/>
        </p:blipFill>
        <p:spPr>
          <a:xfrm>
            <a:off x="419040" y="2406600"/>
            <a:ext cx="527040" cy="5716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7" descr="MCj04325910000[1]"/>
          <p:cNvPicPr/>
          <p:nvPr/>
        </p:nvPicPr>
        <p:blipFill>
          <a:blip r:embed="rId7"/>
          <a:stretch/>
        </p:blipFill>
        <p:spPr>
          <a:xfrm>
            <a:off x="419040" y="2924280"/>
            <a:ext cx="527040" cy="571320"/>
          </a:xfrm>
          <a:prstGeom prst="rect">
            <a:avLst/>
          </a:prstGeom>
          <a:ln w="0">
            <a:noFill/>
          </a:ln>
        </p:spPr>
      </p:pic>
      <p:sp>
        <p:nvSpPr>
          <p:cNvPr id="1396" name="Rectangle 22"/>
          <p:cNvSpPr/>
          <p:nvPr/>
        </p:nvSpPr>
        <p:spPr>
          <a:xfrm>
            <a:off x="184320" y="1052640"/>
            <a:ext cx="8775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"/>
          <p:cNvPicPr/>
          <p:nvPr/>
        </p:nvPicPr>
        <p:blipFill>
          <a:blip r:embed="rId8"/>
          <a:stretch/>
        </p:blipFill>
        <p:spPr>
          <a:xfrm>
            <a:off x="4429080" y="3724200"/>
            <a:ext cx="4214880" cy="2633760"/>
          </a:xfrm>
          <a:prstGeom prst="rect">
            <a:avLst/>
          </a:prstGeom>
          <a:ln w="0">
            <a:noFill/>
          </a:ln>
        </p:spPr>
      </p:pic>
      <p:sp>
        <p:nvSpPr>
          <p:cNvPr id="1398" name="Titolo 7"/>
          <p:cNvSpPr/>
          <p:nvPr/>
        </p:nvSpPr>
        <p:spPr>
          <a:xfrm>
            <a:off x="500040" y="50004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ha compiuto un passo decisivo verso un nuovo modo di risolvere le esigenze dei cl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ttangolo 17"/>
          <p:cNvSpPr/>
          <p:nvPr/>
        </p:nvSpPr>
        <p:spPr>
          <a:xfrm>
            <a:off x="428760" y="214200"/>
            <a:ext cx="17143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itolo 1"/>
          <p:cNvSpPr/>
          <p:nvPr/>
        </p:nvSpPr>
        <p:spPr>
          <a:xfrm>
            <a:off x="457200" y="2779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L’approccio Cloud caratterizza la rete Next Generation Data Center di Telecom It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4" descr=""/>
          <p:cNvPicPr/>
          <p:nvPr/>
        </p:nvPicPr>
        <p:blipFill>
          <a:blip r:embed="rId1"/>
          <a:stretch/>
        </p:blipFill>
        <p:spPr>
          <a:xfrm>
            <a:off x="357120" y="1305000"/>
            <a:ext cx="3186360" cy="3116160"/>
          </a:xfrm>
          <a:prstGeom prst="rect">
            <a:avLst/>
          </a:prstGeom>
          <a:ln w="9360">
            <a:solidFill>
              <a:srgbClr val="677390"/>
            </a:solidFill>
            <a:miter/>
          </a:ln>
        </p:spPr>
      </p:pic>
      <p:sp>
        <p:nvSpPr>
          <p:cNvPr id="1405" name="CasellaDiTesto 7"/>
          <p:cNvSpPr/>
          <p:nvPr/>
        </p:nvSpPr>
        <p:spPr>
          <a:xfrm>
            <a:off x="357120" y="4923000"/>
            <a:ext cx="357192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apacità processiva: Solo Soluzioni “Industry Stand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oluzioni di Virtualizzazione  di mercato, es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olteplici Sistemi Operativi gest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Nessuna applicazione su Main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9"/>
          <p:cNvSpPr/>
          <p:nvPr/>
        </p:nvSpPr>
        <p:spPr>
          <a:xfrm rot="10800000">
            <a:off x="642600" y="4492440"/>
            <a:ext cx="2451240" cy="31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Rettangolo 22" descr=""/>
          <p:cNvPicPr/>
          <p:nvPr/>
        </p:nvPicPr>
        <p:blipFill>
          <a:blip r:embed="rId2"/>
          <a:stretch/>
        </p:blipFill>
        <p:spPr>
          <a:xfrm>
            <a:off x="5248440" y="5181480"/>
            <a:ext cx="1085760" cy="628920"/>
          </a:xfrm>
          <a:prstGeom prst="rect">
            <a:avLst/>
          </a:prstGeom>
          <a:ln w="0">
            <a:noFill/>
          </a:ln>
        </p:spPr>
      </p:pic>
      <p:pic>
        <p:nvPicPr>
          <p:cNvPr id="1408" name="Immagine 10" descr="daTA cENTER.png"/>
          <p:cNvPicPr/>
          <p:nvPr/>
        </p:nvPicPr>
        <p:blipFill>
          <a:blip r:embed="rId3"/>
          <a:stretch/>
        </p:blipFill>
        <p:spPr>
          <a:xfrm>
            <a:off x="3633840" y="2492280"/>
            <a:ext cx="543888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48" descr="Cloud For Main Art Elements"/>
          <p:cNvPicPr/>
          <p:nvPr/>
        </p:nvPicPr>
        <p:blipFill>
          <a:blip r:embed="rId1"/>
          <a:stretch/>
        </p:blipFill>
        <p:spPr>
          <a:xfrm rot="17054400">
            <a:off x="265680" y="2233800"/>
            <a:ext cx="3933720" cy="2417760"/>
          </a:xfrm>
          <a:prstGeom prst="rect">
            <a:avLst/>
          </a:prstGeom>
          <a:ln w="0">
            <a:noFill/>
          </a:ln>
        </p:spPr>
      </p:pic>
      <p:sp>
        <p:nvSpPr>
          <p:cNvPr id="1411" name="AutoShape 72"/>
          <p:cNvSpPr/>
          <p:nvPr/>
        </p:nvSpPr>
        <p:spPr>
          <a:xfrm flipH="1" flipV="1">
            <a:off x="1693080" y="2232000"/>
            <a:ext cx="870120" cy="1006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73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S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AutoShape 73"/>
          <p:cNvSpPr/>
          <p:nvPr/>
        </p:nvSpPr>
        <p:spPr>
          <a:xfrm flipH="1" flipV="1">
            <a:off x="1504800" y="3364920"/>
            <a:ext cx="1262160" cy="1284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73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P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I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5"/>
          <p:cNvSpPr/>
          <p:nvPr/>
        </p:nvSpPr>
        <p:spPr>
          <a:xfrm flipV="1">
            <a:off x="1517760" y="4027320"/>
            <a:ext cx="1241280" cy="635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73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I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74"/>
          <p:cNvSpPr/>
          <p:nvPr/>
        </p:nvSpPr>
        <p:spPr>
          <a:xfrm flipH="1" flipV="1">
            <a:off x="1234440" y="4767120"/>
            <a:ext cx="1803240" cy="1230480"/>
          </a:xfrm>
          <a:prstGeom prst="pi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73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LC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etwork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7"/>
          <p:cNvSpPr/>
          <p:nvPr/>
        </p:nvSpPr>
        <p:spPr>
          <a:xfrm>
            <a:off x="3598920" y="1157400"/>
            <a:ext cx="4075200" cy="1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125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fferta SaaS ERP per clientela Enterprise su piattaforma Microsoft Dynamics erogata da piattaforma 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fferta documentale Oliv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74"/>
          <p:cNvSpPr/>
          <p:nvPr/>
        </p:nvSpPr>
        <p:spPr>
          <a:xfrm flipH="1" flipV="1">
            <a:off x="1236600" y="4768200"/>
            <a:ext cx="1803600" cy="12301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arentesi graffa chiusa 30"/>
          <p:cNvSpPr/>
          <p:nvPr/>
        </p:nvSpPr>
        <p:spPr>
          <a:xfrm flipH="1">
            <a:off x="986760" y="3351240"/>
            <a:ext cx="181080" cy="2674800"/>
          </a:xfrm>
          <a:custGeom>
            <a:avLst/>
            <a:gdLst>
              <a:gd name="textAreaLeft" fmla="*/ -360 w 181080"/>
              <a:gd name="textAreaRight" fmla="*/ 65160 w 181080"/>
              <a:gd name="textAreaTop" fmla="*/ 9360 h 2674800"/>
              <a:gd name="textAreaBottom" fmla="*/ 2665440 h 267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16200" y="10800"/>
                  <a:pt x="21600" y="10800"/>
                </a:cubicBezTo>
                <a:cubicBezTo>
                  <a:pt x="162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32"/>
          <p:cNvSpPr/>
          <p:nvPr/>
        </p:nvSpPr>
        <p:spPr>
          <a:xfrm rot="16200000">
            <a:off x="47520" y="48542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w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arentesi graffa chiusa 30"/>
          <p:cNvSpPr/>
          <p:nvPr/>
        </p:nvSpPr>
        <p:spPr>
          <a:xfrm flipH="1">
            <a:off x="986760" y="1960560"/>
            <a:ext cx="168120" cy="1338120"/>
          </a:xfrm>
          <a:custGeom>
            <a:avLst/>
            <a:gdLst>
              <a:gd name="textAreaLeft" fmla="*/ 0 w 168120"/>
              <a:gd name="textAreaRight" fmla="*/ 60840 w 168120"/>
              <a:gd name="textAreaTop" fmla="*/ 4680 h 1338120"/>
              <a:gd name="textAreaBottom" fmla="*/ 133344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16200" y="10800"/>
                  <a:pt x="21600" y="10800"/>
                </a:cubicBezTo>
                <a:cubicBezTo>
                  <a:pt x="162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32"/>
          <p:cNvSpPr/>
          <p:nvPr/>
        </p:nvSpPr>
        <p:spPr>
          <a:xfrm rot="16200000">
            <a:off x="-242280" y="2277360"/>
            <a:ext cx="19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ast 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AutoShape 14"/>
          <p:cNvSpPr/>
          <p:nvPr/>
        </p:nvSpPr>
        <p:spPr>
          <a:xfrm>
            <a:off x="3254400" y="4827600"/>
            <a:ext cx="5533920" cy="1447920"/>
          </a:xfr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ff3300"/>
            </a:solidFill>
            <a:miter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15"/>
          <p:cNvSpPr/>
          <p:nvPr/>
        </p:nvSpPr>
        <p:spPr>
          <a:xfrm>
            <a:off x="3213000" y="4835520"/>
            <a:ext cx="4125960" cy="12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Hosting Infrastruttu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  <a:ea typeface="Arial"/>
              </a:rPr>
              <a:t>Cloud Storag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rtual 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  <a:ea typeface="Arial"/>
              </a:rPr>
              <a:t>DRaaS / BCa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8"/>
          <p:cNvSpPr/>
          <p:nvPr/>
        </p:nvSpPr>
        <p:spPr>
          <a:xfrm>
            <a:off x="3186000" y="928800"/>
            <a:ext cx="5532480" cy="2246040"/>
          </a:xfr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9"/>
          <p:cNvSpPr/>
          <p:nvPr/>
        </p:nvSpPr>
        <p:spPr>
          <a:xfrm>
            <a:off x="3254400" y="3332160"/>
            <a:ext cx="5532480" cy="1454040"/>
          </a:xfr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0"/>
          <p:cNvSpPr/>
          <p:nvPr/>
        </p:nvSpPr>
        <p:spPr>
          <a:xfrm>
            <a:off x="3213000" y="3341520"/>
            <a:ext cx="3998880" cy="133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6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deo communication 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TM 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Unified Communication &amp;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1"/>
          <p:cNvSpPr/>
          <p:nvPr/>
        </p:nvSpPr>
        <p:spPr>
          <a:xfrm>
            <a:off x="3213000" y="1001880"/>
            <a:ext cx="4972320" cy="221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nerg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Smart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56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HR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RP/C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ertifie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ront Off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Picture 24" descr="TI Green"/>
          <p:cNvPicPr/>
          <p:nvPr/>
        </p:nvPicPr>
        <p:blipFill>
          <a:blip r:embed="rId2"/>
          <a:stretch/>
        </p:blipFill>
        <p:spPr>
          <a:xfrm>
            <a:off x="6537240" y="1341360"/>
            <a:ext cx="803520" cy="2872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25" descr="MyHD"/>
          <p:cNvPicPr/>
          <p:nvPr/>
        </p:nvPicPr>
        <p:blipFill>
          <a:blip r:embed="rId3"/>
          <a:stretch/>
        </p:blipFill>
        <p:spPr>
          <a:xfrm>
            <a:off x="5891040" y="3386160"/>
            <a:ext cx="1521000" cy="32868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26" descr="hosting ev"/>
          <p:cNvPicPr/>
          <p:nvPr/>
        </p:nvPicPr>
        <p:blipFill>
          <a:blip r:embed="rId4"/>
          <a:stretch/>
        </p:blipFill>
        <p:spPr>
          <a:xfrm>
            <a:off x="6881760" y="4960800"/>
            <a:ext cx="763560" cy="33516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27" descr="mydocs"/>
          <p:cNvPicPr/>
          <p:nvPr/>
        </p:nvPicPr>
        <p:blipFill>
          <a:blip r:embed="rId5"/>
          <a:stretch/>
        </p:blipFill>
        <p:spPr>
          <a:xfrm>
            <a:off x="6454800" y="928800"/>
            <a:ext cx="1104840" cy="36828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29" descr="ospita virtuale"/>
          <p:cNvPicPr/>
          <p:nvPr/>
        </p:nvPicPr>
        <p:blipFill>
          <a:blip r:embed="rId6"/>
          <a:stretch/>
        </p:blipFill>
        <p:spPr>
          <a:xfrm>
            <a:off x="6021360" y="4871880"/>
            <a:ext cx="674640" cy="476280"/>
          </a:xfrm>
          <a:prstGeom prst="rect">
            <a:avLst/>
          </a:prstGeom>
          <a:ln w="0">
            <a:noFill/>
          </a:ln>
        </p:spPr>
      </p:pic>
      <p:cxnSp>
        <p:nvCxnSpPr>
          <p:cNvPr id="1432" name="Connettore 2 26"/>
          <p:cNvCxnSpPr/>
          <p:nvPr/>
        </p:nvCxnSpPr>
        <p:spPr>
          <a:xfrm flipH="1">
            <a:off x="7430400" y="1068840"/>
            <a:ext cx="1215000" cy="252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sp>
        <p:nvSpPr>
          <p:cNvPr id="1433" name="Connettore 1 27"/>
          <p:cNvSpPr/>
          <p:nvPr/>
        </p:nvSpPr>
        <p:spPr>
          <a:xfrm flipH="1">
            <a:off x="8643960" y="1071720"/>
            <a:ext cx="1440" cy="500040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4" name="Connettore 2 28"/>
          <p:cNvCxnSpPr/>
          <p:nvPr/>
        </p:nvCxnSpPr>
        <p:spPr>
          <a:xfrm flipH="1" flipV="1">
            <a:off x="4928400" y="2785680"/>
            <a:ext cx="3715560" cy="216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sp>
        <p:nvSpPr>
          <p:cNvPr id="1435" name="Rettangolo arrotondato 29"/>
          <p:cNvSpPr/>
          <p:nvPr/>
        </p:nvSpPr>
        <p:spPr>
          <a:xfrm rot="5400000">
            <a:off x="7250400" y="3464640"/>
            <a:ext cx="2643480" cy="428760"/>
          </a:xfrm>
          <a:prstGeom prst="roundRect">
            <a:avLst>
              <a:gd name="adj" fmla="val 16667"/>
            </a:avLst>
          </a:prstGeom>
          <a:solidFill>
            <a:srgbClr val="0070b0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  <a:ea typeface="Arial"/>
              </a:rPr>
              <a:t>Nuovo 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6" name="Connettore 2 30"/>
          <p:cNvCxnSpPr/>
          <p:nvPr/>
        </p:nvCxnSpPr>
        <p:spPr>
          <a:xfrm flipH="1" flipV="1">
            <a:off x="5571360" y="5285520"/>
            <a:ext cx="3072600" cy="252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cxnSp>
        <p:nvCxnSpPr>
          <p:cNvPr id="1437" name="Connettore 2 31"/>
          <p:cNvCxnSpPr/>
          <p:nvPr/>
        </p:nvCxnSpPr>
        <p:spPr>
          <a:xfrm flipH="1" flipV="1">
            <a:off x="5571360" y="6071400"/>
            <a:ext cx="3072600" cy="252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cxnSp>
        <p:nvCxnSpPr>
          <p:cNvPr id="1438" name="Connettore 2 32"/>
          <p:cNvCxnSpPr/>
          <p:nvPr/>
        </p:nvCxnSpPr>
        <p:spPr>
          <a:xfrm flipH="1" flipV="1">
            <a:off x="4928400" y="3071520"/>
            <a:ext cx="3715560" cy="216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cxnSp>
        <p:nvCxnSpPr>
          <p:cNvPr id="1439" name="Connettore 2 33"/>
          <p:cNvCxnSpPr/>
          <p:nvPr/>
        </p:nvCxnSpPr>
        <p:spPr>
          <a:xfrm flipH="1" flipV="1">
            <a:off x="5571360" y="1856520"/>
            <a:ext cx="3072600" cy="2520"/>
          </a:xfrm>
          <a:prstGeom prst="straightConnector1">
            <a:avLst/>
          </a:prstGeom>
          <a:ln w="9360">
            <a:solidFill>
              <a:srgbClr val="006fb0"/>
            </a:solidFill>
            <a:miter/>
            <a:tailEnd len="med" type="arrow" w="med"/>
          </a:ln>
        </p:spPr>
      </p:cxnSp>
      <p:sp>
        <p:nvSpPr>
          <p:cNvPr id="1440" name="Rettangolo 34"/>
          <p:cNvSpPr/>
          <p:nvPr/>
        </p:nvSpPr>
        <p:spPr>
          <a:xfrm>
            <a:off x="428760" y="214200"/>
            <a:ext cx="17143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itolo 1"/>
          <p:cNvSpPr/>
          <p:nvPr/>
        </p:nvSpPr>
        <p:spPr>
          <a:xfrm>
            <a:off x="457200" y="2779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elecom Italia ICT Cloud Offering s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Picture 61" descr=""/>
          <p:cNvPicPr/>
          <p:nvPr/>
        </p:nvPicPr>
        <p:blipFill>
          <a:blip r:embed="rId7"/>
          <a:stretch/>
        </p:blipFill>
        <p:spPr>
          <a:xfrm>
            <a:off x="6588000" y="1700280"/>
            <a:ext cx="1584360" cy="63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32"/>
          <p:cNvSpPr/>
          <p:nvPr/>
        </p:nvSpPr>
        <p:spPr>
          <a:xfrm>
            <a:off x="351000" y="3571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i Modelli Cloud ed il 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6" name=""/>
          <p:cNvGraphicFramePr/>
          <p:nvPr/>
        </p:nvGraphicFramePr>
        <p:xfrm>
          <a:off x="317520" y="1417680"/>
          <a:ext cx="8547120" cy="4503600"/>
        </p:xfrm>
        <a:graphic>
          <a:graphicData uri="http://schemas.openxmlformats.org/drawingml/2006/table">
            <a:tbl>
              <a:tblPr/>
              <a:tblGrid>
                <a:gridCol w="461880"/>
                <a:gridCol w="2664000"/>
                <a:gridCol w="2784240"/>
                <a:gridCol w="263700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Cloud Pubbl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Cloud Priv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Cloud Ibri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</a:tr>
              <a:tr h="197172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caratterist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Spesso identificati come quelli  offerti da fornitori di terze parti, i servizi di cloud pubblico sono tipicamente fruibili via internet ed erogati gratuitamen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Ci sono diversi esempi, come Amazon Web services, forniti in una rete aperta, oggi pubblic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I clouds privati offrono molti degli stessi benefici di quelli pubblici ma sono gestiti all’interno dell’amministrazion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I clouds privati  sono svincolati da problemi legati alla disponibilità e ampiezza di connettività, o dalla potenziale esposizione sui temi della sicurezza tipici dei clouds pubblic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4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Alcune funzioni ICT (ad esempio e-mail, calendaring, applicazioni di business runtime) potrebbero essere gestite secondo una logica di minor costi tipici dei clouds pubblici. Altre funzioni, quali lo storage di dati, o applicazioni mission critical potrebbero essere mantenute in-hous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ceff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benef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I clouds commerciali operativi oggi forniscono best practices ed esempi di cloud comput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Beneficio principale: notevole flessibilità e costo competitiv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I clouds  privati offrono un maggior controllo, sicurezza e flessibilità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Beneficio principale: garantisce agli utenti  un maggior controllo rispetto ai clouds pubblic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4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I Clouds ibridi offrono una maggiore flessibilità dell’architettu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Beneficio principale: offre maggiori scelte di business ed evita l’approccio </a:t>
                      </a:r>
                      <a:r>
                        <a:rPr b="0" i="1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all or not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ceff"/>
                    </a:solidFill>
                  </a:tcPr>
                </a:tc>
              </a:tr>
              <a:tr h="96732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ris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8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Maggiori rischi in termini di sicurezza, elasticità, trasparenza, e performance garant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Pontezialmente minori rischi. Sicurezza, flessibilità, infrastruttura e processi di supporto non differiranno significativamente dal contesto attua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54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"/>
                        </a:rPr>
                        <a:t>Si riducono i rischi e i costi rispetto al cloud pubblico e privat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9c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ttangolo 3"/>
          <p:cNvSpPr/>
          <p:nvPr/>
        </p:nvSpPr>
        <p:spPr>
          <a:xfrm>
            <a:off x="954000" y="1465200"/>
            <a:ext cx="2826000" cy="2033640"/>
          </a:xfrm>
          <a:prstGeom prst="rect">
            <a:avLst/>
          </a:prstGeom>
          <a:solidFill>
            <a:srgbClr val="007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ttangolo 4"/>
          <p:cNvSpPr/>
          <p:nvPr/>
        </p:nvSpPr>
        <p:spPr>
          <a:xfrm>
            <a:off x="3897360" y="1465200"/>
            <a:ext cx="2824200" cy="2033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ttangolo 5"/>
          <p:cNvSpPr/>
          <p:nvPr/>
        </p:nvSpPr>
        <p:spPr>
          <a:xfrm>
            <a:off x="3897360" y="3676680"/>
            <a:ext cx="2824200" cy="20336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ttangolo 6"/>
          <p:cNvSpPr/>
          <p:nvPr/>
        </p:nvSpPr>
        <p:spPr>
          <a:xfrm>
            <a:off x="954000" y="3676680"/>
            <a:ext cx="2826000" cy="2035080"/>
          </a:xfrm>
          <a:prstGeom prst="rect">
            <a:avLst/>
          </a:prstGeom>
          <a:solidFill>
            <a:srgbClr val="bc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"/>
          <p:cNvSpPr/>
          <p:nvPr/>
        </p:nvSpPr>
        <p:spPr>
          <a:xfrm>
            <a:off x="285840" y="214200"/>
            <a:ext cx="804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Le modalità di implementazione nel Public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4" name="Connettore 2 8"/>
          <p:cNvCxnSpPr>
            <a:stCxn id="1455" idx="0"/>
          </p:cNvCxnSpPr>
          <p:nvPr/>
        </p:nvCxnSpPr>
        <p:spPr>
          <a:xfrm flipV="1">
            <a:off x="644400" y="1231200"/>
            <a:ext cx="576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6" name="Connettore 2 9"/>
          <p:cNvCxnSpPr>
            <a:stCxn id="1455" idx="3"/>
            <a:endCxn id="1457" idx="1"/>
          </p:cNvCxnSpPr>
          <p:nvPr/>
        </p:nvCxnSpPr>
        <p:spPr>
          <a:xfrm>
            <a:off x="920880" y="6114600"/>
            <a:ext cx="5737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5" name="CasellaDiTesto 6"/>
          <p:cNvSpPr/>
          <p:nvPr/>
        </p:nvSpPr>
        <p:spPr>
          <a:xfrm>
            <a:off x="362160" y="5985000"/>
            <a:ext cx="56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Bas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CasellaDiTesto 10"/>
          <p:cNvSpPr/>
          <p:nvPr/>
        </p:nvSpPr>
        <p:spPr>
          <a:xfrm>
            <a:off x="6653160" y="5985000"/>
            <a:ext cx="43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l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CasellaDiTesto 11"/>
          <p:cNvSpPr/>
          <p:nvPr/>
        </p:nvSpPr>
        <p:spPr>
          <a:xfrm>
            <a:off x="437400" y="102888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CasellaDiTesto 13" descr=""/>
          <p:cNvPicPr/>
          <p:nvPr/>
        </p:nvPicPr>
        <p:blipFill>
          <a:blip r:embed="rId1"/>
          <a:stretch/>
        </p:blipFill>
        <p:spPr>
          <a:xfrm>
            <a:off x="281160" y="2816280"/>
            <a:ext cx="365040" cy="1390680"/>
          </a:xfrm>
          <a:prstGeom prst="rect">
            <a:avLst/>
          </a:prstGeom>
          <a:ln w="0">
            <a:noFill/>
          </a:ln>
        </p:spPr>
      </p:pic>
      <p:sp>
        <p:nvSpPr>
          <p:cNvPr id="1460" name="CasellaDiTesto 13"/>
          <p:cNvSpPr/>
          <p:nvPr/>
        </p:nvSpPr>
        <p:spPr>
          <a:xfrm>
            <a:off x="3493800" y="6143760"/>
            <a:ext cx="79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icurez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CasellaDiTesto 15"/>
          <p:cNvSpPr/>
          <p:nvPr/>
        </p:nvSpPr>
        <p:spPr>
          <a:xfrm>
            <a:off x="1583640" y="5738760"/>
            <a:ext cx="1172880" cy="261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loud Pubbl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CasellaDiTesto 16"/>
          <p:cNvSpPr/>
          <p:nvPr/>
        </p:nvSpPr>
        <p:spPr>
          <a:xfrm>
            <a:off x="4482360" y="5769000"/>
            <a:ext cx="1684800" cy="261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loud Pubblico-Priva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CasellaDiTesto 17"/>
          <p:cNvSpPr/>
          <p:nvPr/>
        </p:nvSpPr>
        <p:spPr>
          <a:xfrm>
            <a:off x="1291680" y="1135080"/>
            <a:ext cx="2085840" cy="261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loud Privato in Outsourc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CasellaDiTesto 18"/>
          <p:cNvSpPr/>
          <p:nvPr/>
        </p:nvSpPr>
        <p:spPr>
          <a:xfrm>
            <a:off x="5034960" y="1119240"/>
            <a:ext cx="1067760" cy="261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loud Priva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Connettore 1 19"/>
          <p:cNvSpPr/>
          <p:nvPr/>
        </p:nvSpPr>
        <p:spPr>
          <a:xfrm flipH="1">
            <a:off x="966960" y="3587760"/>
            <a:ext cx="6094080" cy="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Connettore 1 20"/>
          <p:cNvSpPr/>
          <p:nvPr/>
        </p:nvSpPr>
        <p:spPr>
          <a:xfrm>
            <a:off x="3817800" y="1393920"/>
            <a:ext cx="0" cy="4545000"/>
          </a:xfrm>
          <a:prstGeom prst="line">
            <a:avLst/>
          </a:prstGeom>
          <a:ln w="9360">
            <a:solidFill>
              <a:srgbClr val="006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e 21"/>
          <p:cNvSpPr/>
          <p:nvPr/>
        </p:nvSpPr>
        <p:spPr>
          <a:xfrm>
            <a:off x="1695600" y="2992320"/>
            <a:ext cx="2036520" cy="673200"/>
          </a:xfrm>
          <a:prstGeom prst="ellipse">
            <a:avLst/>
          </a:prstGeom>
          <a:solidFill>
            <a:srgbClr val="e5e5e5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e 22"/>
          <p:cNvSpPr/>
          <p:nvPr/>
        </p:nvSpPr>
        <p:spPr>
          <a:xfrm>
            <a:off x="1104840" y="1922400"/>
            <a:ext cx="1241640" cy="53172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Ovale 23"/>
          <p:cNvSpPr/>
          <p:nvPr/>
        </p:nvSpPr>
        <p:spPr>
          <a:xfrm>
            <a:off x="3005280" y="1776240"/>
            <a:ext cx="2038320" cy="82728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e 24"/>
          <p:cNvSpPr/>
          <p:nvPr/>
        </p:nvSpPr>
        <p:spPr>
          <a:xfrm>
            <a:off x="5583240" y="1776240"/>
            <a:ext cx="857160" cy="1995840"/>
          </a:xfrm>
          <a:prstGeom prst="ellipse">
            <a:avLst/>
          </a:prstGeom>
          <a:solidFill>
            <a:srgbClr val="bcc2cf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e 25"/>
          <p:cNvSpPr/>
          <p:nvPr/>
        </p:nvSpPr>
        <p:spPr>
          <a:xfrm>
            <a:off x="2739960" y="3716280"/>
            <a:ext cx="2036880" cy="674640"/>
          </a:xfrm>
          <a:prstGeom prst="ellipse">
            <a:avLst/>
          </a:prstGeom>
          <a:solidFill>
            <a:srgbClr val="e5e5e5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Ovale 26"/>
          <p:cNvSpPr/>
          <p:nvPr/>
        </p:nvSpPr>
        <p:spPr>
          <a:xfrm>
            <a:off x="3427560" y="4668840"/>
            <a:ext cx="2301840" cy="430200"/>
          </a:xfrm>
          <a:prstGeom prst="ellipse">
            <a:avLst/>
          </a:prstGeom>
          <a:solidFill>
            <a:srgbClr val="eef1f6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e 27"/>
          <p:cNvSpPr/>
          <p:nvPr/>
        </p:nvSpPr>
        <p:spPr>
          <a:xfrm>
            <a:off x="1241280" y="4390920"/>
            <a:ext cx="1681200" cy="4287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e 28"/>
          <p:cNvSpPr/>
          <p:nvPr/>
        </p:nvSpPr>
        <p:spPr>
          <a:xfrm>
            <a:off x="1312920" y="5064120"/>
            <a:ext cx="1681200" cy="4287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005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CasellaDiTesto 28"/>
          <p:cNvSpPr/>
          <p:nvPr/>
        </p:nvSpPr>
        <p:spPr>
          <a:xfrm>
            <a:off x="1241280" y="1960560"/>
            <a:ext cx="95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ervizi ai Cittadi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CasellaDiTesto 26"/>
          <p:cNvSpPr/>
          <p:nvPr/>
        </p:nvSpPr>
        <p:spPr>
          <a:xfrm>
            <a:off x="3419640" y="1882800"/>
            <a:ext cx="1207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pplicazioni gestionali amminist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CasellaDiTesto 25"/>
          <p:cNvSpPr/>
          <p:nvPr/>
        </p:nvSpPr>
        <p:spPr>
          <a:xfrm>
            <a:off x="5537160" y="2546280"/>
            <a:ext cx="94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pplicazioni c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CasellaDiTesto 27"/>
          <p:cNvSpPr/>
          <p:nvPr/>
        </p:nvSpPr>
        <p:spPr>
          <a:xfrm>
            <a:off x="2063880" y="3137040"/>
            <a:ext cx="1336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viluppo Applicazioni e 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CasellaDiTesto 29"/>
          <p:cNvSpPr/>
          <p:nvPr/>
        </p:nvSpPr>
        <p:spPr>
          <a:xfrm>
            <a:off x="4323240" y="4749840"/>
            <a:ext cx="6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Porta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CasellaDiTesto 24"/>
          <p:cNvSpPr/>
          <p:nvPr/>
        </p:nvSpPr>
        <p:spPr>
          <a:xfrm>
            <a:off x="2879640" y="3848040"/>
            <a:ext cx="181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utomazione d’ufficio 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trumenti di produttivit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CasellaDiTesto 22"/>
          <p:cNvSpPr/>
          <p:nvPr/>
        </p:nvSpPr>
        <p:spPr>
          <a:xfrm>
            <a:off x="1581840" y="5154480"/>
            <a:ext cx="11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omunic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CasellaDiTesto 23"/>
          <p:cNvSpPr/>
          <p:nvPr/>
        </p:nvSpPr>
        <p:spPr>
          <a:xfrm>
            <a:off x="1538640" y="448164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ffusione da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CasellaDiTesto 77"/>
          <p:cNvSpPr/>
          <p:nvPr/>
        </p:nvSpPr>
        <p:spPr>
          <a:xfrm>
            <a:off x="6715080" y="2000160"/>
            <a:ext cx="24289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ssicurare alla PA </a:t>
            </a:r>
            <a:r>
              <a:rPr b="1" i="1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rapidità di implementazione </a:t>
            </a: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e flessibilità di configu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bbattere le </a:t>
            </a:r>
            <a:r>
              <a:rPr b="1" i="1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pese di gestione dei sistemi </a:t>
            </a: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he al momento pesano più del 50% nella PA e frenano gli investimenti in innov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Esaltare il proprio ruolo di </a:t>
            </a:r>
            <a:r>
              <a:rPr b="1" i="1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ystem Integrator   </a:t>
            </a:r>
            <a:r>
              <a:rPr b="0" lang="it-IT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bilitando l’ecosistema delle terze parti per l’ultimo miglio applicativo ed integrando soluzioni di sicurezza  architetturale e gest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3"/>
          <p:cNvSpPr/>
          <p:nvPr/>
        </p:nvSpPr>
        <p:spPr>
          <a:xfrm>
            <a:off x="6019920" y="666720"/>
            <a:ext cx="2171520" cy="5214960"/>
          </a:xfrm>
          <a:prstGeom prst="rect">
            <a:avLst/>
          </a:prstGeom>
          <a:solidFill>
            <a:srgbClr val="d9d9d9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3"/>
          <p:cNvSpPr/>
          <p:nvPr/>
        </p:nvSpPr>
        <p:spPr>
          <a:xfrm>
            <a:off x="892080" y="642960"/>
            <a:ext cx="2171880" cy="5214960"/>
          </a:xfrm>
          <a:prstGeom prst="rect">
            <a:avLst/>
          </a:prstGeom>
          <a:solidFill>
            <a:srgbClr val="e5e5e5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itolo 1"/>
          <p:cNvSpPr/>
          <p:nvPr/>
        </p:nvSpPr>
        <p:spPr>
          <a:xfrm>
            <a:off x="714240" y="142920"/>
            <a:ext cx="82296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Franklin Gothic Demi"/>
                <a:ea typeface="Arial"/>
              </a:rPr>
              <a:t>PS Cloud TI visione strategica – principali “pil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CasellaDiTesto 19"/>
          <p:cNvSpPr/>
          <p:nvPr/>
        </p:nvSpPr>
        <p:spPr>
          <a:xfrm>
            <a:off x="974880" y="642960"/>
            <a:ext cx="204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ompliancy  con le Strategie Euro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ttangolo 7"/>
          <p:cNvSpPr/>
          <p:nvPr/>
        </p:nvSpPr>
        <p:spPr>
          <a:xfrm>
            <a:off x="1023840" y="1143000"/>
            <a:ext cx="1979640" cy="4302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E eGovernment Action Plan 2011 -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ttangolo 8"/>
          <p:cNvSpPr/>
          <p:nvPr/>
        </p:nvSpPr>
        <p:spPr>
          <a:xfrm>
            <a:off x="1023840" y="1643040"/>
            <a:ext cx="924120" cy="6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Agenda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ttangolo 9"/>
          <p:cNvSpPr/>
          <p:nvPr/>
        </p:nvSpPr>
        <p:spPr>
          <a:xfrm>
            <a:off x="2013120" y="1643040"/>
            <a:ext cx="990360" cy="6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5° tender  CIP – ICT objective 4.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ttangolo 10"/>
          <p:cNvSpPr/>
          <p:nvPr/>
        </p:nvSpPr>
        <p:spPr>
          <a:xfrm>
            <a:off x="1023840" y="2571840"/>
            <a:ext cx="1846440" cy="600120"/>
          </a:xfrm>
          <a:prstGeom prst="rect">
            <a:avLst/>
          </a:prstGeom>
          <a:solidFill>
            <a:srgbClr val="464e62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uovo 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ttangolo 11"/>
          <p:cNvSpPr/>
          <p:nvPr/>
        </p:nvSpPr>
        <p:spPr>
          <a:xfrm>
            <a:off x="1023840" y="3286080"/>
            <a:ext cx="1319400" cy="357120"/>
          </a:xfrm>
          <a:prstGeom prst="rect">
            <a:avLst/>
          </a:prstGeom>
          <a:solidFill>
            <a:srgbClr val="6b88b4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Data Por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e 10"/>
          <p:cNvSpPr/>
          <p:nvPr/>
        </p:nvSpPr>
        <p:spPr>
          <a:xfrm>
            <a:off x="760320" y="500040"/>
            <a:ext cx="33012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ttangolo 13"/>
          <p:cNvSpPr/>
          <p:nvPr/>
        </p:nvSpPr>
        <p:spPr>
          <a:xfrm>
            <a:off x="1023840" y="3714840"/>
            <a:ext cx="1319400" cy="357120"/>
          </a:xfrm>
          <a:prstGeom prst="rect">
            <a:avLst/>
          </a:prstGeom>
          <a:solidFill>
            <a:srgbClr val="6b88b4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CasellaDiTesto 19"/>
          <p:cNvSpPr/>
          <p:nvPr/>
        </p:nvSpPr>
        <p:spPr>
          <a:xfrm>
            <a:off x="6170760" y="642960"/>
            <a:ext cx="20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bilitare l’efficienza ed i servizi al cittadini ed all’impresa tramite Iaas, PaaS, SaaS e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ttangolo 15"/>
          <p:cNvSpPr/>
          <p:nvPr/>
        </p:nvSpPr>
        <p:spPr>
          <a:xfrm>
            <a:off x="1023840" y="4143240"/>
            <a:ext cx="1319400" cy="357480"/>
          </a:xfrm>
          <a:prstGeom prst="rect">
            <a:avLst/>
          </a:prstGeom>
          <a:solidFill>
            <a:srgbClr val="6b88b4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Firma DIgi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ttangolo 16"/>
          <p:cNvSpPr/>
          <p:nvPr/>
        </p:nvSpPr>
        <p:spPr>
          <a:xfrm>
            <a:off x="1023840" y="4643280"/>
            <a:ext cx="1319400" cy="357480"/>
          </a:xfrm>
          <a:prstGeom prst="rect">
            <a:avLst/>
          </a:prstGeom>
          <a:solidFill>
            <a:srgbClr val="6b88b4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C (CEC – PA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uppo 19"/>
          <p:cNvGrpSpPr/>
          <p:nvPr/>
        </p:nvGrpSpPr>
        <p:grpSpPr>
          <a:xfrm>
            <a:off x="3200400" y="571680"/>
            <a:ext cx="2309760" cy="5286240"/>
            <a:chOff x="3200400" y="571680"/>
            <a:chExt cx="2309760" cy="5286240"/>
          </a:xfrm>
        </p:grpSpPr>
        <p:sp>
          <p:nvSpPr>
            <p:cNvPr id="1501" name="Rectangle 3"/>
            <p:cNvSpPr/>
            <p:nvPr/>
          </p:nvSpPr>
          <p:spPr>
            <a:xfrm>
              <a:off x="3336840" y="642960"/>
              <a:ext cx="2173320" cy="52149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7e7e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marL="3240"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CasellaDiTesto 19"/>
            <p:cNvSpPr/>
            <p:nvPr/>
          </p:nvSpPr>
          <p:spPr>
            <a:xfrm>
              <a:off x="3464280" y="642960"/>
              <a:ext cx="20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ilitare l’aggregazione e la coopera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e 17"/>
            <p:cNvSpPr/>
            <p:nvPr/>
          </p:nvSpPr>
          <p:spPr>
            <a:xfrm>
              <a:off x="3200400" y="571680"/>
              <a:ext cx="32976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Rettangolo 21"/>
          <p:cNvSpPr/>
          <p:nvPr/>
        </p:nvSpPr>
        <p:spPr>
          <a:xfrm>
            <a:off x="3463920" y="3143160"/>
            <a:ext cx="1122480" cy="4302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ttangolo 22"/>
          <p:cNvSpPr/>
          <p:nvPr/>
        </p:nvSpPr>
        <p:spPr>
          <a:xfrm>
            <a:off x="3463920" y="3714840"/>
            <a:ext cx="105552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u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ttangolo 23"/>
          <p:cNvSpPr/>
          <p:nvPr/>
        </p:nvSpPr>
        <p:spPr>
          <a:xfrm>
            <a:off x="3463920" y="4714920"/>
            <a:ext cx="105552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24"/>
          <p:cNvSpPr/>
          <p:nvPr/>
        </p:nvSpPr>
        <p:spPr>
          <a:xfrm>
            <a:off x="3463920" y="4214880"/>
            <a:ext cx="105552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ggregaz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ttangolo 25"/>
          <p:cNvSpPr/>
          <p:nvPr/>
        </p:nvSpPr>
        <p:spPr>
          <a:xfrm>
            <a:off x="3463920" y="5213520"/>
            <a:ext cx="105552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sporto Lo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ttangolo 26"/>
          <p:cNvSpPr/>
          <p:nvPr/>
        </p:nvSpPr>
        <p:spPr>
          <a:xfrm>
            <a:off x="3860640" y="1285920"/>
            <a:ext cx="1252800" cy="357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keholder Priv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ttangolo 27"/>
          <p:cNvSpPr/>
          <p:nvPr/>
        </p:nvSpPr>
        <p:spPr>
          <a:xfrm rot="16200000">
            <a:off x="3027960" y="1877040"/>
            <a:ext cx="1333440" cy="198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f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ttangolo 28"/>
          <p:cNvSpPr/>
          <p:nvPr/>
        </p:nvSpPr>
        <p:spPr>
          <a:xfrm>
            <a:off x="3882960" y="2405160"/>
            <a:ext cx="1254240" cy="2142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iusti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ttangolo 29"/>
          <p:cNvSpPr/>
          <p:nvPr/>
        </p:nvSpPr>
        <p:spPr>
          <a:xfrm rot="5400000">
            <a:off x="4599360" y="1865880"/>
            <a:ext cx="1357200" cy="19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"/>
          <p:cNvSpPr/>
          <p:nvPr/>
        </p:nvSpPr>
        <p:spPr>
          <a:xfrm>
            <a:off x="4475160" y="3143160"/>
            <a:ext cx="1714680" cy="250056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2500560"/>
              <a:gd name="textAreaBottom" fmla="*/ 2500920 h 250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21" y="0"/>
                </a:lnTo>
                <a:lnTo>
                  <a:pt x="21600" y="10800"/>
                </a:lnTo>
                <a:lnTo>
                  <a:pt x="15921" y="21600"/>
                </a:lnTo>
                <a:lnTo>
                  <a:pt x="0" y="21600"/>
                </a:lnTo>
                <a:lnTo>
                  <a:pt x="5679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70b0"/>
            </a:solidFill>
            <a:miter/>
          </a:ln>
          <a:effectLst>
            <a:outerShdw dist="107932" dir="2700000" blurRad="0" rotWithShape="0">
              <a:srgbClr val="7e7e7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Plat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ttangolo 31"/>
          <p:cNvSpPr/>
          <p:nvPr/>
        </p:nvSpPr>
        <p:spPr>
          <a:xfrm flipV="1" rot="5400000">
            <a:off x="5216400" y="4162320"/>
            <a:ext cx="2500560" cy="462240"/>
          </a:xfrm>
          <a:prstGeom prst="rect">
            <a:avLst/>
          </a:prstGeom>
          <a:solidFill>
            <a:srgbClr val="e5e5e5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divisione dello stesso servizioe.g.: HR Services, Document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e 34"/>
          <p:cNvSpPr/>
          <p:nvPr/>
        </p:nvSpPr>
        <p:spPr>
          <a:xfrm>
            <a:off x="5840280" y="571680"/>
            <a:ext cx="330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ttangolo 33"/>
          <p:cNvSpPr/>
          <p:nvPr/>
        </p:nvSpPr>
        <p:spPr>
          <a:xfrm rot="5400000">
            <a:off x="5848560" y="3552840"/>
            <a:ext cx="4071600" cy="395280"/>
          </a:xfrm>
          <a:prstGeom prst="rect">
            <a:avLst/>
          </a:prstGeom>
          <a:solidFill>
            <a:srgbClr val="6b88b4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glioramento Servizi per Cittadini e Imp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ttangolo 34"/>
          <p:cNvSpPr/>
          <p:nvPr/>
        </p:nvSpPr>
        <p:spPr>
          <a:xfrm flipV="1" rot="5400000">
            <a:off x="5810040" y="4162320"/>
            <a:ext cx="2500560" cy="461880"/>
          </a:xfrm>
          <a:prstGeom prst="rect">
            <a:avLst/>
          </a:prstGeom>
          <a:solidFill>
            <a:srgbClr val="e5e5e5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enari Vertic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CasellaDiTesto 38"/>
          <p:cNvSpPr/>
          <p:nvPr/>
        </p:nvSpPr>
        <p:spPr>
          <a:xfrm>
            <a:off x="571680" y="6000840"/>
            <a:ext cx="8113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Telecom Italia può sviluppare uno scenario “Trusted” e portare il PS al giusto livello di Aggregazione necessario per ottenere economie di scala ed erogare migliori serviz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CasellaDiTesto 40"/>
          <p:cNvSpPr/>
          <p:nvPr/>
        </p:nvSpPr>
        <p:spPr>
          <a:xfrm>
            <a:off x="6475320" y="2143080"/>
            <a:ext cx="955800" cy="262080"/>
          </a:xfrm>
          <a:prstGeom prst="rect">
            <a:avLst/>
          </a:prstGeom>
          <a:solidFill>
            <a:srgbClr val="e5e5e5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patto sul T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ttangolo 37"/>
          <p:cNvSpPr/>
          <p:nvPr/>
        </p:nvSpPr>
        <p:spPr>
          <a:xfrm rot="5400000">
            <a:off x="1829880" y="3865680"/>
            <a:ext cx="1714680" cy="555480"/>
          </a:xfrm>
          <a:prstGeom prst="rect">
            <a:avLst/>
          </a:prstGeom>
          <a:solidFill>
            <a:srgbClr val="464e62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curity, Priv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CasellaDiTesto 42"/>
          <p:cNvSpPr/>
          <p:nvPr/>
        </p:nvSpPr>
        <p:spPr>
          <a:xfrm>
            <a:off x="6302520" y="1795320"/>
            <a:ext cx="1220760" cy="262080"/>
          </a:xfrm>
          <a:prstGeom prst="rect">
            <a:avLst/>
          </a:prstGeom>
          <a:solidFill>
            <a:srgbClr val="e5e5e5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marL="324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dustry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2" name="Picture 41" descr="http://www.inail.it/repository/ContentManagement/information/N1632365415/martello.jpg"/>
          <p:cNvPicPr/>
          <p:nvPr/>
        </p:nvPicPr>
        <p:blipFill>
          <a:blip r:embed="rId1"/>
          <a:stretch/>
        </p:blipFill>
        <p:spPr>
          <a:xfrm>
            <a:off x="4255920" y="1714680"/>
            <a:ext cx="527040" cy="468000"/>
          </a:xfrm>
          <a:prstGeom prst="rect">
            <a:avLst/>
          </a:prstGeom>
          <a:ln w="0">
            <a:noFill/>
          </a:ln>
        </p:spPr>
      </p:pic>
      <p:sp>
        <p:nvSpPr>
          <p:cNvPr id="1523" name="AutoShape 34"/>
          <p:cNvSpPr/>
          <p:nvPr/>
        </p:nvSpPr>
        <p:spPr>
          <a:xfrm rot="5400000">
            <a:off x="5253120" y="1674720"/>
            <a:ext cx="1008000" cy="230400"/>
          </a:xfrm>
          <a:prstGeom prst="triangle">
            <a:avLst>
              <a:gd name="adj" fmla="val 50000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AutoShape 34"/>
          <p:cNvSpPr/>
          <p:nvPr/>
        </p:nvSpPr>
        <p:spPr>
          <a:xfrm rot="10800000">
            <a:off x="3068280" y="5928840"/>
            <a:ext cx="3102120" cy="142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ttangolo 43"/>
          <p:cNvSpPr/>
          <p:nvPr/>
        </p:nvSpPr>
        <p:spPr>
          <a:xfrm>
            <a:off x="4051800" y="10717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ent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ttangolo 44"/>
          <p:cNvSpPr/>
          <p:nvPr/>
        </p:nvSpPr>
        <p:spPr>
          <a:xfrm>
            <a:off x="4127400" y="27957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ttangolo 45"/>
          <p:cNvSpPr/>
          <p:nvPr/>
        </p:nvSpPr>
        <p:spPr>
          <a:xfrm>
            <a:off x="3925800" y="207180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stione Proces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itolo 1"/>
          <p:cNvSpPr/>
          <p:nvPr/>
        </p:nvSpPr>
        <p:spPr>
          <a:xfrm>
            <a:off x="428760" y="28584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Franklin Gothic Demi"/>
                <a:ea typeface="Arial"/>
              </a:rPr>
              <a:t>TI PS Approccio Commerciale e traiettoria Clo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8"/>
          <p:cNvSpPr/>
          <p:nvPr/>
        </p:nvSpPr>
        <p:spPr>
          <a:xfrm>
            <a:off x="735120" y="2819520"/>
            <a:ext cx="5919840" cy="309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8"/>
          <p:cNvSpPr/>
          <p:nvPr/>
        </p:nvSpPr>
        <p:spPr>
          <a:xfrm>
            <a:off x="7378560" y="5944680"/>
            <a:ext cx="603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43920" bIns="4392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9"/>
          <p:cNvSpPr/>
          <p:nvPr/>
        </p:nvSpPr>
        <p:spPr>
          <a:xfrm>
            <a:off x="725400" y="5927040"/>
            <a:ext cx="12812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43920" bIns="4392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29"/>
          <p:cNvSpPr/>
          <p:nvPr/>
        </p:nvSpPr>
        <p:spPr>
          <a:xfrm flipV="1">
            <a:off x="739800" y="2784240"/>
            <a:ext cx="0" cy="3173400"/>
          </a:xfrm>
          <a:prstGeom prst="line">
            <a:avLst/>
          </a:prstGeom>
          <a:ln w="9360">
            <a:solidFill>
              <a:srgbClr val="7e7e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7" descr="E:\LACIE\HD_ultimo\2010\Comunicazione\Forum PA\Logo postacertificat@ HD\logo Postacertificat@.png"/>
          <p:cNvPicPr/>
          <p:nvPr/>
        </p:nvPicPr>
        <p:blipFill>
          <a:blip r:embed="rId1"/>
          <a:stretch/>
        </p:blipFill>
        <p:spPr>
          <a:xfrm>
            <a:off x="4710240" y="2771640"/>
            <a:ext cx="745920" cy="2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536" name="Rettangolo arrotondato 9"/>
          <p:cNvGrpSpPr/>
          <p:nvPr/>
        </p:nvGrpSpPr>
        <p:grpSpPr>
          <a:xfrm>
            <a:off x="6461280" y="2792520"/>
            <a:ext cx="1963440" cy="463320"/>
            <a:chOff x="6461280" y="2792520"/>
            <a:chExt cx="1963440" cy="463320"/>
          </a:xfrm>
        </p:grpSpPr>
        <p:pic>
          <p:nvPicPr>
            <p:cNvPr id="1537" name="Rettangolo arrotondato 9" descr=""/>
            <p:cNvPicPr/>
            <p:nvPr/>
          </p:nvPicPr>
          <p:blipFill>
            <a:blip r:embed="rId2"/>
            <a:stretch/>
          </p:blipFill>
          <p:spPr>
            <a:xfrm>
              <a:off x="6461280" y="2792520"/>
              <a:ext cx="19634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8" name=""/>
            <p:cNvSpPr/>
            <p:nvPr/>
          </p:nvSpPr>
          <p:spPr>
            <a:xfrm>
              <a:off x="6578640" y="2878200"/>
              <a:ext cx="17366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BUROCRAZIA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Rettangolo arrotondato 6"/>
          <p:cNvGrpSpPr/>
          <p:nvPr/>
        </p:nvGrpSpPr>
        <p:grpSpPr>
          <a:xfrm>
            <a:off x="6456240" y="3529080"/>
            <a:ext cx="1944720" cy="420480"/>
            <a:chOff x="6456240" y="3529080"/>
            <a:chExt cx="1944720" cy="420480"/>
          </a:xfrm>
        </p:grpSpPr>
        <p:pic>
          <p:nvPicPr>
            <p:cNvPr id="1540" name="Rettangolo arrotondato 6" descr=""/>
            <p:cNvPicPr/>
            <p:nvPr/>
          </p:nvPicPr>
          <p:blipFill>
            <a:blip r:embed="rId3"/>
            <a:stretch/>
          </p:blipFill>
          <p:spPr>
            <a:xfrm>
              <a:off x="6456240" y="3529080"/>
              <a:ext cx="1944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"/>
            <p:cNvSpPr/>
            <p:nvPr/>
          </p:nvSpPr>
          <p:spPr>
            <a:xfrm>
              <a:off x="6562800" y="3610080"/>
              <a:ext cx="1738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Franklin Gothic Medium"/>
                  <a:ea typeface="Arial"/>
                </a:rPr>
                <a:t>TERRITORIO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Rettangolo arrotondato 6"/>
          <p:cNvGrpSpPr/>
          <p:nvPr/>
        </p:nvGrpSpPr>
        <p:grpSpPr>
          <a:xfrm>
            <a:off x="6480000" y="3213000"/>
            <a:ext cx="1944720" cy="384120"/>
            <a:chOff x="6480000" y="3213000"/>
            <a:chExt cx="1944720" cy="384120"/>
          </a:xfrm>
        </p:grpSpPr>
        <p:pic>
          <p:nvPicPr>
            <p:cNvPr id="1543" name="Rettangolo arrotondato 6" descr=""/>
            <p:cNvPicPr/>
            <p:nvPr/>
          </p:nvPicPr>
          <p:blipFill>
            <a:blip r:embed="rId4"/>
            <a:stretch/>
          </p:blipFill>
          <p:spPr>
            <a:xfrm>
              <a:off x="6480000" y="3213000"/>
              <a:ext cx="19447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4" name=""/>
            <p:cNvSpPr/>
            <p:nvPr/>
          </p:nvSpPr>
          <p:spPr>
            <a:xfrm>
              <a:off x="6580080" y="3290760"/>
              <a:ext cx="17510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Franklin Gothic Medium"/>
                  <a:ea typeface="Arial"/>
                </a:rPr>
                <a:t>SANITA’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Text Box 24"/>
          <p:cNvSpPr/>
          <p:nvPr/>
        </p:nvSpPr>
        <p:spPr>
          <a:xfrm rot="16200000">
            <a:off x="-524160" y="4263120"/>
            <a:ext cx="23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Arial"/>
                <a:ea typeface="Arial"/>
              </a:rPr>
              <a:t>Cloud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2"/>
          <p:cNvSpPr/>
          <p:nvPr/>
        </p:nvSpPr>
        <p:spPr>
          <a:xfrm>
            <a:off x="3351240" y="5384880"/>
            <a:ext cx="5019480" cy="204840"/>
          </a:xfrm>
          <a:prstGeom prst="rect">
            <a:avLst/>
          </a:prstGeom>
          <a:solidFill>
            <a:srgbClr val="ffffff"/>
          </a:solidFill>
          <a:ln w="3240">
            <a:solidFill>
              <a:srgbClr val="dddddd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AutoShape 81"/>
          <p:cNvSpPr/>
          <p:nvPr/>
        </p:nvSpPr>
        <p:spPr>
          <a:xfrm flipV="1" rot="16200000">
            <a:off x="6844680" y="4834800"/>
            <a:ext cx="2079360" cy="226800"/>
          </a:xfrm>
          <a:prstGeom prst="rightArrow">
            <a:avLst>
              <a:gd name="adj1" fmla="val 27491"/>
              <a:gd name="adj2" fmla="val 183662"/>
            </a:avLst>
          </a:prstGeom>
          <a:gradFill rotWithShape="0">
            <a:gsLst>
              <a:gs pos="0">
                <a:srgbClr val="0070b0">
                  <a:alpha val="0"/>
                </a:srgbClr>
              </a:gs>
              <a:gs pos="100000">
                <a:srgbClr val="0067a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12240" bIns="122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Immagine 18" descr="cloud solo mano.png"/>
          <p:cNvPicPr/>
          <p:nvPr/>
        </p:nvPicPr>
        <p:blipFill>
          <a:blip r:embed="rId5"/>
          <a:stretch/>
        </p:blipFill>
        <p:spPr>
          <a:xfrm>
            <a:off x="7145280" y="4316400"/>
            <a:ext cx="1319400" cy="727200"/>
          </a:xfrm>
          <a:prstGeom prst="rect">
            <a:avLst/>
          </a:prstGeom>
          <a:ln w="0">
            <a:noFill/>
          </a:ln>
        </p:spPr>
      </p:pic>
      <p:cxnSp>
        <p:nvCxnSpPr>
          <p:cNvPr id="1549" name="Connettore 2 16"/>
          <p:cNvCxnSpPr>
            <a:stCxn id="1534" idx="0"/>
          </p:cNvCxnSpPr>
          <p:nvPr/>
        </p:nvCxnSpPr>
        <p:spPr>
          <a:xfrm>
            <a:off x="739440" y="5959440"/>
            <a:ext cx="769068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0" name="CasellaDiTesto 17"/>
          <p:cNvSpPr/>
          <p:nvPr/>
        </p:nvSpPr>
        <p:spPr>
          <a:xfrm>
            <a:off x="7516800" y="4357800"/>
            <a:ext cx="60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Publ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ec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2"/>
          <p:cNvSpPr/>
          <p:nvPr/>
        </p:nvSpPr>
        <p:spPr>
          <a:xfrm>
            <a:off x="6194520" y="5078520"/>
            <a:ext cx="2158920" cy="204840"/>
          </a:xfrm>
          <a:prstGeom prst="rect">
            <a:avLst/>
          </a:prstGeom>
          <a:solidFill>
            <a:srgbClr val="ffffff"/>
          </a:solidFill>
          <a:ln w="3240">
            <a:solidFill>
              <a:srgbClr val="dddddd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ttangolo arrotondato 19"/>
          <p:cNvSpPr/>
          <p:nvPr/>
        </p:nvSpPr>
        <p:spPr>
          <a:xfrm>
            <a:off x="911160" y="4406760"/>
            <a:ext cx="1122480" cy="35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695"/>
              </a:gs>
              <a:gs pos="100000">
                <a:srgbClr val="0075c9"/>
              </a:gs>
            </a:gsLst>
            <a:lin ang="16200000"/>
          </a:gradFill>
          <a:ln w="9360">
            <a:solidFill>
              <a:srgbClr val="006fb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S</a:t>
            </a:r>
            <a:r>
              <a:rPr b="0" lang="it-IT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PC Multi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ttangolo arrotondato 20"/>
          <p:cNvSpPr/>
          <p:nvPr/>
        </p:nvSpPr>
        <p:spPr>
          <a:xfrm>
            <a:off x="2214720" y="3571920"/>
            <a:ext cx="151596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695"/>
              </a:gs>
              <a:gs pos="100000">
                <a:srgbClr val="0075c9"/>
              </a:gs>
            </a:gsLst>
            <a:lin ang="16200000"/>
          </a:gradFill>
          <a:ln w="9360">
            <a:solidFill>
              <a:srgbClr val="006fb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S</a:t>
            </a:r>
            <a:r>
              <a:rPr b="0" lang="en-US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PC Cooperazione  Applic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ttangolo arrotondato 21"/>
          <p:cNvSpPr/>
          <p:nvPr/>
        </p:nvSpPr>
        <p:spPr>
          <a:xfrm>
            <a:off x="3763800" y="4143240"/>
            <a:ext cx="1319400" cy="642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cc4dc"/>
              </a:gs>
              <a:gs pos="100000">
                <a:srgbClr val="edeff6"/>
              </a:gs>
            </a:gsLst>
            <a:lin ang="16200000"/>
          </a:gradFill>
          <a:ln w="9360">
            <a:solidFill>
              <a:srgbClr val="64708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S</a:t>
            </a: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ART 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S</a:t>
            </a: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ART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ttangolo arrotondato 22"/>
          <p:cNvSpPr/>
          <p:nvPr/>
        </p:nvSpPr>
        <p:spPr>
          <a:xfrm>
            <a:off x="4861080" y="3214800"/>
            <a:ext cx="1253880" cy="357120"/>
          </a:xfrm>
          <a:prstGeom prst="roundRect">
            <a:avLst>
              <a:gd name="adj" fmla="val 50000"/>
            </a:avLst>
          </a:prstGeom>
          <a:solidFill>
            <a:srgbClr val="6773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M</a:t>
            </a:r>
            <a:r>
              <a:rPr b="0" lang="it-IT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edical</a:t>
            </a: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 O</a:t>
            </a:r>
            <a:r>
              <a:rPr b="0" lang="it-IT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23"/>
          <p:cNvSpPr/>
          <p:nvPr/>
        </p:nvSpPr>
        <p:spPr>
          <a:xfrm>
            <a:off x="1625760" y="5661000"/>
            <a:ext cx="6738840" cy="184320"/>
          </a:xfrm>
          <a:prstGeom prst="rect">
            <a:avLst/>
          </a:prstGeom>
          <a:solidFill>
            <a:srgbClr val="ffffff"/>
          </a:solidFill>
          <a:ln w="3240">
            <a:solidFill>
              <a:srgbClr val="dddddd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A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ttangolo arrotondato 24"/>
          <p:cNvSpPr/>
          <p:nvPr/>
        </p:nvSpPr>
        <p:spPr>
          <a:xfrm>
            <a:off x="3813120" y="3645000"/>
            <a:ext cx="1254240" cy="357120"/>
          </a:xfrm>
          <a:prstGeom prst="roundRect">
            <a:avLst>
              <a:gd name="adj" fmla="val 50000"/>
            </a:avLst>
          </a:prstGeom>
          <a:solidFill>
            <a:srgbClr val="6773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M</a:t>
            </a:r>
            <a:r>
              <a:rPr b="0" lang="it-IT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yDoctor@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ttangolo arrotondato 25"/>
          <p:cNvSpPr/>
          <p:nvPr/>
        </p:nvSpPr>
        <p:spPr>
          <a:xfrm>
            <a:off x="6446880" y="2773440"/>
            <a:ext cx="1946160" cy="1166760"/>
          </a:xfrm>
          <a:prstGeom prst="roundRect">
            <a:avLst>
              <a:gd name="adj" fmla="val 7407"/>
            </a:avLst>
          </a:prstGeom>
          <a:noFill/>
          <a:ln w="25560">
            <a:solidFill>
              <a:srgbClr val="005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ttangolo arrotondato 26"/>
          <p:cNvSpPr/>
          <p:nvPr/>
        </p:nvSpPr>
        <p:spPr>
          <a:xfrm>
            <a:off x="5168880" y="3797280"/>
            <a:ext cx="1187640" cy="70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cc4dc"/>
              </a:gs>
              <a:gs pos="100000">
                <a:srgbClr val="edeff6"/>
              </a:gs>
            </a:gsLst>
            <a:lin ang="16200000"/>
          </a:gradFill>
          <a:ln w="9360">
            <a:solidFill>
              <a:srgbClr val="64708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S</a:t>
            </a: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ART Pa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Emer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ttangolo arrotondato 27"/>
          <p:cNvSpPr/>
          <p:nvPr/>
        </p:nvSpPr>
        <p:spPr>
          <a:xfrm>
            <a:off x="3197160" y="3184560"/>
            <a:ext cx="151596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695"/>
              </a:gs>
              <a:gs pos="100000">
                <a:srgbClr val="0075c9"/>
              </a:gs>
            </a:gsLst>
            <a:lin ang="16200000"/>
          </a:gradFill>
          <a:ln w="9360">
            <a:solidFill>
              <a:srgbClr val="006fb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C</a:t>
            </a:r>
            <a:r>
              <a:rPr b="0" lang="en-US" sz="1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ontrollo di Gest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130" descr="datacenter_l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20960" y="5145120"/>
            <a:ext cx="1150920" cy="60336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2" descr="http://www.netopia.com/technologies/images/ecommerce_platform.jpg"/>
          <p:cNvPicPr/>
          <p:nvPr/>
        </p:nvPicPr>
        <p:blipFill>
          <a:blip r:embed="rId8"/>
          <a:stretch/>
        </p:blipFill>
        <p:spPr>
          <a:xfrm>
            <a:off x="4705200" y="4565520"/>
            <a:ext cx="1219320" cy="101304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4" descr="http://www.ghacks.net/wp-content/uploads/2008/10/windows_backup_software-500x378.jpg"/>
          <p:cNvPicPr/>
          <p:nvPr/>
        </p:nvPicPr>
        <p:blipFill>
          <a:blip r:embed="rId9"/>
          <a:stretch/>
        </p:blipFill>
        <p:spPr>
          <a:xfrm>
            <a:off x="6351480" y="3889440"/>
            <a:ext cx="555840" cy="865080"/>
          </a:xfrm>
          <a:prstGeom prst="rect">
            <a:avLst/>
          </a:prstGeom>
          <a:ln w="0">
            <a:noFill/>
          </a:ln>
        </p:spPr>
      </p:pic>
      <p:sp>
        <p:nvSpPr>
          <p:cNvPr id="1564" name="AutoShape 9"/>
          <p:cNvSpPr/>
          <p:nvPr/>
        </p:nvSpPr>
        <p:spPr>
          <a:xfrm>
            <a:off x="795240" y="1393920"/>
            <a:ext cx="1863720" cy="647640"/>
          </a:xfrm>
          <a:custGeom>
            <a:avLst/>
            <a:gdLst>
              <a:gd name="textAreaLeft" fmla="*/ 0 w 1863720"/>
              <a:gd name="textAreaRight" fmla="*/ 1864080 w 1863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4" y="0"/>
                </a:lnTo>
                <a:lnTo>
                  <a:pt x="21600" y="10800"/>
                </a:lnTo>
                <a:lnTo>
                  <a:pt x="176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Hosting  e Recovery Industry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13"/>
          <p:cNvSpPr/>
          <p:nvPr/>
        </p:nvSpPr>
        <p:spPr>
          <a:xfrm>
            <a:off x="2519280" y="1397160"/>
            <a:ext cx="2571840" cy="615960"/>
          </a:xfrm>
          <a:custGeom>
            <a:avLst/>
            <a:gdLst>
              <a:gd name="textAreaLeft" fmla="*/ 0 w 2571840"/>
              <a:gd name="textAreaRight" fmla="*/ 2572200 w 257184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5" y="0"/>
                </a:lnTo>
                <a:lnTo>
                  <a:pt x="21600" y="10800"/>
                </a:lnTo>
                <a:lnTo>
                  <a:pt x="18695" y="21600"/>
                </a:lnTo>
                <a:lnTo>
                  <a:pt x="0" y="21600"/>
                </a:lnTo>
                <a:lnTo>
                  <a:pt x="2905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Implementazione di piattaforme per Fornire SLA adegu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8"/>
          <p:cNvSpPr/>
          <p:nvPr/>
        </p:nvSpPr>
        <p:spPr>
          <a:xfrm>
            <a:off x="5389560" y="5911200"/>
            <a:ext cx="603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43920" bIns="4392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13"/>
          <p:cNvSpPr/>
          <p:nvPr/>
        </p:nvSpPr>
        <p:spPr>
          <a:xfrm>
            <a:off x="5056200" y="1380960"/>
            <a:ext cx="2927160" cy="648000"/>
          </a:xfrm>
          <a:custGeom>
            <a:avLst/>
            <a:gdLst>
              <a:gd name="textAreaLeft" fmla="*/ 0 w 2927160"/>
              <a:gd name="textAreaRight" fmla="*/ 2927520 w 29271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4" y="0"/>
                </a:lnTo>
                <a:lnTo>
                  <a:pt x="21600" y="10800"/>
                </a:lnTo>
                <a:lnTo>
                  <a:pt x="18794" y="21600"/>
                </a:lnTo>
                <a:lnTo>
                  <a:pt x="0" y="21600"/>
                </a:lnTo>
                <a:lnTo>
                  <a:pt x="2806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aaS  con sicurezza “embedded” . Modelli per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ttangolo arrotondato 29"/>
          <p:cNvSpPr/>
          <p:nvPr/>
        </p:nvSpPr>
        <p:spPr>
          <a:xfrm>
            <a:off x="539640" y="949320"/>
            <a:ext cx="7890120" cy="1625760"/>
          </a:xfrm>
          <a:prstGeom prst="roundRect">
            <a:avLst>
              <a:gd name="adj" fmla="val 10491"/>
            </a:avLst>
          </a:prstGeom>
          <a:noFill/>
          <a:ln w="25560">
            <a:solidFill>
              <a:srgbClr val="005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53"/>
          <p:cNvSpPr/>
          <p:nvPr/>
        </p:nvSpPr>
        <p:spPr>
          <a:xfrm>
            <a:off x="982800" y="2063880"/>
            <a:ext cx="1031760" cy="380880"/>
          </a:xfrm>
          <a:prstGeom prst="ellipse">
            <a:avLst/>
          </a:prstGeom>
          <a:noFill/>
          <a:ln w="9360">
            <a:solidFill>
              <a:srgbClr val="7e7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56"/>
          <p:cNvSpPr/>
          <p:nvPr/>
        </p:nvSpPr>
        <p:spPr>
          <a:xfrm>
            <a:off x="3789360" y="2063880"/>
            <a:ext cx="1031760" cy="380880"/>
          </a:xfrm>
          <a:prstGeom prst="ellipse">
            <a:avLst/>
          </a:prstGeom>
          <a:noFill/>
          <a:ln w="9360">
            <a:solidFill>
              <a:srgbClr val="7e7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57"/>
          <p:cNvSpPr/>
          <p:nvPr/>
        </p:nvSpPr>
        <p:spPr>
          <a:xfrm>
            <a:off x="6280200" y="2050920"/>
            <a:ext cx="1747800" cy="381240"/>
          </a:xfrm>
          <a:prstGeom prst="ellipse">
            <a:avLst/>
          </a:prstGeom>
          <a:noFill/>
          <a:ln w="9360">
            <a:solidFill>
              <a:srgbClr val="7e7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ervice plat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Arial"/>
                <a:ea typeface="Arial"/>
              </a:rPr>
              <a:t>INTEROPER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2" name="AutoShape 58"/>
          <p:cNvCxnSpPr>
            <a:stCxn id="1569" idx="6"/>
            <a:endCxn id="1570" idx="2"/>
          </p:cNvCxnSpPr>
          <p:nvPr/>
        </p:nvCxnSpPr>
        <p:spPr>
          <a:xfrm>
            <a:off x="2014560" y="2253960"/>
            <a:ext cx="1775520" cy="1080"/>
          </a:xfrm>
          <a:prstGeom prst="straightConnector1">
            <a:avLst/>
          </a:prstGeom>
          <a:ln w="9360">
            <a:solidFill>
              <a:srgbClr val="7e7e7e"/>
            </a:solidFill>
            <a:miter/>
            <a:tailEnd len="med" type="triangle" w="med"/>
          </a:ln>
        </p:spPr>
      </p:cxnSp>
      <p:cxnSp>
        <p:nvCxnSpPr>
          <p:cNvPr id="1573" name="AutoShape 59"/>
          <p:cNvCxnSpPr>
            <a:stCxn id="1570" idx="6"/>
            <a:endCxn id="1571" idx="2"/>
          </p:cNvCxnSpPr>
          <p:nvPr/>
        </p:nvCxnSpPr>
        <p:spPr>
          <a:xfrm flipV="1">
            <a:off x="4820760" y="2241000"/>
            <a:ext cx="1459800" cy="13320"/>
          </a:xfrm>
          <a:prstGeom prst="straightConnector1">
            <a:avLst/>
          </a:prstGeom>
          <a:ln w="9360">
            <a:solidFill>
              <a:srgbClr val="7e7e7e"/>
            </a:solidFill>
            <a:miter/>
            <a:tailEnd len="med" type="triangle" w="med"/>
          </a:ln>
        </p:spPr>
      </p:cxnSp>
      <p:sp>
        <p:nvSpPr>
          <p:cNvPr id="1574" name="Text Box 61"/>
          <p:cNvSpPr/>
          <p:nvPr/>
        </p:nvSpPr>
        <p:spPr>
          <a:xfrm>
            <a:off x="703440" y="1003320"/>
            <a:ext cx="1863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anklin Gothic Demi"/>
                <a:ea typeface="Arial"/>
              </a:rPr>
              <a:t>APPROC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ttangolo arrotondato 29"/>
          <p:cNvSpPr/>
          <p:nvPr/>
        </p:nvSpPr>
        <p:spPr>
          <a:xfrm>
            <a:off x="544680" y="2693880"/>
            <a:ext cx="7920000" cy="3440160"/>
          </a:xfrm>
          <a:prstGeom prst="roundRect">
            <a:avLst>
              <a:gd name="adj" fmla="val 3829"/>
            </a:avLst>
          </a:prstGeom>
          <a:noFill/>
          <a:ln w="25560">
            <a:solidFill>
              <a:srgbClr val="005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66"/>
          <p:cNvSpPr/>
          <p:nvPr/>
        </p:nvSpPr>
        <p:spPr>
          <a:xfrm>
            <a:off x="6167520" y="4343400"/>
            <a:ext cx="10778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3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Demi"/>
                <a:ea typeface="Arial"/>
              </a:rPr>
              <a:t>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Demi"/>
                <a:ea typeface="Arial"/>
              </a:rPr>
              <a:t>Manag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Demi"/>
                <a:ea typeface="Arial"/>
              </a:rPr>
              <a:t>Cons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ttangolo 21"/>
          <p:cNvSpPr/>
          <p:nvPr/>
        </p:nvSpPr>
        <p:spPr>
          <a:xfrm>
            <a:off x="285840" y="71280"/>
            <a:ext cx="2643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ttangolo 22"/>
          <p:cNvSpPr/>
          <p:nvPr/>
        </p:nvSpPr>
        <p:spPr>
          <a:xfrm>
            <a:off x="1960560" y="6318360"/>
            <a:ext cx="17542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itolo 1"/>
          <p:cNvSpPr/>
          <p:nvPr/>
        </p:nvSpPr>
        <p:spPr>
          <a:xfrm>
            <a:off x="214200" y="50004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Demi"/>
                <a:ea typeface="Arial"/>
              </a:rPr>
              <a:t>Dalle Convenzioni e progetti alle famiglie di offert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3092400" y="4040280"/>
            <a:ext cx="4392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5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5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16"/>
          <p:cNvSpPr/>
          <p:nvPr/>
        </p:nvSpPr>
        <p:spPr>
          <a:xfrm>
            <a:off x="285840" y="1428840"/>
            <a:ext cx="2892240" cy="580680"/>
          </a:xfrm>
          <a:prstGeom prst="rect">
            <a:avLst/>
          </a:prstGeom>
          <a:solidFill>
            <a:srgbClr val="f2f2f2"/>
          </a:solidFill>
          <a:ln w="9360">
            <a:solidFill>
              <a:srgbClr val="7e7e7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GITALIZZAZIONE DEL TERR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4214880" y="5286240"/>
            <a:ext cx="1950840" cy="580680"/>
          </a:xfrm>
          <a:prstGeom prst="rect">
            <a:avLst/>
          </a:prstGeom>
          <a:solidFill>
            <a:srgbClr val="f2f2f2"/>
          </a:solidFill>
          <a:ln w="9360">
            <a:solidFill>
              <a:srgbClr val="7e7e7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BUROCRAZIA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Immagine 16" descr="Pagina 4 di 4.jpg"/>
          <p:cNvPicPr/>
          <p:nvPr/>
        </p:nvPicPr>
        <p:blipFill>
          <a:blip r:embed="rId1"/>
          <a:stretch/>
        </p:blipFill>
        <p:spPr>
          <a:xfrm rot="935400">
            <a:off x="5632560" y="1258560"/>
            <a:ext cx="3016080" cy="4095720"/>
          </a:xfrm>
          <a:prstGeom prst="rect">
            <a:avLst/>
          </a:prstGeom>
          <a:ln w="0">
            <a:noFill/>
          </a:ln>
        </p:spPr>
      </p:pic>
      <p:pic>
        <p:nvPicPr>
          <p:cNvPr id="1584" name="Immagine 17" descr="Pagina 3 di 4.jpg"/>
          <p:cNvPicPr/>
          <p:nvPr/>
        </p:nvPicPr>
        <p:blipFill>
          <a:blip r:embed="rId2"/>
          <a:stretch/>
        </p:blipFill>
        <p:spPr>
          <a:xfrm rot="19475400">
            <a:off x="1468080" y="2889000"/>
            <a:ext cx="2265480" cy="307656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6"/>
          <p:cNvSpPr/>
          <p:nvPr/>
        </p:nvSpPr>
        <p:spPr>
          <a:xfrm>
            <a:off x="2000160" y="3143160"/>
            <a:ext cx="1951200" cy="580680"/>
          </a:xfrm>
          <a:prstGeom prst="rect">
            <a:avLst/>
          </a:prstGeom>
          <a:solidFill>
            <a:srgbClr val="f2f2f2"/>
          </a:solidFill>
          <a:ln w="9360">
            <a:solidFill>
              <a:srgbClr val="7e7e7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Webdings" charset="2"/>
              <a:buChar char="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ANITA’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Picture 27" descr="https://collaboration.griffon.local/sites/SmartServices/FormServerTemplates/Smart_town_rgb_pos.jpg"/>
          <p:cNvPicPr/>
          <p:nvPr/>
        </p:nvPicPr>
        <p:blipFill>
          <a:blip r:embed="rId3"/>
          <a:stretch/>
        </p:blipFill>
        <p:spPr>
          <a:xfrm>
            <a:off x="3357720" y="1571760"/>
            <a:ext cx="1357200" cy="66348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27" descr="https://collaboration.griffon.local/sites/SmartServices/FormServerTemplates/Smart_building_rgb_pos.jpg"/>
          <p:cNvPicPr/>
          <p:nvPr/>
        </p:nvPicPr>
        <p:blipFill>
          <a:blip r:embed="rId4"/>
          <a:stretch/>
        </p:blipFill>
        <p:spPr>
          <a:xfrm>
            <a:off x="2000160" y="2143080"/>
            <a:ext cx="1047960" cy="4478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4" descr=""/>
          <p:cNvPicPr/>
          <p:nvPr/>
        </p:nvPicPr>
        <p:blipFill>
          <a:blip r:embed="rId5"/>
          <a:stretch/>
        </p:blipFill>
        <p:spPr>
          <a:xfrm>
            <a:off x="6286680" y="5572080"/>
            <a:ext cx="2139840" cy="61128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2" descr="image001"/>
          <p:cNvPicPr/>
          <p:nvPr/>
        </p:nvPicPr>
        <p:blipFill>
          <a:blip r:embed="rId6"/>
          <a:stretch/>
        </p:blipFill>
        <p:spPr>
          <a:xfrm>
            <a:off x="3500280" y="3786120"/>
            <a:ext cx="1785960" cy="2844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10" descr=""/>
          <p:cNvPicPr/>
          <p:nvPr/>
        </p:nvPicPr>
        <p:blipFill>
          <a:blip r:embed="rId7"/>
          <a:stretch/>
        </p:blipFill>
        <p:spPr>
          <a:xfrm>
            <a:off x="3643200" y="5929200"/>
            <a:ext cx="2303640" cy="71460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grpSp>
        <p:nvGrpSpPr>
          <p:cNvPr id="1591" name="Rettangolo arrotondato 15"/>
          <p:cNvGrpSpPr/>
          <p:nvPr/>
        </p:nvGrpSpPr>
        <p:grpSpPr>
          <a:xfrm>
            <a:off x="6950160" y="103320"/>
            <a:ext cx="1962000" cy="469800"/>
            <a:chOff x="6950160" y="103320"/>
            <a:chExt cx="1962000" cy="469800"/>
          </a:xfrm>
        </p:grpSpPr>
        <p:pic>
          <p:nvPicPr>
            <p:cNvPr id="1592" name="Rettangolo arrotondato 15" descr=""/>
            <p:cNvPicPr/>
            <p:nvPr/>
          </p:nvPicPr>
          <p:blipFill>
            <a:blip r:embed="rId8"/>
            <a:stretch/>
          </p:blipFill>
          <p:spPr>
            <a:xfrm>
              <a:off x="6950160" y="103320"/>
              <a:ext cx="19620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3" name=""/>
            <p:cNvSpPr/>
            <p:nvPr/>
          </p:nvSpPr>
          <p:spPr>
            <a:xfrm>
              <a:off x="7066080" y="195120"/>
              <a:ext cx="17366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BUROCRAZIA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Rettangolo arrotondato 6"/>
          <p:cNvGrpSpPr/>
          <p:nvPr/>
        </p:nvGrpSpPr>
        <p:grpSpPr>
          <a:xfrm>
            <a:off x="6943680" y="847800"/>
            <a:ext cx="1944720" cy="420480"/>
            <a:chOff x="6943680" y="847800"/>
            <a:chExt cx="1944720" cy="420480"/>
          </a:xfrm>
        </p:grpSpPr>
        <p:pic>
          <p:nvPicPr>
            <p:cNvPr id="1595" name="Rettangolo arrotondato 6" descr=""/>
            <p:cNvPicPr/>
            <p:nvPr/>
          </p:nvPicPr>
          <p:blipFill>
            <a:blip r:embed="rId9"/>
            <a:stretch/>
          </p:blipFill>
          <p:spPr>
            <a:xfrm>
              <a:off x="6943680" y="847800"/>
              <a:ext cx="1944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7050240" y="927000"/>
              <a:ext cx="17366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Franklin Gothic Medium"/>
                  <a:ea typeface="Arial"/>
                </a:rPr>
                <a:t>TERRITORIO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Rettangolo arrotondato 6"/>
          <p:cNvGrpSpPr/>
          <p:nvPr/>
        </p:nvGrpSpPr>
        <p:grpSpPr>
          <a:xfrm>
            <a:off x="6967440" y="530280"/>
            <a:ext cx="1944720" cy="377640"/>
            <a:chOff x="6967440" y="530280"/>
            <a:chExt cx="1944720" cy="377640"/>
          </a:xfrm>
        </p:grpSpPr>
        <p:pic>
          <p:nvPicPr>
            <p:cNvPr id="1598" name="Rettangolo arrotondato 6" descr=""/>
            <p:cNvPicPr/>
            <p:nvPr/>
          </p:nvPicPr>
          <p:blipFill>
            <a:blip r:embed="rId10"/>
            <a:stretch/>
          </p:blipFill>
          <p:spPr>
            <a:xfrm>
              <a:off x="6967440" y="530280"/>
              <a:ext cx="19447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7066080" y="608040"/>
              <a:ext cx="17524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Franklin Gothic Medium"/>
                  <a:ea typeface="Arial"/>
                </a:rPr>
                <a:t>SANITA’ 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7:08:21Z</dcterms:created>
  <dc:creator>DLVBBDO</dc:creator>
  <dc:description/>
  <dc:language>en-US</dc:language>
  <cp:lastModifiedBy>19103988</cp:lastModifiedBy>
  <dcterms:modified xsi:type="dcterms:W3CDTF">2011-04-09T10:26:35Z</dcterms:modified>
  <cp:revision>178</cp:revision>
  <dc:subject/>
  <dc:title>Diapositiva 1</dc:title>
</cp:coreProperties>
</file>