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773FE-4660-4106-9C94-14247BDA6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A3E61-A5C9-4F05-B916-E88C88233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71CF6-9C27-4625-9DB7-931C8BFAE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3F273-096F-427B-8767-47F2E5DAC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3B973-0134-4A11-9100-D12785B24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CB281-34BE-4200-81E8-3214DA94C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024BC-D039-4CD3-8770-E17217C25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51958-BE0A-476C-A1B8-6ABF90309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3129F-B19C-4F1D-AF0C-E4D298F0A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BCC21-1BE7-4AC2-95CE-16F358449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9C56C-AFFE-449E-BE01-E3045A1A3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95CD9-A7B5-455A-94DB-C0C1602EB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1F26C-8E64-4388-A483-29362E332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8C4EA-EEDE-4F1E-8A4B-6A31F857A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687B0-2851-40F1-B679-54349CECB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018DA-6824-491D-9654-C3E506861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7AF54-0343-4C3D-B58A-52C4E5394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D7F288-728B-4925-A131-B5F08F8710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A9728A-DB77-45BF-9DAF-F33E2288E3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63DEEE-75D7-4462-8154-3243DBE5B2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E479D5-4443-458A-97B0-717F723B58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0F7E90-65D1-40DF-8E98-1DA96EF7B5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D9CD3-EF21-49D6-B320-AD962AD98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EAF668-A6D4-4065-98C2-C63C2CAB31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AA48A2-132F-452C-BF15-DB2517957B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26CC3A-1EB8-4B36-BFCD-42F8F9E8F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B03B57-8996-4BE6-A04A-59D2FEC0D8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9733BC-5E7A-45C7-B904-1FDE868B23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CE2B11-35EB-42F9-8FBA-BE1ED83FC7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8FF138-2EF7-4BD4-AA95-3860891C26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0C982E-49AD-4690-AFAC-3330DB568C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349C7E-929A-4CB9-B50F-0850B7F1C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7F0306-9934-4602-B256-FF0335F80A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A6C01-587C-4598-A607-B374A60C9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FB78FA-1727-489E-A3AF-74917B3C67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7E7C9B-D37E-4168-83CD-1D7D373664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596990-8171-4E28-985F-7409A6F55B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90B26B-24F7-479E-88BD-7905C1CF6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6231FD-0CD6-4F40-8D05-D030DB78C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6F5ADD-FC57-4604-A960-925C52015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5D12E4-EFB6-4CA6-B697-81D35177D5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4FFB80-61C1-4F56-B7A0-D04ADE72B3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8033A7-A127-4DF4-8B63-A5AEF16F38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B7FB4-7ECD-41BA-97C3-69E1066E6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D7DC9-E40F-40F0-8718-8D3BA3070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6319B-C088-47D7-9BEC-A0178365A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BB2E4-F23B-4091-A2E9-31B89EA12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DBAC3-B781-44B6-AC9E-B5C3D85F3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rvfile01\progetti\RER\sitoParER\Convegno ParER\Grafica\Immagine\Sfondo-per-ppt.jpg"/>
          <p:cNvPicPr/>
          <p:nvPr/>
        </p:nvPicPr>
        <p:blipFill>
          <a:blip r:embed="rId2"/>
          <a:stretch/>
        </p:blipFill>
        <p:spPr>
          <a:xfrm>
            <a:off x="0" y="-9360"/>
            <a:ext cx="9153360" cy="6867360"/>
          </a:xfrm>
          <a:prstGeom prst="rect">
            <a:avLst/>
          </a:prstGeom>
          <a:ln w="0">
            <a:noFill/>
          </a:ln>
        </p:spPr>
      </p:pic>
      <p:sp>
        <p:nvSpPr>
          <p:cNvPr id="1" name="Rettangolo 10"/>
          <p:cNvSpPr/>
          <p:nvPr/>
        </p:nvSpPr>
        <p:spPr>
          <a:xfrm>
            <a:off x="-3240" y="3500280"/>
            <a:ext cx="9217080" cy="3411720"/>
          </a:xfrm>
          <a:prstGeom prst="rect">
            <a:avLst/>
          </a:prstGeom>
          <a:solidFill>
            <a:srgbClr val="26326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ttangolo 6"/>
          <p:cNvSpPr/>
          <p:nvPr/>
        </p:nvSpPr>
        <p:spPr>
          <a:xfrm>
            <a:off x="0" y="-27000"/>
            <a:ext cx="9194760" cy="1295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53964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78DC-31DF-49EE-87F7-0640FF4BE24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srvfile01\progetti\RER\sitoParER\Convegno ParER\Grafica\Immagine\Sfondo-per-ppt.jpg"/>
          <p:cNvPicPr/>
          <p:nvPr/>
        </p:nvPicPr>
        <p:blipFill>
          <a:blip r:embed="rId2"/>
          <a:stretch/>
        </p:blipFill>
        <p:spPr>
          <a:xfrm>
            <a:off x="0" y="-9360"/>
            <a:ext cx="9153360" cy="6867360"/>
          </a:xfrm>
          <a:prstGeom prst="rect">
            <a:avLst/>
          </a:prstGeom>
          <a:ln w="0">
            <a:noFill/>
          </a:ln>
        </p:spPr>
      </p:pic>
      <p:sp>
        <p:nvSpPr>
          <p:cNvPr id="45" name="Rettangolo 6"/>
          <p:cNvSpPr/>
          <p:nvPr/>
        </p:nvSpPr>
        <p:spPr>
          <a:xfrm>
            <a:off x="468360" y="1241280"/>
            <a:ext cx="8712000" cy="561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ttangolo 8"/>
          <p:cNvSpPr/>
          <p:nvPr/>
        </p:nvSpPr>
        <p:spPr>
          <a:xfrm>
            <a:off x="0" y="-17640"/>
            <a:ext cx="9194760" cy="12956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66EA-780C-4C6C-BD4B-D2BFE019783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 descr="\\srvfile01\progetti\RER\sitoParER\Convegno ParER\Grafica\Immagine\Sfondo-per-ppt.jpg"/>
          <p:cNvPicPr/>
          <p:nvPr/>
        </p:nvPicPr>
        <p:blipFill>
          <a:blip r:embed="rId2"/>
          <a:stretch/>
        </p:blipFill>
        <p:spPr>
          <a:xfrm>
            <a:off x="0" y="-9360"/>
            <a:ext cx="9153360" cy="6867360"/>
          </a:xfrm>
          <a:prstGeom prst="rect">
            <a:avLst/>
          </a:prstGeom>
          <a:ln w="0">
            <a:noFill/>
          </a:ln>
        </p:spPr>
      </p:pic>
      <p:sp>
        <p:nvSpPr>
          <p:cNvPr id="89" name="Rettangolo 6"/>
          <p:cNvSpPr/>
          <p:nvPr/>
        </p:nvSpPr>
        <p:spPr>
          <a:xfrm>
            <a:off x="0" y="1484280"/>
            <a:ext cx="9180360" cy="4753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ttangolo 7"/>
          <p:cNvSpPr/>
          <p:nvPr/>
        </p:nvSpPr>
        <p:spPr>
          <a:xfrm>
            <a:off x="-36360" y="-27000"/>
            <a:ext cx="9216720" cy="1511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7F13-8A3C-402B-8E06-DD8C5A52B466}"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srvfile01\progetti\RER\sitoParER\Convegno ParER\Grafica\Immagine\Sfondo-per-ppt.jpg"/>
          <p:cNvPicPr/>
          <p:nvPr/>
        </p:nvPicPr>
        <p:blipFill>
          <a:blip r:embed="rId2"/>
          <a:stretch/>
        </p:blipFill>
        <p:spPr>
          <a:xfrm>
            <a:off x="0" y="-9360"/>
            <a:ext cx="9153360" cy="6867360"/>
          </a:xfrm>
          <a:prstGeom prst="rect">
            <a:avLst/>
          </a:prstGeom>
          <a:ln w="0">
            <a:noFill/>
          </a:ln>
        </p:spPr>
      </p:pic>
      <p:sp>
        <p:nvSpPr>
          <p:cNvPr id="133" name="Rettangolo 6"/>
          <p:cNvSpPr/>
          <p:nvPr/>
        </p:nvSpPr>
        <p:spPr>
          <a:xfrm>
            <a:off x="0" y="-27000"/>
            <a:ext cx="7093080" cy="626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ttangolo 7"/>
          <p:cNvSpPr/>
          <p:nvPr/>
        </p:nvSpPr>
        <p:spPr>
          <a:xfrm>
            <a:off x="6516720" y="-27000"/>
            <a:ext cx="2663640" cy="626436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0180-C4AC-4FCC-8224-FFB678D44E7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23640" y="3357360"/>
            <a:ext cx="8351640" cy="136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ffffff"/>
                </a:solidFill>
                <a:latin typeface="Calibri"/>
              </a:rPr>
              <a:t>Il Gruppo di lavoro Archivi delle Regioni si interroga: dematerializzazione e responsabilità, riflessioni sulla figura del responsabile della conservazione</a:t>
            </a:r>
            <a:endParaRPr b="0" lang="en-US" sz="2800" spc="-1" strike="noStrike">
              <a:solidFill>
                <a:srgbClr val="000000"/>
              </a:solidFill>
              <a:latin typeface="Calibri"/>
            </a:endParaRPr>
          </a:p>
        </p:txBody>
      </p:sp>
      <p:sp>
        <p:nvSpPr>
          <p:cNvPr id="177" name="PlaceHolder 2"/>
          <p:cNvSpPr>
            <a:spLocks noGrp="1"/>
          </p:cNvSpPr>
          <p:nvPr>
            <p:ph type="subTitle"/>
          </p:nvPr>
        </p:nvSpPr>
        <p:spPr>
          <a:xfrm>
            <a:off x="468000" y="5157360"/>
            <a:ext cx="8250120" cy="36036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lisabetta Scarpa</a:t>
            </a:r>
            <a:endParaRPr b="0" lang="en-US" sz="20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Regione del Veneto</a:t>
            </a:r>
            <a:endParaRPr b="0" lang="en-US" sz="1600" spc="-1" strike="noStrike">
              <a:solidFill>
                <a:srgbClr val="000000"/>
              </a:solidFill>
              <a:latin typeface="Calibri"/>
            </a:endParaRPr>
          </a:p>
        </p:txBody>
      </p:sp>
      <p:sp>
        <p:nvSpPr>
          <p:cNvPr id="178" name="Sottotitolo 4"/>
          <p:cNvSpPr/>
          <p:nvPr/>
        </p:nvSpPr>
        <p:spPr>
          <a:xfrm>
            <a:off x="468360" y="6093000"/>
            <a:ext cx="41749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ologna 11-12 aprile 2011</a:t>
            </a:r>
            <a:endParaRPr b="0" lang="en-US" sz="1800" spc="-1" strike="noStrike">
              <a:solidFill>
                <a:srgbClr val="000000"/>
              </a:solidFill>
              <a:latin typeface="Arial"/>
            </a:endParaRPr>
          </a:p>
        </p:txBody>
      </p:sp>
      <p:sp>
        <p:nvSpPr>
          <p:cNvPr id="179" name="Titolo 1"/>
          <p:cNvSpPr/>
          <p:nvPr/>
        </p:nvSpPr>
        <p:spPr>
          <a:xfrm>
            <a:off x="358920" y="0"/>
            <a:ext cx="8785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UN FUTURO PER IL PRESENTE</a:t>
            </a:r>
            <a:br>
              <a:rPr sz="3600"/>
            </a:br>
            <a:r>
              <a:rPr b="1" lang="en-US" sz="2000" spc="-1" strike="noStrike">
                <a:solidFill>
                  <a:srgbClr val="ffffff"/>
                </a:solidFill>
                <a:latin typeface="Calibri"/>
              </a:rPr>
              <a:t>POLITICHE STRATEGIE E STRUMENTI DELLA CONSERVAZIONE DIGIT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360"/>
            <a:ext cx="822960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HI CONSERVA? </a:t>
            </a:r>
            <a:br>
              <a:rPr sz="2800"/>
            </a:br>
            <a:r>
              <a:rPr b="1" lang="en-US" sz="2800" spc="-1" strike="noStrike">
                <a:solidFill>
                  <a:srgbClr val="ffffff"/>
                </a:solidFill>
                <a:latin typeface="Calibri"/>
              </a:rPr>
              <a:t>Funzioni ed attività della gestione documentale</a:t>
            </a:r>
            <a:endParaRPr b="0" lang="en-US" sz="2800" spc="-1" strike="noStrike">
              <a:solidFill>
                <a:srgbClr val="000000"/>
              </a:solidFill>
              <a:latin typeface="Calibri"/>
            </a:endParaRPr>
          </a:p>
        </p:txBody>
      </p:sp>
      <p:sp>
        <p:nvSpPr>
          <p:cNvPr id="198" name=""/>
          <p:cNvSpPr txBox="1"/>
          <p:nvPr/>
        </p:nvSpPr>
        <p:spPr>
          <a:xfrm>
            <a:off x="826560" y="1484280"/>
            <a:ext cx="7859880" cy="464184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GESTIONE ARCHIVIO DI DEPOSITO</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ENSIMENTO</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VERSAMENTO, SCARTO,</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NTERVENTI DI DEPOLVERATURA SANIFICAZIONE RESTAURO</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GESTIONE DELL’ARCHIVIO STORICO</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RIORDINO</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NVENTARIAZIONE E DESCRIZIONE ARCHIVISTICA</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EDISPOSIZIONE STRUMENTI DI RICERCA</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GETTI DI DIGITALIZZAZIONE</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TTIVITA’ EDITORIALE</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CONSULTAZIONE E ASSISTENZA ALLA RICERCA NEGLI ARCHIVI</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SSISTENZA ALLA RICERCA INTERNA E AMMINISTRATIVA PER UTENTI ESTERNI</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SSISTENZA ALLA RICERCA STORICO-SCIENTIFICA</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GESTIONE SALA DI STUDI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360"/>
            <a:ext cx="822960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HI CONSERVA? </a:t>
            </a:r>
            <a:br>
              <a:rPr sz="2800"/>
            </a:br>
            <a:r>
              <a:rPr b="1" lang="en-US" sz="2800" spc="-1" strike="noStrike">
                <a:solidFill>
                  <a:srgbClr val="ffffff"/>
                </a:solidFill>
                <a:latin typeface="Calibri"/>
              </a:rPr>
              <a:t>Funzioni ed attività della gestione documentale</a:t>
            </a:r>
            <a:endParaRPr b="0" lang="en-US" sz="2800" spc="-1" strike="noStrike">
              <a:solidFill>
                <a:srgbClr val="000000"/>
              </a:solidFill>
              <a:latin typeface="Calibri"/>
            </a:endParaRPr>
          </a:p>
        </p:txBody>
      </p:sp>
      <p:sp>
        <p:nvSpPr>
          <p:cNvPr id="200" name=""/>
          <p:cNvSpPr txBox="1"/>
          <p:nvPr/>
        </p:nvSpPr>
        <p:spPr>
          <a:xfrm>
            <a:off x="826560" y="1484280"/>
            <a:ext cx="7859880" cy="464184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ACQUISIZIONE E TRASFERIMENTI DI ARCHIVI</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ESSIONE CUSTODIA DONAZIONE</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ORGANIZZAZIONE E GESTIONE DEI DEPOSITI D’ARCHIVIO</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GESTIONE DEI SERVIZI ARCHIVISTICI IN OUTSOURCING</a:t>
            </a:r>
            <a:endParaRPr b="0" lang="en-US" sz="2000" spc="-1" strike="noStrike">
              <a:solidFill>
                <a:srgbClr val="000000"/>
              </a:solidFill>
              <a:latin typeface="Calibri"/>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GESTIONE PROCEDURE CONCORSUALI DI APPALTO</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IREZIONE DEI LAVORI</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OLLAUDI</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ATTIVITA’ FORMATIVA</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NALISI DEI FABBISOGNI FORMATIVI</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NDIVIDUAZIONE DEI PERCORSI FORMATIVI</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OCENZA</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STUDIO RICERCA VALORIZZAZIONE</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360"/>
            <a:ext cx="822960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HI CONSERVA? </a:t>
            </a:r>
            <a:br>
              <a:rPr sz="2800"/>
            </a:br>
            <a:r>
              <a:rPr b="1" lang="en-US" sz="2800" spc="-1" strike="noStrike">
                <a:solidFill>
                  <a:srgbClr val="ffffff"/>
                </a:solidFill>
                <a:latin typeface="Calibri"/>
              </a:rPr>
              <a:t>è possibile una nuova definizione ….?</a:t>
            </a:r>
            <a:endParaRPr b="0" lang="en-US" sz="2800" spc="-1" strike="noStrike">
              <a:solidFill>
                <a:srgbClr val="000000"/>
              </a:solidFill>
              <a:latin typeface="Calibri"/>
            </a:endParaRPr>
          </a:p>
        </p:txBody>
      </p:sp>
      <p:sp>
        <p:nvSpPr>
          <p:cNvPr id="202" name=""/>
          <p:cNvSpPr txBox="1"/>
          <p:nvPr/>
        </p:nvSpPr>
        <p:spPr>
          <a:xfrm>
            <a:off x="826560" y="1484280"/>
            <a:ext cx="7859880" cy="46418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RESPONSABILE DELLA GESTIONE DOCUMENTALE E DELLA CONSERVAZIONE DEGLI ARCHIVI</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 </a:t>
            </a:r>
            <a:r>
              <a:rPr b="1" i="1" lang="it-IT" sz="1600" spc="-1" strike="noStrike">
                <a:solidFill>
                  <a:srgbClr val="000000"/>
                </a:solidFill>
                <a:latin typeface="Calibri"/>
              </a:rPr>
              <a:t>progettazione, presidio, coordinamento del sistema  dei flussi documentali;</a:t>
            </a:r>
            <a:endParaRPr b="0" lang="en-US" sz="16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 </a:t>
            </a:r>
            <a:r>
              <a:rPr b="1" i="1" lang="it-IT" sz="1600" spc="-1" strike="noStrike">
                <a:solidFill>
                  <a:srgbClr val="000000"/>
                </a:solidFill>
                <a:latin typeface="Calibri"/>
              </a:rPr>
              <a:t>attribuzioni previste dal DPR 445/2000 e dal DPCM 31/10/2000 per il responsabile del servizio per la gestione del protocollo informatico, flussi documentali e archivi;</a:t>
            </a:r>
            <a:endParaRPr b="0" lang="en-US" sz="16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 </a:t>
            </a:r>
            <a:r>
              <a:rPr b="1" i="1" lang="it-IT" sz="1600" spc="-1" strike="noStrike">
                <a:solidFill>
                  <a:srgbClr val="000000"/>
                </a:solidFill>
                <a:latin typeface="Calibri"/>
              </a:rPr>
              <a:t>attribuzioni previste dalla Delibera CNIPA 11/2004 per il responsabile della conservazione;</a:t>
            </a:r>
            <a:endParaRPr b="0" lang="en-US" sz="16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presidio e gestione degli archivi di deposito e storico (D.Lgs 42/2004), coordinato con il sistema di conservazione;</a:t>
            </a:r>
            <a:endParaRPr b="0" lang="en-US" sz="16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 </a:t>
            </a:r>
            <a:r>
              <a:rPr b="1" i="1" lang="it-IT" sz="1600" spc="-1" strike="noStrike">
                <a:solidFill>
                  <a:srgbClr val="000000"/>
                </a:solidFill>
                <a:latin typeface="Calibri"/>
              </a:rPr>
              <a:t>valorizzazione del patrimonio archivistico dell’ente (D.Lgs 42/2004);</a:t>
            </a:r>
            <a:endParaRPr b="0" lang="en-US" sz="1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26560" y="1484280"/>
            <a:ext cx="7859880" cy="4641840"/>
          </a:xfrm>
          <a:prstGeom prst="rect">
            <a:avLst/>
          </a:prstGeom>
          <a:noFill/>
          <a:ln w="0">
            <a:noFill/>
          </a:ln>
        </p:spPr>
        <p:txBody>
          <a:bodyPr anchor="t">
            <a:normAutofit/>
          </a:bodyPr>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Creazione di una struttura multidisciplinare</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D. lgs. 30 dicembre 2010 n. 235 Modifiche ed integrazioni al decreto legislativo 7 marzo 2005, n. 82, recante Codice dell’amministrazione digitale </a:t>
            </a:r>
            <a:endParaRPr b="0" lang="en-US" sz="18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art. 44.</a:t>
            </a:r>
            <a:r>
              <a:rPr b="0" lang="it-IT" sz="1400" spc="-1" strike="noStrike">
                <a:solidFill>
                  <a:srgbClr val="000000"/>
                </a:solidFill>
                <a:latin typeface="Calibri"/>
              </a:rPr>
              <a:t> </a:t>
            </a:r>
            <a:r>
              <a:rPr b="0" i="1" lang="it-IT" sz="1400" spc="-1" strike="noStrike">
                <a:solidFill>
                  <a:srgbClr val="000000"/>
                </a:solidFill>
                <a:latin typeface="Calibri"/>
              </a:rPr>
              <a:t>Requisiti per la conservazione dei documenti informatici.</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1-</a:t>
            </a:r>
            <a:r>
              <a:rPr b="0" i="1" lang="it-IT" sz="1400" spc="-1" strike="noStrike">
                <a:solidFill>
                  <a:srgbClr val="000000"/>
                </a:solidFill>
                <a:latin typeface="Calibri"/>
              </a:rPr>
              <a:t>bis</a:t>
            </a:r>
            <a:r>
              <a:rPr b="0" lang="it-IT" sz="1400" spc="-1" strike="noStrike">
                <a:solidFill>
                  <a:srgbClr val="000000"/>
                </a:solidFill>
                <a:latin typeface="Calibri"/>
              </a:rPr>
              <a:t>. Il sistema di conservazione dei documenti informatici è gestito da un responsabile che opera d'intesa con il responsabile del trattamento dei dati personali di cui all'articolo 29 del decreto legislativo 30 giugno 2003, n. 196 e, ove previsto, con il responsabile del servizio per la tenuta del protocollo informatico, della gestione dei flussi documentali e degli archivi di cui all'articolo 61 del decreto del Presidente della Repubblica 28 dicembre 2000 n. 445, nella definizione e gestione delle attività di rispettiva competenza.</a:t>
            </a:r>
            <a:endParaRPr b="0" lang="en-US" sz="1400" spc="-1" strike="noStrike">
              <a:solidFill>
                <a:srgbClr val="000000"/>
              </a:solidFill>
              <a:latin typeface="Calibri"/>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Ruolo interno nell’organizzazione</a:t>
            </a:r>
            <a:endParaRPr b="0" lang="en-US" sz="2700" spc="-1" strike="noStrike">
              <a:solidFill>
                <a:srgbClr val="000000"/>
              </a:solidFill>
              <a:latin typeface="Calibri"/>
            </a:endParaRPr>
          </a:p>
        </p:txBody>
      </p:sp>
      <p:sp>
        <p:nvSpPr>
          <p:cNvPr id="204" name="Titolo 1"/>
          <p:cNvSpPr/>
          <p:nvPr/>
        </p:nvSpPr>
        <p:spPr>
          <a:xfrm>
            <a:off x="468360" y="0"/>
            <a:ext cx="8229600" cy="119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HI CONSERVA? </a:t>
            </a:r>
            <a:br>
              <a:rPr sz="2800"/>
            </a:br>
            <a:r>
              <a:rPr b="1" lang="en-US" sz="2800" spc="-1" strike="noStrike">
                <a:solidFill>
                  <a:srgbClr val="ffffff"/>
                </a:solidFill>
                <a:latin typeface="Calibri"/>
              </a:rPr>
              <a:t>Strutture multidisciplinari e nuovo art. 44 C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360"/>
            <a:ext cx="822960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oli archivistici</a:t>
            </a:r>
            <a:endParaRPr b="0" lang="en-US" sz="3600" spc="-1" strike="noStrike">
              <a:solidFill>
                <a:srgbClr val="000000"/>
              </a:solidFill>
              <a:latin typeface="Calibri"/>
            </a:endParaRPr>
          </a:p>
        </p:txBody>
      </p:sp>
      <p:sp>
        <p:nvSpPr>
          <p:cNvPr id="206" name=""/>
          <p:cNvSpPr txBox="1"/>
          <p:nvPr/>
        </p:nvSpPr>
        <p:spPr>
          <a:xfrm>
            <a:off x="826560" y="1484280"/>
            <a:ext cx="7859880" cy="4641840"/>
          </a:xfrm>
          <a:prstGeom prst="rect">
            <a:avLst/>
          </a:prstGeom>
          <a:noFill/>
          <a:ln w="0">
            <a:noFill/>
          </a:ln>
        </p:spPr>
        <p:txBody>
          <a:bodyPr anchor="t">
            <a:normAutofit fontScale="98000"/>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a responsabilità della conservazione </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nei confronti del soggetto produttore:</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OUTSOURCER  PRIVATO - responsabilità contrattuale</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OGGETTI PUBBLICI - adeguamenti normativi:</a:t>
            </a:r>
            <a:endParaRPr b="0" lang="en-US" sz="24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1600" spc="-1" strike="noStrike">
                <a:solidFill>
                  <a:srgbClr val="000000"/>
                </a:solidFill>
                <a:latin typeface="Calibri"/>
              </a:rPr>
              <a:t>art. 1 D.Lgs.42/2004 -  </a:t>
            </a:r>
            <a:r>
              <a:rPr b="0" i="1" lang="it-IT" sz="1600" spc="-1" strike="noStrike">
                <a:solidFill>
                  <a:srgbClr val="000000"/>
                </a:solidFill>
                <a:latin typeface="Calibri"/>
              </a:rPr>
              <a:t>In attuazione art. 9 Cost. La Repubblica tutela e valorizza il patrimonio culturale in coerenza con le attribuzioni dell’art. 117 Cost e secondo le disposizioni del presente codice…</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r>
              <a:rPr b="0" lang="it-IT" sz="1600" spc="-1" strike="noStrike">
                <a:solidFill>
                  <a:srgbClr val="000000"/>
                </a:solidFill>
                <a:latin typeface="Calibri"/>
              </a:rPr>
              <a:t>SAN accordo paritetico per promozione ed attuazione Sistema Archivistico Nazionale  - Art. 1 … Lo Stato, le Regioni e le Province autonome di Trento e Bolzano collaborano per promuovere e sostenere  la conservazione del patrimonio archivistico nazionale … ; sulla base di specifici accordi o intese,.. possono essere individuate ulteriori forme di coordinamento in materia di tutela del patrimonio archivistico… - Art. 3 … Il Ministero, le Regioni, le Province e i Comuni promuovono la costituzione di Poli archivistici di ambito regionale, territoriale o tematico…</a:t>
            </a:r>
            <a:endParaRPr b="0" lang="en-US" sz="16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lum contrast="-12000"/>
          </a:blip>
          <a:stretch/>
        </p:blipFill>
        <p:spPr>
          <a:xfrm>
            <a:off x="4932360" y="2133720"/>
            <a:ext cx="3448080" cy="3886200"/>
          </a:xfrm>
          <a:prstGeom prst="rect">
            <a:avLst/>
          </a:prstGeom>
          <a:ln w="0">
            <a:noFill/>
          </a:ln>
        </p:spPr>
      </p:pic>
      <p:sp>
        <p:nvSpPr>
          <p:cNvPr id="181" name="PlaceHolder 1"/>
          <p:cNvSpPr>
            <a:spLocks noGrp="1"/>
          </p:cNvSpPr>
          <p:nvPr>
            <p:ph type="title"/>
          </p:nvPr>
        </p:nvSpPr>
        <p:spPr>
          <a:xfrm>
            <a:off x="468360" y="-360"/>
            <a:ext cx="822960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Gli archivi delle Regioni</a:t>
            </a:r>
            <a:endParaRPr b="0" lang="en-US" sz="4000" spc="-1" strike="noStrike">
              <a:solidFill>
                <a:srgbClr val="000000"/>
              </a:solidFill>
              <a:latin typeface="Calibri"/>
            </a:endParaRPr>
          </a:p>
        </p:txBody>
      </p:sp>
      <p:sp>
        <p:nvSpPr>
          <p:cNvPr id="182" name=""/>
          <p:cNvSpPr txBox="1"/>
          <p:nvPr/>
        </p:nvSpPr>
        <p:spPr>
          <a:xfrm>
            <a:off x="826560" y="1484280"/>
            <a:ext cx="7859880" cy="464184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zione e valorizzazion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zazione intern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viluppo e sostegno del territori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igenza di confronto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l gruppo di lavoro nazionale </a:t>
            </a:r>
            <a:br>
              <a:rPr sz="3600"/>
            </a:br>
            <a:r>
              <a:rPr b="1" lang="en-US" sz="3600" spc="-1" strike="noStrike">
                <a:solidFill>
                  <a:srgbClr val="ffffff"/>
                </a:solidFill>
                <a:latin typeface="Calibri"/>
              </a:rPr>
              <a:t>Archivi delle Regioni</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184" name=""/>
          <p:cNvSpPr txBox="1"/>
          <p:nvPr/>
        </p:nvSpPr>
        <p:spPr>
          <a:xfrm>
            <a:off x="826560" y="1484280"/>
            <a:ext cx="7859880" cy="464184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Gruppo di lavoro Nazionale Archivi delle Regioni</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 confronta già dal 2002:</a:t>
            </a:r>
            <a:endParaRPr b="0" lang="en-US" sz="2400" spc="-1" strike="noStrike">
              <a:solidFill>
                <a:srgbClr val="000000"/>
              </a:solidFill>
              <a:latin typeface="Calibri"/>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rchivi delle Giunte Regionali e dei Consigli Regionali, </a:t>
            </a:r>
            <a:endParaRPr b="0" lang="en-US" sz="1800" spc="-1" strike="noStrike">
              <a:solidFill>
                <a:srgbClr val="000000"/>
              </a:solidFill>
              <a:latin typeface="Calibri"/>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mministrazione archivistica centrale, la Direzione Generale </a:t>
            </a:r>
            <a:endParaRPr b="0" lang="en-US" sz="1800" spc="-1" strike="noStrike">
              <a:solidFill>
                <a:srgbClr val="000000"/>
              </a:solidFill>
              <a:latin typeface="Calibri"/>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mministrazione archivistica territoriale, le Soprintendenze</a:t>
            </a:r>
            <a:endParaRPr b="0" lang="en-US" sz="1800" spc="-1" strike="noStrike">
              <a:solidFill>
                <a:srgbClr val="000000"/>
              </a:solidFill>
              <a:latin typeface="Calibri"/>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ssociazione Nazionale Archivistica Italiana. </a:t>
            </a:r>
            <a:endParaRPr b="0" lang="en-US" sz="18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Organizzazione archivi correnti:</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Titolario di classificazione</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Piano di conservazione</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360"/>
            <a:ext cx="822960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l gruppo di lavoro nazionale </a:t>
            </a:r>
            <a:br>
              <a:rPr sz="3600"/>
            </a:br>
            <a:r>
              <a:rPr b="1" lang="en-US" sz="3600" spc="-1" strike="noStrike">
                <a:solidFill>
                  <a:srgbClr val="ffffff"/>
                </a:solidFill>
                <a:latin typeface="Calibri"/>
              </a:rPr>
              <a:t>Archivi delle Regioni</a:t>
            </a:r>
            <a:endParaRPr b="0" lang="en-US" sz="3600" spc="-1" strike="noStrike">
              <a:solidFill>
                <a:srgbClr val="000000"/>
              </a:solidFill>
              <a:latin typeface="Calibri"/>
            </a:endParaRPr>
          </a:p>
        </p:txBody>
      </p:sp>
      <p:sp>
        <p:nvSpPr>
          <p:cNvPr id="186" name=""/>
          <p:cNvSpPr txBox="1"/>
          <p:nvPr/>
        </p:nvSpPr>
        <p:spPr>
          <a:xfrm>
            <a:off x="826560" y="1484280"/>
            <a:ext cx="7859880" cy="464184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Due documenti:</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a:t>
            </a:r>
            <a:r>
              <a:rPr b="0" lang="it-IT" sz="2700" spc="-1" strike="noStrike">
                <a:solidFill>
                  <a:srgbClr val="000000"/>
                </a:solidFill>
                <a:latin typeface="Calibri"/>
              </a:rPr>
              <a:t>Dematerializzazione e responsabilità”</a:t>
            </a:r>
            <a:endParaRPr b="0" lang="en-US" sz="2700" spc="-1" strike="noStrike">
              <a:solidFill>
                <a:srgbClr val="000000"/>
              </a:solidFill>
              <a:latin typeface="Calibri"/>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sponsabilità e ruoli nella gestione documentale</a:t>
            </a:r>
            <a:endParaRPr b="0" lang="en-US" sz="1800" spc="-1" strike="noStrike">
              <a:solidFill>
                <a:srgbClr val="000000"/>
              </a:solidFill>
              <a:latin typeface="Calibri"/>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cesso di dematerializzazione: indicazioni e criticità</a:t>
            </a:r>
            <a:endParaRPr b="0" lang="en-US" sz="1800" spc="-1" strike="noStrike">
              <a:solidFill>
                <a:srgbClr val="000000"/>
              </a:solidFill>
              <a:latin typeface="Calibri"/>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dimentazione dell’archivio e conservazione</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t>
            </a:r>
            <a:r>
              <a:rPr b="0" lang="it-IT" sz="2400" spc="-1" strike="noStrike">
                <a:solidFill>
                  <a:srgbClr val="000000"/>
                </a:solidFill>
                <a:latin typeface="Calibri"/>
              </a:rPr>
              <a:t>Strumenti: elaborazione di un indice collegato al titolario di classificazione”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360"/>
            <a:ext cx="822960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Dematerializzazione e responsabilità</a:t>
            </a:r>
            <a:endParaRPr b="0" lang="en-US" sz="3600" spc="-1" strike="noStrike">
              <a:solidFill>
                <a:srgbClr val="000000"/>
              </a:solidFill>
              <a:latin typeface="Calibri"/>
            </a:endParaRPr>
          </a:p>
        </p:txBody>
      </p:sp>
      <p:sp>
        <p:nvSpPr>
          <p:cNvPr id="188" name=""/>
          <p:cNvSpPr txBox="1"/>
          <p:nvPr/>
        </p:nvSpPr>
        <p:spPr>
          <a:xfrm>
            <a:off x="826560" y="1484280"/>
            <a:ext cx="7859880" cy="4641840"/>
          </a:xfrm>
          <a:prstGeom prst="rect">
            <a:avLst/>
          </a:prstGeom>
          <a:noFill/>
          <a:ln w="0">
            <a:noFill/>
          </a:ln>
        </p:spPr>
        <p:txBody>
          <a:bodyPr anchor="t">
            <a:norm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ertezza della conservazione, affidata ad un sistema integrato di elementi organizzativi, tecnologici e professionali</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Unicità dell’archivio</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Presidio del processo di conservazione: come si conserva, ma soprattutto chi conserva </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360"/>
            <a:ext cx="822960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HI CONSERVA? </a:t>
            </a:r>
            <a:br>
              <a:rPr sz="3600"/>
            </a:br>
            <a:r>
              <a:rPr b="1" lang="en-US" sz="3600" spc="-1" strike="noStrike">
                <a:solidFill>
                  <a:srgbClr val="ffffff"/>
                </a:solidFill>
                <a:latin typeface="Calibri"/>
              </a:rPr>
              <a:t>Le professionalità nella norma</a:t>
            </a:r>
            <a:endParaRPr b="0" lang="en-US" sz="3600" spc="-1" strike="noStrike">
              <a:solidFill>
                <a:srgbClr val="000000"/>
              </a:solidFill>
              <a:latin typeface="Calibri"/>
            </a:endParaRPr>
          </a:p>
        </p:txBody>
      </p:sp>
      <p:sp>
        <p:nvSpPr>
          <p:cNvPr id="190" name=""/>
          <p:cNvSpPr txBox="1"/>
          <p:nvPr/>
        </p:nvSpPr>
        <p:spPr>
          <a:xfrm>
            <a:off x="826560" y="1484280"/>
            <a:ext cx="7859880" cy="464184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a:t>
            </a:r>
            <a:r>
              <a:rPr b="0" lang="it-IT" sz="1800" spc="-1" strike="noStrike">
                <a:solidFill>
                  <a:srgbClr val="000000"/>
                </a:solidFill>
                <a:latin typeface="Calibri"/>
              </a:rPr>
              <a:t>Deliberazione CNIPA 19 febbraio 2004, n. 11, recante, </a:t>
            </a:r>
            <a:r>
              <a:rPr b="0" i="1" lang="it-IT" sz="1600" spc="-1" strike="noStrike">
                <a:solidFill>
                  <a:srgbClr val="000000"/>
                </a:solidFill>
                <a:latin typeface="Calibri"/>
              </a:rPr>
              <a:t>Regole tecniche per la riproduzione e conservazione di documenti su supporto ottico idoneo a garantire la conformità dei documenti agli originali – Art. 6, c. 1 e 2, del T.U. DPR 445/2000:</a:t>
            </a:r>
            <a:endParaRPr b="0" lang="en-US" sz="16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21087e"/>
                </a:solidFill>
                <a:latin typeface="Calibri"/>
              </a:rPr>
              <a:t>conia l’espressione semantica di</a:t>
            </a:r>
            <a:r>
              <a:rPr b="0" lang="it-IT" sz="2000" spc="-1" strike="noStrike">
                <a:solidFill>
                  <a:srgbClr val="21087e"/>
                </a:solidFill>
                <a:latin typeface="Calibri"/>
              </a:rPr>
              <a:t> </a:t>
            </a:r>
            <a:r>
              <a:rPr b="0" lang="it-IT" sz="1800" spc="-1" strike="noStrike">
                <a:solidFill>
                  <a:srgbClr val="21087e"/>
                </a:solidFill>
                <a:latin typeface="Calibri"/>
              </a:rPr>
              <a:t>responsabile della conservazione;</a:t>
            </a:r>
            <a:endParaRPr b="0" lang="en-US" sz="18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non indica nessun requisito professionale;</a:t>
            </a:r>
            <a:endParaRPr b="0" lang="en-US" sz="18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ne elenca espressamente i compiti.</a:t>
            </a:r>
            <a:endParaRPr b="0" lang="en-US" sz="18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D.Lgs. 7/3/2005, n. 82</a:t>
            </a:r>
            <a:r>
              <a:rPr b="0" i="1" lang="it-IT" sz="1800" spc="-1" strike="noStrike">
                <a:solidFill>
                  <a:srgbClr val="000000"/>
                </a:solidFill>
                <a:latin typeface="Calibri"/>
              </a:rPr>
              <a:t> Codice dell’amministrazione digitale:</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 </a:t>
            </a:r>
            <a:r>
              <a:rPr b="0" lang="it-IT" sz="1800" spc="-1" strike="noStrike">
                <a:solidFill>
                  <a:srgbClr val="000000"/>
                </a:solidFill>
                <a:latin typeface="Calibri"/>
              </a:rPr>
              <a:t>non riprende nell’articolato la definizione di “responsabile della conservazione”;</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richiede al sistema di conservazione dei documenti informatici di garantire la provenienza, “l’integrità, la leggibilità e l’agevole reperibilità dei documenti e delle informazioni identificative, inclusi i dati di registrazione e di classificazione originari”</a:t>
            </a:r>
            <a:r>
              <a:rPr b="0" i="1" lang="it-IT" sz="1800" spc="-1" strike="noStrike">
                <a:solidFill>
                  <a:srgbClr val="000000"/>
                </a:solidFill>
                <a:latin typeface="Calibri"/>
              </a:rPr>
              <a:t>  … </a:t>
            </a:r>
            <a:r>
              <a:rPr b="0" lang="it-IT" sz="1800" spc="-1" strike="noStrike">
                <a:solidFill>
                  <a:srgbClr val="000000"/>
                </a:solidFill>
                <a:latin typeface="Calibri"/>
              </a:rPr>
              <a:t>(art. 44);</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60"/>
            <a:ext cx="822960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HI CONSERVA? </a:t>
            </a:r>
            <a:br>
              <a:rPr sz="3600"/>
            </a:br>
            <a:r>
              <a:rPr b="1" lang="en-US" sz="3600" spc="-1" strike="noStrike">
                <a:solidFill>
                  <a:srgbClr val="ffffff"/>
                </a:solidFill>
                <a:latin typeface="Calibri"/>
              </a:rPr>
              <a:t>Le professionalità nella norma</a:t>
            </a:r>
            <a:endParaRPr b="0" lang="en-US" sz="3600" spc="-1" strike="noStrike">
              <a:solidFill>
                <a:srgbClr val="000000"/>
              </a:solidFill>
              <a:latin typeface="Calibri"/>
            </a:endParaRPr>
          </a:p>
        </p:txBody>
      </p:sp>
      <p:sp>
        <p:nvSpPr>
          <p:cNvPr id="192" name=""/>
          <p:cNvSpPr txBox="1"/>
          <p:nvPr/>
        </p:nvSpPr>
        <p:spPr>
          <a:xfrm>
            <a:off x="826560" y="1484280"/>
            <a:ext cx="7859880" cy="4641840"/>
          </a:xfrm>
          <a:prstGeom prst="rect">
            <a:avLst/>
          </a:prstGeom>
          <a:noFill/>
          <a:ln w="0">
            <a:noFill/>
          </a:ln>
        </p:spPr>
        <p:txBody>
          <a:bodyPr anchor="t">
            <a:normAutofit/>
          </a:bodyPr>
          <a:p>
            <a:pPr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PR n. 445/2000, capo IV “Sistema di gestione informatica dei documenti”,… Tutte le attività “di tenuta del protocollo informatico, della gestione dei flussi documentali e degli archivi” sono di competenza, nell’organizzazione della AOO, di un apposito Servizio, il cui responsabile, secondo il dettato dell’art. 61, deve essere </a:t>
            </a:r>
            <a:r>
              <a:rPr b="0" lang="it-IT" sz="1600" spc="-1" strike="noStrike">
                <a:solidFill>
                  <a:srgbClr val="26326d"/>
                </a:solidFill>
                <a:latin typeface="Calibri"/>
              </a:rPr>
              <a:t>“</a:t>
            </a:r>
            <a:r>
              <a:rPr b="0" i="1" lang="it-IT" sz="1600" spc="-1" strike="noStrike">
                <a:solidFill>
                  <a:srgbClr val="26326d"/>
                </a:solidFill>
                <a:latin typeface="Calibri"/>
              </a:rPr>
              <a:t>in possesso di idonei requisiti professionali o di professionalità tecnico archivistica acquisita a seguito di processi di formazione definiti secondo le procedure prescritte dalla disciplina vigente”.</a:t>
            </a:r>
            <a:r>
              <a:rPr b="0" i="1" lang="it-IT" sz="2000" spc="-1" strike="noStrike">
                <a:solidFill>
                  <a:srgbClr val="26326d"/>
                </a:solidFill>
                <a:latin typeface="Calibri"/>
              </a:rPr>
              <a:t> </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ibri"/>
              </a:rPr>
              <a:t>art. 31 (attualmente vigente) del DPR 1409/1963, secondo il quale il requisito per la direzione delle sezioni separate dell’archivio è il “possesso del diploma conseguito nelle scuole di archivistica, paleografia e diplomatica istituite presso gli archivi di Stato e nelle scuole speciali per archivisti e bibliotecari istituite presso le Università degli studi”, qualora si tratti di…. “a) archivi delle Regioni a statuto speciale e a statuto ordinario;….”.</a:t>
            </a:r>
            <a:r>
              <a:rPr b="0" lang="it-IT" sz="1600" spc="-1" strike="noStrike">
                <a:solidFill>
                  <a:srgbClr val="000000"/>
                </a:solidFill>
                <a:latin typeface="Calibri"/>
              </a:rPr>
              <a:t>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orsi di laurea in Conservazione Beni Culturali, Master in gestione e conservazione documenti digitali; Formazione continua promossa dall’ Associazione Nazionale Archivistica Italiana.</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360"/>
            <a:ext cx="822960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HI CONSERVA? </a:t>
            </a:r>
            <a:br>
              <a:rPr sz="3600"/>
            </a:br>
            <a:r>
              <a:rPr b="1" lang="en-US" sz="2800" spc="-1" strike="noStrike">
                <a:solidFill>
                  <a:srgbClr val="ffffff"/>
                </a:solidFill>
                <a:latin typeface="Calibri"/>
              </a:rPr>
              <a:t>Funzioni ed attività della gestione documentale</a:t>
            </a:r>
            <a:endParaRPr b="0" lang="en-US" sz="2800" spc="-1" strike="noStrike">
              <a:solidFill>
                <a:srgbClr val="000000"/>
              </a:solidFill>
              <a:latin typeface="Calibri"/>
            </a:endParaRPr>
          </a:p>
        </p:txBody>
      </p:sp>
      <p:sp>
        <p:nvSpPr>
          <p:cNvPr id="194" name=""/>
          <p:cNvSpPr txBox="1"/>
          <p:nvPr/>
        </p:nvSpPr>
        <p:spPr>
          <a:xfrm>
            <a:off x="826560" y="1484280"/>
            <a:ext cx="7859880" cy="464184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PROGETTAZIONE, COORDINAMENTO DEL  SISTEMA DOCUMENTALE</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NDIVIDUAZIONE E ARTICOLAZIONE A.O.O. E DEI RUOLI DELLA GESTIONE DOCUMENTALE </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NDIVIDUAZIONE DEI PROFILI DI ACCESSO AL SISTEMA INFORMATICO DI GESTIONE DOCUMENTALE </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FORMAZIONE DEL DOCUMENTO </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GETTAZIONE DEI FLUSSI DOCUMENTALI E STANDARDIZZAZIONE PROCEDURE </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EDISPOSIZIONE REGOLAMENTI </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EDISPOSIZIONE DEL PIANO DI CLASSIFICAZIONE</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EDISPOSIZIONE DEL PIANO DI FASCICOLAZIONE E CONSERVAZIONE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AMMINISTRAZIONE DEL SISTEMA DI PROTOCOLLO INFORMATICO</a:t>
            </a:r>
            <a:r>
              <a:rPr b="0" lang="it-IT" sz="1800" spc="-1" strike="noStrike">
                <a:solidFill>
                  <a:srgbClr val="000000"/>
                </a:solidFill>
                <a:latin typeface="Calibri"/>
              </a:rPr>
              <a:t> </a:t>
            </a:r>
            <a:endParaRPr b="0" lang="en-US" sz="18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BILITAZIONI UTENTI</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REGISTRO DI EMERGENZA</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TUTELA DELLA SICUREZZA DEL SISTEMA DI PROTOCOLL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360"/>
            <a:ext cx="822960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HI CONSERVA? </a:t>
            </a:r>
            <a:br>
              <a:rPr sz="2800"/>
            </a:br>
            <a:r>
              <a:rPr b="1" lang="en-US" sz="2800" spc="-1" strike="noStrike">
                <a:solidFill>
                  <a:srgbClr val="ffffff"/>
                </a:solidFill>
                <a:latin typeface="Calibri"/>
              </a:rPr>
              <a:t>Funzioni ed attività della gestione documentale</a:t>
            </a:r>
            <a:endParaRPr b="0" lang="en-US" sz="2800" spc="-1" strike="noStrike">
              <a:solidFill>
                <a:srgbClr val="000000"/>
              </a:solidFill>
              <a:latin typeface="Calibri"/>
            </a:endParaRPr>
          </a:p>
        </p:txBody>
      </p:sp>
      <p:sp>
        <p:nvSpPr>
          <p:cNvPr id="196" name=""/>
          <p:cNvSpPr txBox="1"/>
          <p:nvPr/>
        </p:nvSpPr>
        <p:spPr>
          <a:xfrm>
            <a:off x="826560" y="1484280"/>
            <a:ext cx="7859880" cy="464184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PROGETTAZIONE, PRESIDIO E COORDINAMENTO DEL SISTEMA DI CONSERVAZIONE DEGLI ARCHIVI DIGITALI</a:t>
            </a:r>
            <a:r>
              <a:rPr b="0" lang="it-IT" sz="2000" spc="-1" strike="noStrike">
                <a:solidFill>
                  <a:srgbClr val="000000"/>
                </a:solidFill>
                <a:latin typeface="Calibri"/>
              </a:rPr>
              <a:t>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EFINIZIONE DEI REQUISITI DEL SISTEMA</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OLLABORAZIONE ALLE PROCEDURE DI ACQUISIZIONE DEI SISTEMI HW E SW</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RIPRODUZIONE DEI DOCUMENTI</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GESTIONE E CONTROLLO DEL SISTEMA</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GESTIONE DELLA CORRISPONDENZA PROTOCOLLAZIONE E GESTIONE DELL’ARCHIVIO CORRENTE</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PERTURA CORRISPONDENZA CARTACEA</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ESIDIO DEI DIVERSI CANALI DI COMUNICAZIONE ELETTRONICA FAX, PEC, PEI</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VALUTAZIONE DELLA CORRISPONDENZA</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REGISTRAZIONE, SEGNATURA, ACQUISIZIONE OTTICA</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LASSIFICAZIONE FASCICOLAZIONE REPERTORIAZIONE</a:t>
            </a: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4T10:08:06Z</dcterms:created>
  <dc:creator>Elisabetta Scarpa</dc:creator>
  <dc:description/>
  <dc:language>en-US</dc:language>
  <cp:lastModifiedBy>elisabetta-scarpa</cp:lastModifiedBy>
  <dcterms:modified xsi:type="dcterms:W3CDTF">2011-04-10T20:47:27Z</dcterms:modified>
  <cp:revision>39</cp:revision>
  <dc:subject/>
  <dc:title>PARER - Gruppo di lavoro Archivi delle Region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A78713864A00704CB64864F8B518FC12</vt:lpwstr>
  </property>
</Properties>
</file>